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CCE-BEF1-44DA-8068-B09E7B0A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691-6383-4F4E-BA0D-50F75D7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323-2C3B-44AD-80FB-FCA3B977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1E5-CC8A-4BF3-A7FF-90E2816A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A8E7-6DAE-491E-A879-E79F451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C43E-CF2F-415A-AED3-FFE4880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F78D-6124-4753-ACDD-C905A61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F44C-D15F-44E2-8B55-35D069BD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183-1C80-4E0A-8FA4-6365DD4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45A-0C11-404A-88E9-36E65D3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8C45-9A92-40B5-A849-9F9789A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0B1-C62D-4109-80EA-F3DE8FAD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AC3-B1B7-42BF-BA44-A552C66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3932-1ADC-452B-9FC1-E2EB96E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2896-7B4E-47B8-90B8-2820F22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48E-D219-4F60-8AA1-E7F3617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6E87-2624-4A0D-AF4F-6E37C3F4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282-3DFC-4C86-915D-B9C08C4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4C8-BC50-4CFE-85E4-BCFCBA4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7ED-CB0C-4FE1-A221-B2F1C7B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A68-9E2E-412D-B217-E09A285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85B-3B2C-4504-AF4E-FAC7DA6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6DF-EE68-4157-BFC1-2D0DCF2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37B-9881-41F1-836F-949D9C76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0AC-396F-478C-8471-1EE64C166E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AAC5-7BD9-4D85-A66F-344C36B99D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Derecho Penal de la Empresa</a:t>
            </a:r>
            <a:br>
              <a:rPr sz="4800"/>
            </a:b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Infracciones de los administrador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3309840"/>
            <a:ext cx="8001000" cy="13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duardo Morales Ro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duardo López Dí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directores de una sociedad cuentan con información excepcional, ya que de ellos dependen determinadas decisiones de una empr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locación de a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mentos de cap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ersione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conflictos de interés es la base de la incriminación, respecto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ger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liquidad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intermediarios de val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auditores e inspectores de cuen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¿Qué es la información privilegiada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chos relevantes y Hechos reservados (Arts.9 y 10 Ley Nº 18.04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 entiende por tal  cualquier información referida 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uno o más emisores de valore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sus negocios o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uno o varios valores emitidos por ell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divulgada al mercad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y cuyo conocimiento, por su naturaleza, sea capaz e influir  en la cotización de los valores emitidos, como asimismo, la información reservada a la que se refiere el Art. 10 de  la Le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rt.10: Hechos o antecedentes que se refieran a negociaciones aun pendientes que al conocerse puedan perjudicar el interés soci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bligación de reserva se encuentra en el Título XXI y es extensiv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ienes estén desempeñando ciertos cargos 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ienes hubieren dejado tales carg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lasificac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ceso presumido (Art.166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ceso general (Art.165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s sanciones son comu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Art.60 Ley Nº 18.045: presidio menor en cualquiera de sus gr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beneficio obtenido debe entregarse a beneficio fiscal, cuando no hubiere otro perjud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d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socio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dministradores y, en general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quier persona que en razón de su cargo o posición en las sociedades clasificador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s rectores: reve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enga acceso a información reservada de los emisores clasificados 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vele el contenido de dicha información a terce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e requiere aprovech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odas las personas a quienes se presume que tienen acceso a la información privilegiada (Art.16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ren información privilegi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az subjetiva:deliber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rcunstancias de la ac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 efectuar transacciones u operaciones de valores de oferta pública, de cualquier naturaleza en el mercado de valores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negociaciones privadas para sí o para terceros, directa o indirectam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g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 ac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que valiéndose de información privilegiad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jecute un acto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rcunstancias de la ac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sí o por intermedio de otras person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emento subje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 objeto de obtener un beneficio pecuniario 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itar una pérdida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anto para sí como para tercer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diante cualquier tipo de operaciones o transacciones con valores de oferta públic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h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qu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vele información privilegiada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emento subje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 objeto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tener un beneficio pecuniario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vitar una pérdida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tanto para sí como para tercer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n operaciones o transacciones con valores de oferta públic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fracciones del Art.103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Los integrantes de la Comisión Clasificadora, como también los funcionarios públicos deben guardar reserva sobre los documentos y antecedentes de los emisores e instrumentos sujetos a clasificación, siempre que éstos no tengan carácter públic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La infracción a esta obligación será sancionada con la pena de reclusión menor en sus grados mínimo a med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fracciones del Art.103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A las mismas personas indicadas precedente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les está prohibido valerse, directa o indirectament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en beneficio propio o de tercero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de la información a que tengan acceso en el desempeño de esta función, durante el lapso que dure la reserva establecida en el inciso primero del artículo 109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Sanción: Reclusión menor en su grado medio e inhabilitación para cargos y oficios públicos por el tiempo de la conde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Pen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residio menor en su grado medio a presidio mayor en su grado mínimo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Sujeto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director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gerent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apoderad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liquidador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operadores de mesa de dinero, 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trabajadores de una Administradora de Fondos de Pensiones que en razón de su cargo o posición, y valiéndose de información privilegiada de aquélla que trata el Título XXI de la ley Nº18.0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inciones prev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normas del Código Penal eran suficientes para sancionar a los mandatarios o a quienes se asemejan a tales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Gerentes y representantes leg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iquidadores en sociedades mercanti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dministración fraudulenta (Arts.469 y 470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propiación indebida (Art.470, Nº1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factor a considerar es el de la confianza deposi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xiste siempre en este tipo de situaciones una entrega de confianza y una consiguiente desprotección de los administr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bien jurídico en parte es la propie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Conductas sancionad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Ejecuten un acto por sí o por intermedio de otras personas, con el objeto de obtener un beneficio pecuniario para sí o para otros, mediante cualquier operación o transacción de valores de oferta pública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Divulguen la información privilegiada, relativa a las decisiones de inversión</a:t>
            </a: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de cualquiera de los Fondos a personas distintas de las encargadas de efectuar las operaciones de adquisición o enajenación de valores de oferta pública por cuenta o en representación de cualquiera de los Fondos.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: Negociación incompati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Sujeto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los trabajadores de una Administradora de Fondos de Pensiones que, estando encargados de la administración de la cartera y, en especial, de las decisiones de adquisición, mantención o enajenación de instrumentos para cualquiera de los Fondos y la Administradora respectiva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Conducta sancionad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ejerzan por sí o a través de otras personas, simultáneamente la función de administración de otra cartera de inversiones, y quienes teniendo igual condición infrinjan cualquiera de las prohibiciones consignadas en las letras a), c), d) y h) del artículo 154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generales en materia de ban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rtículo 157. LGB:  sanciona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s directores y gerentes de una institución fiscalizada por la Superintendencia 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 sabiend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hubieren hecho una declaración falsa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a propiedad y conformación del capital de la empresa,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probado o presentado un balance adulterado o falso,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isimulado su situació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especialmente las sumas anticipadas a directores o emplead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generales en materia de ban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an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clusión menor en sus grados medio a máximo 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ulta de 1.000 a 10.000 U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n caso de quiebra de la institución, las personas que hubieren ejecutado tales actos serán consideradas como responsables de quiebra fraudulen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l Art.158, sanciona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ccionistas fundadores, directores, gerentes, funcionarios, empleados o auditores externos de una institución sometida a la fiscalización de la Superintendenci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ue alteren o desfiguren datos o antecedentes e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os balanc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ibr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stad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uent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rrespondencia u otro documento cualquiera o que oculten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 que oculten o destruyan estos elementos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n el fi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ificultar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esviar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ludir la fiscalización que corresponde ejercitar a la Superintendencia de acuerdo con la ley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ncurrirán en la pena de presidio menor en sus grados medio a máxi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a misma pena se les aplicará si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n el mismo fi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porciona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uscriben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esenta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os elementos de juicio alterados o desfigur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a disposición no excluye la aplicación de las reglas previstas en los artículos 14 a 17 del Código Penal.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inciones prev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ciedades de person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administradores son mandatarios de los soc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Penal es suficiente para sancion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ciedades anónim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el Código de Comercio, los directores eran mandatarios de los accionis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a Ley Nº 18.046, los directores son integrantes de un órgano de administración social y no actúan por cuenta de los accion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 deben velar por todos los accionis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 no deben actuar a favor de quienes los eligiero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spon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vil: Indemnización de perjuic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ract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xtracontractual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peraciones entre partes relacionadas (Art.44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ividendos provisorio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ministrativa: Aplicación de mul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specto de la generalidad de las empre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specto de empresas especialmente regul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ociedades Anónimas Abiertas (Art.42, inc. final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ociedades Administradoras de Fondos de Pens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Bancos e Instituciones Financier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spon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nal: Sanciones corpor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rientadas a responder por la socie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rientadas a responder por actos propios que perjudica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a socieda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os accionist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os terceros interesados, 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mer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Responsabilidad penal de los directores de sociedades anóni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administración de una sociedad anónima corresponde a un Directorio: Órgano colegi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director responde por los votos favorables que formule (Art.133, inc.2º). Para liberarse de responsabilidad debe dejar constancia en el acta respec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responsabilidad es siempre personal y se analiza a la luz del voto o de la decisión adop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s eventua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rt.44, tratándose de operaciones entre partes relacion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rt.46, obligación de información fidedig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Obligaciones generales</a:t>
            </a:r>
            <a:br>
              <a:rPr sz="4000"/>
            </a:b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e los director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guardar reserva de información de la socieda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informar con veracidad la situación de la sociedad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 los accionis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 los terceros: acreedores, tomadores de bono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l merc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velar por todos los accionist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no reportar provecho de la socieda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ribución de dividen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directores responden civilmente por los dividendos provisorios que acuerden distribuir (Art.79, inc.2º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enalmente, se aplica el Art.232, inc.2º Ley Nº 18.175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rán castigados con reclusión o relegación menores en su grado mínimo a medio si se han repartido dividendos a los socios, a propuesta del Directorio, a sabiendas que no correspondían a utilidades efectiv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pena aumenta en un grado si los repartos han ocasionado la quieb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as sanciones no se aplican a todas las sociedades, sino que solament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s sociedades anónimas, q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Hagan oferta pública de sus ac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ncuentran sujetas a la Ley Nº 18.045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metidas a las normas de la S.V.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se aplican a las sociedades inscritas en el Registro de Val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5:21:36Z</dcterms:created>
  <dc:creator>Eduardo Morales Robles</dc:creator>
  <dc:description/>
  <dc:language>en-US</dc:language>
  <cp:lastModifiedBy>Eduardo Morales</cp:lastModifiedBy>
  <dcterms:modified xsi:type="dcterms:W3CDTF">2006-11-08T18:54:25Z</dcterms:modified>
  <cp:revision>33</cp:revision>
  <dc:subject/>
  <dc:title>Derecho Penal de la Empresa Infracciones de los administradores</dc:title>
</cp:coreProperties>
</file>