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C89-4A9C-4F29-B3C2-06162609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3FA-7F22-43D0-929A-2E1C30C3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2FD-95BB-43B0-8A6E-9206FCDB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430-EFFB-4A86-BA24-35FCF1C8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32E-F86A-477E-9454-936A2DD7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867B-4B8D-441F-B83C-D609FDD6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AD6A-478A-44EC-839D-FAEDB4A8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32C2-3E6F-491E-97FA-34E45CDD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4AB8-449F-43FD-AA17-F3955CB3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8A92-1C3B-4AD1-97EC-671DCD46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38F1-5BD9-4A1F-AB83-83B5E86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5E4-6019-427D-940C-2F620894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0E96-071B-4CD5-8BEB-0BDD7A22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336D-BEA0-4FEE-9515-2F397DC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1C47-C764-49DF-A7C3-CE9D20DC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9807-B47F-4A82-8C14-814F7C11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EDAC-9192-4E0F-AF4A-19123E2D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44A-5326-4790-BC36-A6134EEC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5A0-761F-4A5A-BD1A-63B250D2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B0F-972A-45EF-A6A6-F0EC0D14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132-8232-483D-956A-4A90F4FF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F96-508D-4AF6-8120-F72331A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880-CB33-41B4-85AC-9203C503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027-5EC3-474E-9234-A5E2FF5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1A33-F27C-4153-B451-986BC01F432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DDFF-CDAF-42AA-AF4E-86B063F2C71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Resultados encuesta</a:t>
            </a:r>
            <a:br>
              <a:rPr sz="4400"/>
            </a:b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CURSO PROFESIÓN JURÍDICA (Primer Semestre 2007)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32000" y="2483640"/>
            <a:ext cx="65736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Trabajo de Empre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638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del Trabajo y Seguridad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1290600"/>
            <a:ext cx="754380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punitivo comparado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pena                                                 1 Seguridad ciudadana en aspectos penales               1 Fund. Moral del poder punitivo del 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Criminolog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Derecho Pen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it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a la autodeterminación sexual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742840" y="685440"/>
            <a:ext cx="3600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Pe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19200"/>
            <a:ext cx="799164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pt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Internac.de los derechos human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ción de controversias internaciona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tación internacion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acione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bitraje comercial internacional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5400" y="888840"/>
            <a:ext cx="4342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295280"/>
            <a:ext cx="8093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señanz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línica del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r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de la familia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laboral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penal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de negociación y media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7760" y="4572000"/>
            <a:ext cx="542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e5ffff"/>
                </a:solidFill>
                <a:uFillTx/>
                <a:latin typeface="Tahoma"/>
              </a:rPr>
              <a:t>                                                         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280" y="2924280"/>
            <a:ext cx="6697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649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formática Jurídica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2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981000"/>
            <a:ext cx="770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tras asignaturas optativas o electivas que no sepa su ubicación en las áreas anteri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1337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medi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el área respectiv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.2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contenido de asignatura mism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alidad del profesor que la impartí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etodología anunciada para su desarroll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1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tilidad profesional de la asignatur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mpatib. horaria con asignaturas obligat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-4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ecesidad completar número mayor créditos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de la bibliografía ofrecid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8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acilidad esperada del curso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7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572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2.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Su elección de asignaturas `optativas’ y `electivas’  pudo obedecer a uno o varios de los siguientes criterios. Califíquelos de acuerdo a una escala de 0 a 5 (0 para el criterio que no influyó en absoluto y 5 para el más influyente):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795600"/>
            <a:ext cx="8352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3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Además de las asignaturas `optativas’ y `electivas’ anteriores, el plan de estudios contempla un cierto número de créditos en `cursos libre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ahoma"/>
              </a:rPr>
              <a:t>a) ¿Cuáles “cursos libres” ha seguido usted?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Yoga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porte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iom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ailes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ursos de derecho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Otras disciplinas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9640" y="692280"/>
          <a:ext cx="80773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69228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050920" y="23616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3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os Lib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2440" indent="0">
              <a:buNone/>
              <a:tabLst>
                <a:tab algn="l" pos="0"/>
                <a:tab algn="l" pos="125748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teré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, 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gust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, entretenid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9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Horari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Docentes y temas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Relajar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e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Actividad fuera de lo jurídico          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Vinculación a otras facultades       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645000"/>
            <a:ext cx="806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Excelente a buenos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conforme, buena experiencia..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Interesante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3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irven para relajarse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Conocer otra Facultad (Universidad)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básico no cumplió expectativa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 (idio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" y="37944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b) ¿Por qué los eligió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280" y="3500280"/>
            <a:ext cx="82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c) ¿Cuál es su opinión de los cursos libres por usted seguidos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69192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30000"/>
              </a:lnSpc>
              <a:buNone/>
              <a:tabLst>
                <a:tab algn="l" pos="0"/>
                <a:tab algn="l" pos="895320"/>
                <a:tab algn="l" pos="3676680"/>
                <a:tab algn="l" pos="413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4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El plan de estudio contempla  dos cursos de Clínica  Jurídica obligatorios.</a:t>
            </a:r>
            <a:r>
              <a:rPr b="0" i="1" lang="es-MX" sz="2800" spc="-1" strike="noStrike">
                <a:solidFill>
                  <a:srgbClr val="e5ffff"/>
                </a:solidFill>
                <a:latin typeface="Tahoma"/>
              </a:rPr>
              <a:t>                           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br>
              <a:rPr sz="2000"/>
            </a:b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Usted ha cursa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do: </a:t>
            </a:r>
            <a:br>
              <a:rPr sz="24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0          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8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 Tres: 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 es su opinión de los cursos de Clínica jurídica por usted seguidos?</a:t>
            </a:r>
            <a:br>
              <a:rPr sz="2400"/>
            </a:br>
            <a:br>
              <a:rPr sz="16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a. Valoración posi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1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bueno, importante, interesante,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excelente, útil, necesario)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12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b. Valoración nega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corto, mal profesor, básico)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835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El plan de estudios de la Escuela de Derecho distingue diversas áreas de conocimiento. En cada una de estas áreas se establecen asignaturas que pueden ser `obligatorias’, `optativas’ y `electivas’. Indique en cada área, cuáles son las asignaturas `optativas’  y `electivas’  que usted ha cursado (incluyendo las que está cursando este semestre)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Optativas  49                 4,5 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Electivas 124               11,3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Total     173               15,7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508320"/>
            <a:ext cx="8424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ccff"/>
                </a:solidFill>
                <a:latin typeface="Tahoma"/>
              </a:rPr>
              <a:t>5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El plan de estudio contempla la realización de dos cursos Talleres de Memoria. Usted ha realizado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25000"/>
              </a:lnSpc>
              <a:buClr>
                <a:srgbClr val="e5ffff"/>
              </a:buClr>
              <a:buFont typeface="Tahoma"/>
              <a:buChar char="-"/>
              <a:tabLst>
                <a:tab algn="l" pos="8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 -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6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-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¿Cuál es su opinión de los talleres de memoria por usted realizados?  No opina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Posi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4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 Nega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bueno,aprendí, buen profesor)        (dispares, expositivas, mal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6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ursos de la carrera (de cualquier tipo) por usted seguidos le han parecido más importantes para su: (No indique más de dos por cada letra)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CL" sz="1800" spc="-1" strike="noStrike">
                <a:solidFill>
                  <a:srgbClr val="e5ffff"/>
                </a:solidFill>
                <a:latin typeface="Tahoma"/>
              </a:rPr>
              <a:t>a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profesional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ivi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ocesal P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sucesori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ab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ínica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                                      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. int. de los Dos.Humamnos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        Lógica de las normas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b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Macroeconomí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. Moral, Ciencia política, Género y Derecho, Hist.Inst.Siglo XX, Civil,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Procesal, Comercial, Penal III (cada uno: 1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Otros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685800"/>
            <a:ext cx="71658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c).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esarrollo  de sus va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eoría social, Historia social,D. De Familia, D. Procesal penal,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Clínica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jurídica, Derecho en la biblia, Intr.a la filosofía de la ciencia,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ilosofía Mor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al,sal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). Interés o preferencia personal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Introduc. al Derecho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Económico, D. Eléctrico, D. Civil, D. Comercial Internac., D. Tributario, D. Int. De los Dos. Humanos, Responsabilidad del Estado, D.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en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, Regulación de los servicios públicos, Litigación ambiental, Introd. al pensamiento de Hegel, Hacia una Constitución por la igualdad, Relaciones internacionales, Filosofía mo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7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7239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).</a:t>
            </a:r>
            <a:r>
              <a:rPr b="1" i="1" lang="es-MX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Destrezas y habilidades para el ejercicio de la abogacía</a:t>
            </a:r>
            <a:br>
              <a:rPr sz="1800"/>
            </a:br>
            <a:br>
              <a:rPr sz="1600"/>
            </a:b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ormación juríd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strategia judici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) Destrezas y habilidades profesionales en general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 (ver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 pregunta 13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ivi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itigación ambienta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osofía M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Hiist.Inst. siglo XX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epública y comun. en crisis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7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ontenidos o materias que no están en el plan de estudios considera usted indispensables incorporar para su adecuada formación como abogado?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erecho práctic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Salida a terren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Filosofí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. comparad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Idioma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aller de examen de grado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Economía crític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Sociologí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Oralidad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Organización empresarial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0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8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ontenidos o materias  que hoy están en el plan de estudios deberían profundizarse para su adecuada formación  profesional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?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Expresión oral y escrit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eo. Gen. del D. Y T. de la Justic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Clínicas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aller de Memor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Otros procedimientos (Adm.lanoral etc)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Laboral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Famil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 aspectos prácticos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Aspectos de litigación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Manejo de fuentes de información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 de la empresa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96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2440" indent="0" algn="just">
              <a:lnSpc>
                <a:spcPct val="120000"/>
              </a:lnSpc>
              <a:buNone/>
              <a:tabLst>
                <a:tab algn="l" pos="0"/>
                <a:tab algn="l" pos="304812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9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es han sido las metodologías de enseñanza más utilizada en los cursos que ha seguido? Califíquelas con escala de 0 a 5 (0 para la no utilizada y 5 para la más utilizada)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05120"/>
          <a:ext cx="8305920" cy="4686120"/>
        </p:xfrm>
        <a:graphic>
          <a:graphicData uri="http://schemas.openxmlformats.org/drawingml/2006/table">
            <a:tbl>
              <a:tblPr/>
              <a:tblGrid>
                <a:gridCol w="5029200"/>
                <a:gridCol w="1582920"/>
                <a:gridCol w="169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e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onferencia del profes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(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étodo de cas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bate con o entr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o de multime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4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o investig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osiciones d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ctura de bibliografía en bibliote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prá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uestas o entrevis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ul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 algn="just">
              <a:buNone/>
              <a:tabLst>
                <a:tab algn="l" pos="0"/>
                <a:tab algn="l" pos="142884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0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ursos han tenido, a su juicio, la metodología de enseñanza más útil para su aprendizaje?  Indíquelos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CURSO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 METODOLOGI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1960560"/>
            <a:ext cx="3995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asos 5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ases participativas discusión en  clases 3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nsayos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xposición alumno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lectu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557360"/>
            <a:ext cx="43192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58280"/>
            <a:ext cx="8497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1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¿Cuáles formas o métodos de evaluación han sido los más utilizados en los cursos que ha seguido? Califíquelos con escala de 0 a 5 (0 para los no utilizados hasta 5 para los más utilizad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medio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oda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. Interrogación 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. Preg. requiere respuesta por escrit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1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. Preg.  requiere desarrollo escrit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              5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. Pruebas objetiva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. Solución de caso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.  Aplic. de conocimientos a la práctica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. Trabajos ensayo o investig.  Bibliog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1         2-3 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. Trabajos empíricos o en terren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0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. Evaluac. desempeño en simulaciones 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023840"/>
            <a:ext cx="8424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2.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¿Qué métodos de evaluación le han parecido más adecuados para su aprendizaj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ORMA DE 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ución de Cas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sayos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rrog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ueb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 objetiva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imul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99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1:  TOTAL ASIGNATURAS ELECTIVAS Y OPTATIVA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ADAS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R LOS ALUMN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TOTAL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65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- 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5120" y="2232000"/>
          <a:ext cx="5962680" cy="462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232000"/>
                    <a:ext cx="596268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3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Además de aprender determinados contenidos o materias propios de cada curso, se considera que durante la carrera el alumno debe adquirir determinadas habilidades o destrezas necesarias para ejercer la profesión de abogado. Con la calificación siguiente evalúe usted en que medida las ha desarrollado.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 Muy bien.      4 Bien.    3 Regular.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2. Mal.  1. Muy mal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72720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  Moda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1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 de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(legislación, jurisprudencia, doctrina, etc.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 las bibliotecas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.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en Internet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  Habilidad para  manejar códigos, leyes, fallos u ot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uentes a fin de aplicarlos a un caso concret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-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4.   Habilidad para interpretar los  distintos sentidos de un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isposición legal utilizando las reglas de hermenéutica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Habilidad para identificar hechos relevantes en su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onsecuencias jurídica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32148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Destreza para  formular (redactar)  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les como reglamentos, contratos, etc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4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Habilidad para razonar  y  argumentar  sobre u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18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ema jurídic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Capacidad para  redactar  una resolu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sentencia 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Capacidad para analizar críticamente una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rgumentación legal  o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Habilidad para el manejo de los principios generale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l  derecho y criterios  de equidad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1. Destreza para manejar la prueba de los hech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nterrogar testigos, formular posiciones, y dirig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tros medios de prueba)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2. Aptitud para evaluar  hechos o normas desde  l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alores o fines del derech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8120"/>
            <a:ext cx="8460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 algn="just">
              <a:buNone/>
              <a:tabLst>
                <a:tab algn="l" pos="0"/>
                <a:tab algn="l" pos="35244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1800"/>
            </a:b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Moda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. 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.Organización del trabajo propio y manej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3-5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  tiemp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2. Ordenación, registro y utilización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4(7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formación adquirida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Capacitación   en  la  expresión   escrit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7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(redacción, sintaxis,  ortografía, etc.)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620640"/>
            <a:ext cx="8497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5.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Además de las habilidades y destrezas de tipo profesional como las antes indicadas, se supone que en la Universidad se adquieren o desarrollan otras habilidades requeridas en las profesiones, y que no siempre son innatas o adquiridas en la enseñanza básica y media. Con el mismo criterio de calificación: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Muy bien. 4 Bien. 3 Regular. 2 Mal. 1 Muy mal,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indique cuáles cree usted haber adquirido o desarrollado en la Carrera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907920"/>
            <a:ext cx="7920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4. Capacitación para exponer oralment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2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5. Dominio de otros idioma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Utilización   de  la  comput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correo,  internet,  etc.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Planteamiento de un problema y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etodología  de investigación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Trabajo en equip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Manejo de relaciones interperson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3         3-5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Liderazgo  para    organizar    y  dirigir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cursos humanos  y  materi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5680" y="76680"/>
            <a:ext cx="8734320" cy="67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7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Respuestas a las preguntas 17 – 18 y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Durante sus estudios en la Escuela.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a realizado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- A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ctividades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académicas como ayudante alum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- Actividades vinculadas a la profesión o ha ejercido como procurador:como procurado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tividades adicionales al estudiante (no vinculadas a la academia o a la profesió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8</a:t>
            </a:r>
            <a:br>
              <a:rPr sz="2000"/>
            </a:b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84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8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En escala de 0 a 5,  ¿Cuál es su grado de satisfacción con el nivel de formación recibido en la Escuela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Calificación 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Promedio    Moda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a) Formación pers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5      3(6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b) Formación profesi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.3      4(6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9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9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Si usted tuviera el poder y  la oportunidad de introducir tres cambios a la Carrera de Derecho de la Universidad de Chile para mejorarla, ¿Cuáles serían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20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GRAFICO Nº 4: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mbios a la carrera de Derecho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-304920" y="1341360"/>
          <a:ext cx="9448920" cy="600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04920" y="1341360"/>
                    <a:ext cx="944892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311760"/>
            <a:ext cx="889308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alla Curricular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umento de ramos electivos, aumento cs.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amos obligatorios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todología de la investi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ra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1324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2"/>
              <a:tabLst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etodología de Enseñanza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foqu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áctico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visitas instituciones, tribunales,  caso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ayor dia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762480"/>
            <a:ext cx="84963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) Metodologí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formas al sistem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ámenes ora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5142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d) Exa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dificación al exá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8098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7560" indent="-54756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uerpo Acadé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cursos para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ón de competencias de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4100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i="1" lang="es-MX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acultad y la Un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gr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la Escuela con otras Facultad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GRAFICO Nº 2 : 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SIGNATURAS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otal 1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7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 -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612720" y="1125360"/>
          <a:ext cx="10009080" cy="640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2720" y="1125360"/>
                    <a:ext cx="1000908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838080"/>
            <a:ext cx="406728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istoria de la Filosof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Gral.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ógica de las Norm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Justi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0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un alumno cursó los tres primeros  y un alumno cursó los dos primeros)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"/>
            <a:ext cx="57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del Derec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0000" y="692280"/>
            <a:ext cx="446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signaturas históri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So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ociología del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tropología Juríd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indígena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de las co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instit.      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Dº. natural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énero y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oé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. de las Cienci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. Idea soc. Dº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samiento Hegel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1657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          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6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5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03280" y="76464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recho Privado (Civil y Comerci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700280"/>
            <a:ext cx="5792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ucesorio y parti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dustr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económico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udio de títu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egur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a la bioética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2160720"/>
            <a:ext cx="7848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iencia polí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pública y comunidad en crisi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Urbaníst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y telecomunicaciones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roc. politico chileno Siglos XIX y XX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so  Prof. Walker      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    1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131640" y="1052640"/>
            <a:ext cx="3497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úb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25920"/>
            <a:ext cx="42670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cursos Na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edio Ambi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 Agu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iner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gulación Econó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rcado de Val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gulación Serv. Publ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o y Fin. Inter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Bancari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75080" y="848880"/>
            <a:ext cx="454032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tabili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lit. Económica Contemp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Eléctr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re Competen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álisis econ. del Derecho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l consumidor   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620640"/>
            <a:ext cx="62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conomía y Derecho Económ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660280"/>
            <a:ext cx="8424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19520" y="685440"/>
            <a:ext cx="3673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roces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76256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rueba civil y penal                                        1 Estrategia judicial en el proceso civil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dimientos civiles especi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Milita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tigación or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vestigación en el nuevo pr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s-MX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tigación ambiental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policía loc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30:11Z</dcterms:created>
  <dc:creator>lespinoza</dc:creator>
  <dc:description/>
  <dc:language>en-US</dc:language>
  <cp:lastModifiedBy>Lucas Sierra</cp:lastModifiedBy>
  <dcterms:modified xsi:type="dcterms:W3CDTF">2007-04-11T20:10:41Z</dcterms:modified>
  <cp:revision>153</cp:revision>
  <dc:subject/>
  <dc:title>CURSO PROFESIÓN JURÍDICA (primer semestre 2006)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