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7903-3382-49B5-BCD9-35EE45B1A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EFE3-8A2C-47C0-BC28-7564486DE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F417-1AF4-4DA8-8D37-26247D487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2520-83BE-4682-A2E5-7E6CB0403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646A5-1E6A-4B11-85F8-524509C74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02D8B-79DE-42C5-B55F-DA6D405D0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6D46B-BEAE-41C5-B37B-F22E01E0A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984E1-2FA5-4C31-A49E-9C87752A3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34C30-BED8-4139-A9F0-0BD60A6E4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170A9-7AF1-43D2-85D2-3293EEBA3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D9586-F25D-40DD-A770-F8F1BA723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3DFD-B4C9-4C3C-ACC3-A84A6D47B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24023-8CD5-42F8-84B7-97EE2F47F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93497-8890-417A-846E-989F85BEE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D575C-D5DA-40F7-A162-F61FF2482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FAC37-F623-45A2-A54B-2E8346217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B7DC0-234C-4ED6-A7B3-B7A9498EB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D82F-9C96-4B93-AE48-5B9754DA3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3C1B-4BAF-4B97-B5C2-9BB82D19E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DD73-7B67-4AE7-9441-A6FC34F83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5213-E25E-4143-99EC-F66888BE2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6907-B762-4C1B-9112-A96D29BA8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5B4E-909C-4194-A673-5456B7FF8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C2A1-BEEB-40AA-BAF4-E8E417978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24056-229B-4769-A78E-4869F801BCB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22AC8-BC8D-43D9-A3BC-5C40A7DDCF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8305920" cy="11430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Garamond"/>
              </a:rPr>
              <a:t>SINDICATO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      </a:t>
            </a: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La  Libertad Sindical  y    las organizaciones    sindicale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H. HUMERES N.-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6B55-B492-4511-A01D-E436A85970BB}" type="slidenum">
              <a:t>1</a:t>
            </a:fld>
          </a:p>
        </p:txBody>
      </p:sp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8640"/>
            <a:ext cx="777384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2.-</a:t>
            </a: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Tendencias de la regulación naciona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12120" indent="-312120">
              <a:lnSpc>
                <a:spcPct val="6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primacía sindicatos industriales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121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afiliación única y obligatoria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1212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* ruptura: G. Minería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agrícolas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12120" indent="-312120">
              <a:lnSpc>
                <a:spcPct val="7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D.L. 2756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12120" indent="-312120">
              <a:lnSpc>
                <a:spcPct val="7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ámbito aplicación actual legislació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* objetivos sindicales   *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H. HUMERES N.-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6ADD-8731-437E-AB82-E705DD9622CF}" type="slidenum">
              <a:t>10</a:t>
            </a:fld>
          </a:p>
        </p:txBody>
      </p:sp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89000"/>
            <a:ext cx="7772400" cy="59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s-ES_tradnl" sz="3200" spc="-1" strike="noStrike">
                <a:solidFill>
                  <a:srgbClr val="ff0000"/>
                </a:solidFill>
                <a:latin typeface="Garamond"/>
              </a:rPr>
              <a:t>3.- Constitución y Dirección   de las entidades sindicales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Garamond"/>
              </a:rPr>
              <a:t>* tipos de sindicatos (entre </a:t>
            </a:r>
            <a:r>
              <a:rPr b="1" lang="es-ES_tradnl" sz="3200" spc="-1" strike="noStrike" u="sng">
                <a:solidFill>
                  <a:srgbClr val="ffff00"/>
                </a:solidFill>
                <a:uFillTx/>
                <a:latin typeface="Garamond"/>
              </a:rPr>
              <a:t>otros</a:t>
            </a:r>
            <a:r>
              <a:rPr b="1" lang="es-ES_tradnl" sz="3200" spc="-1" strike="noStrike">
                <a:solidFill>
                  <a:srgbClr val="ffff00"/>
                </a:solidFill>
                <a:latin typeface="Garamond"/>
              </a:rPr>
              <a:t>) :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8116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3200" spc="-1" strike="noStrike">
                <a:solidFill>
                  <a:srgbClr val="ffff00"/>
                </a:solidFill>
                <a:latin typeface="Garamond"/>
              </a:rPr>
              <a:t>&gt; de empresa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8116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3200" spc="-1" strike="noStrike">
                <a:solidFill>
                  <a:srgbClr val="ffff00"/>
                </a:solidFill>
                <a:latin typeface="Garamond"/>
              </a:rPr>
              <a:t>&gt; interempresa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3200" spc="-1" strike="noStrike">
                <a:solidFill>
                  <a:srgbClr val="ffff00"/>
                </a:solidFill>
                <a:latin typeface="Garamond"/>
              </a:rPr>
              <a:t>&gt; trabajadores independientes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3200" spc="-1" strike="noStrike">
                <a:solidFill>
                  <a:srgbClr val="ffff00"/>
                </a:solidFill>
                <a:latin typeface="Garamond"/>
              </a:rPr>
              <a:t>&gt; trabajadores transitorios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811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Garamond"/>
              </a:rPr>
              <a:t>* quórums &gt; promoción sindica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H. HUMERES N.-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6D99-0685-4591-844C-F2B82046DB8E}" type="slidenum">
              <a:t>11</a:t>
            </a:fld>
          </a:p>
        </p:txBody>
      </p:sp>
    </p:spTree>
  </p:cSld>
  <p:transition spd="slow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-360"/>
            <a:ext cx="8458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Constitución y dirección entidades sindicales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8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8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8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284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*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sistema de registro     &gt; procedimiento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284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* regulación estatutaria &gt; primacía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284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* elección directores     &gt; procedimiento            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284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      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&gt; fueros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284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      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&gt; censura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28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8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H. HUMERES N.-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0AA5-6D44-4BDB-B63E-24C2F11FE2DB}" type="slidenum">
              <a:t>12</a:t>
            </a:fld>
          </a:p>
        </p:txBody>
      </p:sp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8305920" cy="11430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Agenda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1.- la libertad sindical 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ccff"/>
                </a:solidFill>
                <a:uFillTx/>
                <a:latin typeface="Garamond"/>
                <a:hlinkClick r:id="rId2" action="ppaction://hlinksldjump"/>
              </a:rPr>
              <a:t>2.- tendencias de la regulación naciona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3.- constitución y dirección entidades sindicales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H. HUMERES N.-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C926-87F6-4031-80A8-CE11C6E4CA6D}" type="slidenum">
              <a:t>2</a:t>
            </a:fld>
          </a:p>
        </p:txBody>
      </p:sp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60280"/>
            <a:ext cx="777240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1.-la Libertad sindical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a)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Garamond"/>
              </a:rPr>
              <a:t>los Derechos fundamentales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* conceptos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* vertientes: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 - </a:t>
            </a: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como Dº individua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- como Dº Colectivo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H. HUMERES N.-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0525-A8D2-4FFF-ACBA-577975F076EC}" type="slidenum">
              <a:t>3</a:t>
            </a:fld>
          </a:p>
        </p:txBody>
      </p:sp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000" y="333000"/>
            <a:ext cx="8458200" cy="53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288000" indent="0">
              <a:lnSpc>
                <a:spcPct val="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Libertad sindical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288000" indent="0">
              <a:lnSpc>
                <a:spcPct val="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a)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Garamond"/>
              </a:rPr>
              <a:t> Dº Individua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880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&gt;  Convenios   Nº   87  y   98    OI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8800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&gt;&gt;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66ff33"/>
                </a:solidFill>
                <a:latin typeface="Garamond"/>
              </a:rPr>
              <a:t>libre constitución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&gt;&gt;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66ff33"/>
                </a:solidFill>
                <a:latin typeface="Garamond"/>
              </a:rPr>
              <a:t>libre afiliación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28800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&gt; te mas conexos: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8800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&gt;&gt;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66ff33"/>
                </a:solidFill>
                <a:latin typeface="Garamond"/>
              </a:rPr>
              <a:t>no discriminación</a:t>
            </a: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   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28800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&gt;&gt;</a:t>
            </a:r>
            <a:r>
              <a:rPr b="1" lang="en-US" sz="2800" spc="-1" strike="noStrike">
                <a:solidFill>
                  <a:srgbClr val="66ff33"/>
                </a:solidFill>
                <a:latin typeface="Garamond"/>
              </a:rPr>
              <a:t>pluralismo sindica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28800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&gt;&gt;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66ff33"/>
                </a:solidFill>
                <a:latin typeface="Garamond"/>
              </a:rPr>
              <a:t>cláusulas antisindicale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28800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H. HUMERES N.-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4258-F502-4B3F-983E-342F0AB04D3E}" type="slidenum">
              <a:t>4</a:t>
            </a:fld>
          </a:p>
        </p:txBody>
      </p:sp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89000"/>
            <a:ext cx="9144000" cy="59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      </a:t>
            </a: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Libertad sindical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ahoma"/>
              </a:rPr>
              <a:t>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Derecho Individual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&gt; Libre constitución sindicatos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33264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&gt;&gt;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sistemas: libre, preventivo, registro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&gt;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Libre afiliación, desafiliación, no afiliación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33264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H. HUMERES N.-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77CB-2411-41BD-B7FB-CC5FFBFCB576}" type="slidenum">
              <a:t>5</a:t>
            </a:fld>
          </a:p>
        </p:txBody>
      </p:sp>
    </p:spTree>
  </p:cSld>
  <p:transition spd="slow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333000"/>
            <a:ext cx="91440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     </a:t>
            </a: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Libertad sindical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Derecho Individual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&gt; temas conexos: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&gt;&gt;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 No discriminació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&gt;&gt;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unidad y paralelismo sindica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&gt;&gt;&gt; Constitución de sindicatos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&gt;&gt;&gt; Afiliació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H. HUMERES N.-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F318-A172-4C07-99C5-FA751F9123B8}" type="slidenum">
              <a:t>6</a:t>
            </a:fld>
          </a:p>
        </p:txBody>
      </p:sp>
    </p:spTree>
  </p:cSld>
  <p:transition spd="slow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89000"/>
            <a:ext cx="9144000" cy="59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      </a:t>
            </a: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Libertad sindical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Derecho Individual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&gt; temas conexos:  </a:t>
            </a: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&gt;&gt;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 las cláusulas antisindicales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&gt;&gt;&gt;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cláusulas de exclusió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- cláusulas de ingreso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     </a:t>
            </a: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- cláusulas de separació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Garamond"/>
              </a:rPr>
              <a:t>&gt;&gt;&gt;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 cláusulas de preferencia sindica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H. HUMERES N.-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B310-45EA-4BA7-9784-617A6703B84E}" type="slidenum">
              <a:t>7</a:t>
            </a:fld>
          </a:p>
        </p:txBody>
      </p:sp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9000"/>
            <a:ext cx="8686800" cy="59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00"/>
                </a:solidFill>
                <a:latin typeface="Garamond"/>
              </a:rPr>
              <a:t>Libertad sindical</a:t>
            </a:r>
            <a:r>
              <a:rPr b="1" lang="es-ES_tradnl" sz="32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25800" indent="0">
              <a:lnSpc>
                <a:spcPct val="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325800" indent="0">
              <a:lnSpc>
                <a:spcPct val="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ffff00"/>
                </a:solidFill>
                <a:uFillTx/>
                <a:latin typeface="Garamond"/>
              </a:rPr>
              <a:t>Derecho  Colectivo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00"/>
                </a:solidFill>
                <a:latin typeface="Garamond"/>
              </a:rPr>
              <a:t>&gt;</a:t>
            </a:r>
            <a:r>
              <a:rPr b="1" lang="es-ES_tradnl" sz="3600" spc="-1" strike="noStrike">
                <a:solidFill>
                  <a:srgbClr val="ffff00"/>
                </a:solidFill>
                <a:latin typeface="Garamond"/>
              </a:rPr>
              <a:t> facultad constituyente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32580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66ff33"/>
                </a:solidFill>
                <a:latin typeface="Garamond"/>
              </a:rPr>
              <a:t>&gt;&gt;&gt;libertad, prescripción parcial/tota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2580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2580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00"/>
                </a:solidFill>
                <a:latin typeface="Garamond"/>
              </a:rPr>
              <a:t>&gt;</a:t>
            </a:r>
            <a:r>
              <a:rPr b="1" lang="es-ES_tradnl" sz="3600" spc="-1" strike="noStrike">
                <a:solidFill>
                  <a:srgbClr val="ffff00"/>
                </a:solidFill>
                <a:latin typeface="Garamond"/>
              </a:rPr>
              <a:t>autonomía interna</a:t>
            </a:r>
            <a:r>
              <a:rPr b="1" lang="es-ES_tradnl" sz="3600" spc="-1" strike="noStrike">
                <a:solidFill>
                  <a:srgbClr val="00cc00"/>
                </a:solidFill>
                <a:latin typeface="Garamond"/>
              </a:rPr>
              <a:t> :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ff33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66ff33"/>
                </a:solidFill>
                <a:latin typeface="Garamond"/>
              </a:rPr>
              <a:t>&gt;&gt;&gt;libre designación dirigentes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ff33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66ff33"/>
                </a:solidFill>
                <a:latin typeface="Garamond"/>
              </a:rPr>
              <a:t>&gt;&gt;&gt;libertad reunión y deliberación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ff33"/>
                </a:solidFill>
                <a:latin typeface="Garamond"/>
              </a:rPr>
              <a:t>	</a:t>
            </a:r>
            <a:r>
              <a:rPr b="1" lang="es-ES_tradnl" sz="2800" spc="-1" strike="noStrike">
                <a:solidFill>
                  <a:srgbClr val="66ff33"/>
                </a:solidFill>
                <a:latin typeface="Garamond"/>
              </a:rPr>
              <a:t>&gt;&gt;&gt;libertad adm. fondos sindicale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ff33"/>
                </a:solidFill>
                <a:latin typeface="Garamond"/>
              </a:rPr>
              <a:t>   </a:t>
            </a:r>
            <a:r>
              <a:rPr b="1" lang="es-ES_tradnl" sz="2800" spc="-1" strike="noStrike">
                <a:solidFill>
                  <a:srgbClr val="66ff33"/>
                </a:solidFill>
                <a:latin typeface="Garamond"/>
              </a:rPr>
              <a:t>&gt;&gt;&gt; libertad creación servicios complemen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ff00"/>
                </a:solidFill>
                <a:uFillTx/>
                <a:latin typeface="Comic Sans MS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H. HUMERES N.-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B153-6F6E-4232-81EF-00B4BA4B3074}" type="slidenum">
              <a:t>8</a:t>
            </a:fld>
          </a:p>
        </p:txBody>
      </p:sp>
    </p:spTree>
  </p:cSld>
  <p:transition spd="slow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      </a:t>
            </a: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Libertad sindical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Derecho  Colectivo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&gt;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Libertad de acción sindical 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00cc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&gt;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 Libertad Federativa y Confederativa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cc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H. HUMERES N.-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F3E2-5ED8-45A1-B68E-4AEBF834E43D}" type="slidenum">
              <a:t>9</a:t>
            </a:fld>
          </a:p>
        </p:txBody>
      </p:sp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1T20:19:03Z</dcterms:created>
  <dc:creator>Héctor Humeres</dc:creator>
  <dc:description/>
  <dc:language>en-US</dc:language>
  <cp:lastModifiedBy>USUARIO</cp:lastModifiedBy>
  <cp:lastPrinted>2002-04-14T18:31:46Z</cp:lastPrinted>
  <dcterms:modified xsi:type="dcterms:W3CDTF">2007-08-15T16:25:53Z</dcterms:modified>
  <cp:revision>11</cp:revision>
  <dc:subject/>
  <dc:title>DIPLOMADO EN “EL NUEVO DERECHO DE LA EMPRESA”</dc:title>
</cp:coreProperties>
</file>