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3B1D009-F5CF-42EB-8ECC-1A1B1AB7D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AAFF1EA-F0C2-4D24-A532-81F2958F40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1FA897C-4C60-4292-903D-7208D3BA2CF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0E1E2FB-F97F-4598-BC2A-7E74241F47D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76132-9265-4EED-B989-D27AC788E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3A650-1A97-4F57-A3F2-6A4F913CB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C5B84-F6D2-4837-A1AE-C811C076C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BAEBC-2343-4F63-BBF6-0FF1A3AD9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33901-536D-4817-8F72-518C02732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78A9E-5115-4CA5-B9A3-C2BD8B5B6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F0967-772E-44CD-8EA8-EB437237A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48B397D-2018-4CC8-A846-E60CB0022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FAD8F-7045-4FF1-B7D1-022D75E50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18FAA-C397-41B2-BFAD-44C4DFE4A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A3152-A674-4FF3-8B2E-7E5FB77CB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F9D1C0-C5EB-4302-B2F6-87A0005860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C5310-524E-4F18-8435-F252F9E03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8E55CFD-3A50-44AC-AD71-1868E888AD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828F44D-BA17-4D64-A570-1C3C47906B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3E01235-027D-4517-BB6C-599F6A8CC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ECC69F2-6C3F-4616-9B35-48D55743A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9F99E3B-0F49-42D7-9DAA-05C93454B2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010BDB0-69A9-4BB2-ADF0-414E607A7C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994FFAF-D017-4BA1-9A51-6693B024511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583C-B39C-4AE6-A798-92EA675CC3B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73B0-57EC-4A9F-B682-376F2F4E6FC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0"/>
            <a:ext cx="5361120" cy="103824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Book Antiqua"/>
              </a:rPr>
              <a:t>CAPÍTULO 3</a:t>
            </a:r>
            <a:endParaRPr b="0" lang="en-US" sz="5400" spc="-1" strike="noStrike">
              <a:solidFill>
                <a:srgbClr val="dfdef6"/>
              </a:solidFill>
              <a:latin typeface="Arial"/>
            </a:endParaRPr>
          </a:p>
        </p:txBody>
      </p:sp>
      <p:sp>
        <p:nvSpPr>
          <p:cNvPr id="515" name="PlaceHolder 2"/>
          <p:cNvSpPr>
            <a:spLocks noGrp="1"/>
          </p:cNvSpPr>
          <p:nvPr>
            <p:ph type="subTitle"/>
          </p:nvPr>
        </p:nvSpPr>
        <p:spPr>
          <a:xfrm>
            <a:off x="610920" y="1557360"/>
            <a:ext cx="8064360" cy="1752480"/>
          </a:xfrm>
          <a:prstGeom prst="rect">
            <a:avLst/>
          </a:prstGeom>
          <a:noFill/>
          <a:ln w="0">
            <a:noFill/>
          </a:ln>
        </p:spPr>
        <p:txBody>
          <a:bodyPr lIns="90000" rIns="90000" tIns="46800" bIns="46800" anchor="t">
            <a:noAutofit/>
          </a:bodyPr>
          <a:p>
            <a:pPr indent="0" algn="ctr">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u="sng">
                <a:solidFill>
                  <a:srgbClr val="ffffff"/>
                </a:solidFill>
                <a:uFillTx/>
                <a:latin typeface="Book Antiqua"/>
              </a:rPr>
              <a:t>Relaciones Institucionalizadas Entre Empleadores y  Trabajadores.</a:t>
            </a:r>
            <a:endParaRPr b="0" lang="en-US" sz="5600" spc="-1" strike="noStrike">
              <a:solidFill>
                <a:srgbClr val="ffffff"/>
              </a:solidFill>
              <a:latin typeface="Arial"/>
            </a:endParaRPr>
          </a:p>
        </p:txBody>
      </p:sp>
      <p:sp>
        <p:nvSpPr>
          <p:cNvPr id="516" name=""/>
          <p:cNvSpPr/>
          <p:nvPr/>
        </p:nvSpPr>
        <p:spPr>
          <a:xfrm>
            <a:off x="5489640" y="6267600"/>
            <a:ext cx="270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ammy Pustilnick Ardit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360"/>
            <a:ext cx="822960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II.  Comités de Cooperación</a:t>
            </a:r>
            <a:endParaRPr b="0" lang="en-US" sz="3200" spc="-1" strike="noStrike">
              <a:solidFill>
                <a:srgbClr val="dfdef6"/>
              </a:solidFill>
              <a:latin typeface="Arial"/>
            </a:endParaRPr>
          </a:p>
        </p:txBody>
      </p:sp>
      <p:sp>
        <p:nvSpPr>
          <p:cNvPr id="531" name="PlaceHolder 2"/>
          <p:cNvSpPr>
            <a:spLocks noGrp="1"/>
          </p:cNvSpPr>
          <p:nvPr>
            <p:ph/>
          </p:nvPr>
        </p:nvSpPr>
        <p:spPr>
          <a:xfrm>
            <a:off x="395280" y="620640"/>
            <a:ext cx="8229600" cy="6021360"/>
          </a:xfrm>
          <a:prstGeom prst="rect">
            <a:avLst/>
          </a:prstGeom>
          <a:noFill/>
          <a:ln w="0">
            <a:noFill/>
          </a:ln>
        </p:spPr>
        <p:txBody>
          <a:bodyPr lIns="90000" rIns="90000" tIns="46800" bIns="46800" anchor="t">
            <a:normAutofit fontScale="96000"/>
          </a:bodyPr>
          <a:p>
            <a:pPr marL="329040" indent="-32904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Muchas empresas los han armado.</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32904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 </a:t>
            </a:r>
            <a:r>
              <a:rPr b="0" lang="en-US" sz="1500" spc="-1" strike="noStrike">
                <a:solidFill>
                  <a:srgbClr val="ffffff"/>
                </a:solidFill>
                <a:latin typeface="Book Antiqua"/>
              </a:rPr>
              <a:t>Son tan comunes en el sector privado como en el publico . En el sector privado dependen de los acuerdos entre los sindicatos y el empleador, mientras que en el sector público son basados en decretos administrativos.</a:t>
            </a:r>
            <a:endParaRPr b="0" lang="en-US" sz="1500" spc="-1" strike="noStrike">
              <a:solidFill>
                <a:srgbClr val="ffffff"/>
              </a:solidFill>
              <a:latin typeface="Arial"/>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32904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Book Antiqua"/>
              </a:rPr>
              <a:t>Ideas:</a:t>
            </a:r>
            <a:endParaRPr b="0" lang="en-US" sz="1500" spc="-1" strike="noStrike">
              <a:solidFill>
                <a:srgbClr val="ffffff"/>
              </a:solidFill>
              <a:latin typeface="Arial"/>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Para mejorar el poder competitivo de la empresa y el placer de los trabajadores derivado de su trabajo es imperativo asegurar el desarrollo de la empresa y la creación de más prosperidad y seguridad para los empleados. </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Que la empresa sea más eficiente es un interés común de la gerencia y los trabajadore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l uso y desarrollo de nuevas tecnologías es de importancia decisiva para el poder competitivo de la empresa, el empleo y las condiciones laborale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ste propósito sólo puede realizarse a través de la cooperación sistemática entre la gerencia y los trabajadores a todo nivel.</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l desarrollo de la cooperación diaria debe estar basado en el trabajo en equipo entre la gerencia y los trabajadores. Por tanto, deben realizarse métodos directivos para motivar a los empleados en tomar parte activa en el crecimiento de la empresa. </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La responsabilidad debe descentralizarse y delegarse a empleados individuales o grupo de empleado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Book Antiqua"/>
              </a:rPr>
              <a:t>Conclusión:</a:t>
            </a:r>
            <a:r>
              <a:rPr b="0" lang="en-US" sz="1500" spc="-1" strike="noStrike">
                <a:solidFill>
                  <a:srgbClr val="ffffff"/>
                </a:solidFill>
                <a:latin typeface="Book Antiqua"/>
              </a:rPr>
              <a:t> Por la aplicación de estas medidas se esperan ideas y propuestas de los trabajadores y así la gerencia las considere cuando tome decisiones.</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468360" y="333000"/>
            <a:ext cx="8229600" cy="6264360"/>
          </a:xfrm>
          <a:prstGeom prst="rect">
            <a:avLst/>
          </a:prstGeom>
          <a:noFill/>
          <a:ln w="0">
            <a:noFill/>
          </a:ln>
        </p:spPr>
        <p:txBody>
          <a:bodyPr lIns="90000" rIns="90000" tIns="46800" bIns="46800" anchor="t">
            <a:normAutofit fontScale="96000"/>
          </a:bodyPr>
          <a:p>
            <a:pPr marL="329040" indent="-32904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La colaboración diaria es llevada por el representante del comité de cooperación de empleados y la gerencia.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Se creará un comité si la empresa tiene más de 35 trabajadores; o bien si algún gerente o la mayoría de los empleados quisiera tenerlo.</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La gerencia está obligada a mantener al comité informado de la constante situación económica de la empresa y presentar pronósticos de la situación laboral y cualquier cambio en la organización y producción, incluyendo la introducción de nuevas tecnologías.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A la vez, los representantes de los trabajadores están obligados a otorgar a la gerencia cualquier información que consideren de importancia para el espíritu de cooperación.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Sin embargo, ningún representante de la gerencia o representante de los trabajadores está obligado a dar información si esto irá en detrimento de los intereses de las partes.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Asimismo, no hay obligación de informar lo que se considere personal.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Cuando la información es calificada como confidencial los miembros del comité no están autorizados para divulgarl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88640"/>
            <a:ext cx="82296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 El Lugar De Trabajo De Los Representantes Del Sindicato</a:t>
            </a:r>
            <a:r>
              <a:rPr b="0" lang="en-US" sz="4000" spc="-1" strike="noStrike">
                <a:solidFill>
                  <a:srgbClr val="dfdef6"/>
                </a:solidFill>
                <a:latin typeface="Arial"/>
              </a:rPr>
              <a:t> </a:t>
            </a:r>
            <a:endParaRPr b="0" lang="en-US" sz="4000" spc="-1" strike="noStrike">
              <a:solidFill>
                <a:srgbClr val="dfdef6"/>
              </a:solidFill>
              <a:latin typeface="Arial"/>
            </a:endParaRPr>
          </a:p>
        </p:txBody>
      </p:sp>
      <p:sp>
        <p:nvSpPr>
          <p:cNvPr id="51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existe un reglamento que establezca el lugar de trabajo.</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mayoría de los convenios colectivos (CCvo) contienen reglas en pos de los trabajadores, para elegir a los dirigentes sindicales y los derechos y deberes de las personas elegida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Acuerdos Básicos de 1992 acuerdan que el CCvo tiene que tener reglas sobre los dirigentes sindicales. Sin embargo, se han abstenido de  acordar en general reglas sobre ellos, siendo de la opinión que es mejor dejar a las partes que realicen el acuerdo cole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549000"/>
            <a:ext cx="735804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Reglas relacionadas con la elección de los dirigentes sindicales y sus funciones</a:t>
            </a:r>
            <a:endParaRPr b="0" lang="en-US" sz="3200" spc="-1" strike="noStrike">
              <a:solidFill>
                <a:srgbClr val="dfdef6"/>
              </a:solidFill>
              <a:latin typeface="Arial"/>
            </a:endParaRPr>
          </a:p>
        </p:txBody>
      </p:sp>
      <p:sp>
        <p:nvSpPr>
          <p:cNvPr id="520" name="PlaceHolder 2"/>
          <p:cNvSpPr>
            <a:spLocks noGrp="1"/>
          </p:cNvSpPr>
          <p:nvPr>
            <p:ph/>
          </p:nvPr>
        </p:nvSpPr>
        <p:spPr>
          <a:xfrm>
            <a:off x="468360" y="1844280"/>
            <a:ext cx="8229600" cy="48927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tá usualmente estipulado en el CCvo que los trabajadores tienen solo el derecho de elegir un dirigente sindical para representar a los trabajadores que están cubiertos por el acuerd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 usual en empresas divididas en departamentos que los trabajadores de ellos estén facultados para elegir un representante por cada uno. En casos especiales el número de representantes dependerá del número de empleados de la empre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324000" y="188640"/>
            <a:ext cx="8229600" cy="6264360"/>
          </a:xfrm>
          <a:prstGeom prst="rect">
            <a:avLst/>
          </a:prstGeom>
          <a:noFill/>
          <a:ln w="0">
            <a:noFill/>
          </a:ln>
        </p:spPr>
        <p:txBody>
          <a:bodyPr lIns="90000" rIns="90000" tIns="46800" bIns="46800" anchor="t">
            <a:normAutofit fontScale="91000"/>
          </a:bodyPr>
          <a:p>
            <a:pPr marL="312120" indent="-31212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Requisito elección de los representantes sindicales: Empresa tenga 5 o 6 trabajadores cubiertos por el Ccvo.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Requisito representante sindical: cierta antigüedad, usualmente 1 o 2 años.</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º insuficiente para elegir representante, se suplantará por el más antiguo                            conoce mejor los problemas y condiciones.</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Los dirigentes son elegidos por la mayoría de los trabajadores.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Si no, tiene que haber una nueva elección. Todos los trabajadores del CCvo tienen el dº a votar en la elección. Los trabajadores que no son miembros del sindicato, pero que son parte del CCvo también pueden votar.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Si el empleador quiere objetar la elección tendrá que probar que el trabajador electo no cumple con las condiciones necesarias.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o existe la obligación de elegir un representante del sindicato. Sin embargo, si el convenio colectivo contiene estipulaciones que pueden solo funcionar si hay un representante del sindicato electo, la elección de un miembro representativo del sindicato debe ser considerado como una obligación. </a:t>
            </a:r>
            <a:endParaRPr b="0" lang="en-US" sz="1900" spc="-1" strike="noStrike">
              <a:solidFill>
                <a:srgbClr val="ffffff"/>
              </a:solidFill>
              <a:latin typeface="Arial"/>
            </a:endParaRPr>
          </a:p>
        </p:txBody>
      </p:sp>
      <p:sp>
        <p:nvSpPr>
          <p:cNvPr id="522" name=""/>
          <p:cNvSpPr/>
          <p:nvPr/>
        </p:nvSpPr>
        <p:spPr>
          <a:xfrm>
            <a:off x="1692360" y="2133720"/>
            <a:ext cx="1439640" cy="142920"/>
          </a:xfrm>
          <a:prstGeom prst="rightArrow">
            <a:avLst>
              <a:gd name="adj1" fmla="val 50000"/>
              <a:gd name="adj2" fmla="val 251826"/>
            </a:avLst>
          </a:prstGeom>
          <a:solidFill>
            <a:srgbClr val="6666ff"/>
          </a:solidFill>
          <a:ln w="9360">
            <a:solidFill>
              <a:srgbClr val="ffffff"/>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395280" y="115920"/>
            <a:ext cx="8229600" cy="6337440"/>
          </a:xfrm>
          <a:prstGeom prst="rect">
            <a:avLst/>
          </a:prstGeom>
          <a:noFill/>
          <a:ln w="0">
            <a:noFill/>
          </a:ln>
        </p:spPr>
        <p:txBody>
          <a:bodyPr lIns="90000" rIns="90000" tIns="46800" bIns="46800" anchor="t">
            <a:normAutofit fontScale="84000"/>
          </a:bodyPr>
          <a:p>
            <a:pPr marL="288000" indent="-2880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elección de un MRS no necesita la aprobación del empleador, a menos que esté expresamente indicada en el CCvo.</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Requiere aprobación de la Inspección del Trabajo, la cual debe informar al empleador. </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elección no es valida hasta que el empleador ha recibido la informació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s reglas sobre la protección del MRS son aplicables al momento que el empleador toma conocimiento del resultado de la elecció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leador está autorizado para protestar en contra de las personas elegidas para el puesto de MRS. Puede ser formal (nombramiento) o bajo la opinión del empleador que la persona electa no está capacita para ejercer el trabajo de una manera adecuada.</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protesta se negocia en una junta entre las organizaciones, y si no se obtiene solución el empleador tiene derecho a llevar esta protesta a una Corte Industrial Arbitraria. </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la decisión de la junta de organizaciones o del arbitraje acepta la protesta del empleador, la persona elegida cesa su actividad como MRS desde ese mismo momento y su protección tambié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ntes de eso, sin embargo, el empleado elegido debe considerarse legalmente como M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68360" y="188640"/>
            <a:ext cx="822960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Book Antiqua"/>
              </a:rPr>
              <a:t>Funciones del MRS</a:t>
            </a:r>
            <a:r>
              <a:rPr b="0" lang="en-US"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68360" y="907920"/>
            <a:ext cx="8229600" cy="5616720"/>
          </a:xfrm>
          <a:prstGeom prst="rect">
            <a:avLst/>
          </a:prstGeom>
          <a:noFill/>
          <a:ln w="0">
            <a:noFill/>
          </a:ln>
        </p:spPr>
        <p:txBody>
          <a:bodyPr lIns="90000" rIns="90000" tIns="46800" bIns="46800" anchor="t">
            <a:normAutofit fontScale="92000"/>
          </a:bodyPr>
          <a:p>
            <a:pPr marL="315360" indent="-3153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Usualmente descritas como sumario en el CCvo.</a:t>
            </a:r>
            <a:endParaRPr b="0" lang="en-US" sz="1800" spc="-1" strike="noStrike">
              <a:solidFill>
                <a:srgbClr val="ffffff"/>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Su obligación es tanto con el sindicato como con el empleador.</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Colaboración entre empleados, el empleador y sus representantes.</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omar partido en las negociaciones respecto a remuneraciones por trabajo, cuestiones relacionadas al salario y otras condiciones de trabajo en disputa.</a:t>
            </a:r>
            <a:endParaRPr b="0" lang="en-US" sz="1800" spc="-1" strike="noStrike">
              <a:solidFill>
                <a:srgbClr val="ffffff"/>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 </a:t>
            </a:r>
            <a:r>
              <a:rPr b="0" lang="es-ES" sz="1800" spc="-1" strike="noStrike">
                <a:solidFill>
                  <a:srgbClr val="ffffff"/>
                </a:solidFill>
                <a:latin typeface="Book Antiqua"/>
              </a:rPr>
              <a:t>.</a:t>
            </a:r>
            <a:endParaRPr b="0" lang="en-US" sz="1800" spc="-1" strike="noStrike">
              <a:solidFill>
                <a:srgbClr val="ffffff"/>
              </a:solidFill>
              <a:latin typeface="Arial"/>
            </a:endParaRPr>
          </a:p>
          <a:p>
            <a:pPr marL="315360" indent="-31536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Prerrequisito de los derechos del MRS mostrar ánimo de colaboración; y por el otro lado, el empleador y sus representantes respecto de la institución del MRS estan obligados a colaborar positivamente con el MRS consultándole en todas las cuestiones relacionados con los trabajadores y sus condiciones laborales.</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area primaria del MRS es cuidar de los intereses de sus compañeros, cuidar que las estipulaciones del CCvo son inquebrantables por el empleador o los miembros del sindicato. Así el MRS tiene la obligación de evitar dichos actos por sus compañeros tomando lugar o deteniéndolos si se han iniciado. </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Si no cumple apropiadamente con estas obligaciones el empleador tiene el derecho de despedir al MRS por razones fundamentadas. </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468360" y="620280"/>
            <a:ext cx="8229600" cy="5545080"/>
          </a:xfrm>
          <a:prstGeom prst="rect">
            <a:avLst/>
          </a:prstGeom>
          <a:noFill/>
          <a:ln w="0">
            <a:noFill/>
          </a:ln>
        </p:spPr>
        <p:txBody>
          <a:bodyPr lIns="90000" rIns="90000" tIns="46800" bIns="46800"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rincipio usual del CCvo que el MRS tiene trabajo representativo fuera del horario de trabajo, por lo que sus deberes interfieren con su trabajo normal de empleado.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rincipio principal:  no es común por el empleador pagar al MRS por las horas que realice sus tareas como MRS.</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in embargo, es esencial que el empleador permita que el MRS complete sus tareas, cuando sea necesario, durante las horas de trabajo. Si esto fue a solicitud del empleador deberá ser remunerado por éste.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l salario del MRS por el tiempo que realiza como MRS por petición del empleador es usualmente calculado en la base del salario ganado sobre cierto periodo de tiempo.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in embargo, en el CCvo hay estipulaciones acordadas referentes a que el MRS también tiene derecho a tener un sueldo por el empleador cuando esté ejecutando sus tareas como MRS en horas de trabajo en requerimiento de sus compañeros sindicales.</a:t>
            </a:r>
            <a:endParaRPr b="0" lang="en-US" sz="20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188640"/>
            <a:ext cx="822960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I. Organización Segura</a:t>
            </a:r>
            <a:endParaRPr b="0" lang="en-US" sz="3200" spc="-1" strike="noStrike">
              <a:solidFill>
                <a:srgbClr val="dfdef6"/>
              </a:solidFill>
              <a:latin typeface="Arial"/>
            </a:endParaRPr>
          </a:p>
        </p:txBody>
      </p:sp>
      <p:sp>
        <p:nvSpPr>
          <p:cNvPr id="528" name="PlaceHolder 2"/>
          <p:cNvSpPr>
            <a:spLocks noGrp="1"/>
          </p:cNvSpPr>
          <p:nvPr>
            <p:ph/>
          </p:nvPr>
        </p:nvSpPr>
        <p:spPr>
          <a:xfrm>
            <a:off x="468360" y="1241280"/>
            <a:ext cx="8229600" cy="5616720"/>
          </a:xfrm>
          <a:prstGeom prst="rect">
            <a:avLst/>
          </a:prstGeom>
          <a:noFill/>
          <a:ln w="0">
            <a:noFill/>
          </a:ln>
        </p:spPr>
        <p:txBody>
          <a:bodyPr lIns="90000" rIns="90000" tIns="46800" bIns="46800" anchor="t">
            <a:normAutofit fontScale="94000"/>
          </a:bodyPr>
          <a:p>
            <a:pPr marL="322200" indent="-3222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equeñas empresas, de entre 1y 9 trabajadores, el control de reglas de seguridad laboral debe hacerse a través de contacto personal entre el empleador, posiblemente el jefe o supervisor, y los empleados.</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resas con más de 9 trabajadores: la seguridad laboral debe ser organizada.</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os trabajadores de cada departamento de la empresa eligen un representante de seguridad para unirse al grupo de seguridad, para que represente sus puntos de vistas durantes las negociaciones en todas las cuestiones concernientes a la seguridad y salud de los trabajadores.</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resa con más de 19 trabajadores: debe crearse un Comité de Seguridad. </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existen uno o dos grupos de seguridad, el grupo o los grupos juntos con el empleador o el representante legal del empleador forman el comité.</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hay más de dos grupos de seguridad, los representantes de seguridad electos eligen dos miembros de ellos y con el jefe supervisor forman el comité. El último miembro del comité es el empleador o representante legal.</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68360" y="259920"/>
            <a:ext cx="8229600" cy="626436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tarea del comité es planificar, dirigir y controlar la apropiada ejecución de las reglas de seguridad en la empresa.</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spectores de seguridad, cuando inspeccionan las empresas, tienen el deber de contactar a los trabajadores representantes de seguridad. Así también, el representante tiene el derecho de poner cualquier pregunta o problema de seguridad ante el inspector de seguridad, sin previo consentimiento del empleador. </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presentante de seguridad tiene igual protección contra la destitución que el MRS.</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grupo directivo miembro de la organización de seguridad de la empresa también tiene cierta protección contra la destitució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23:14:06Z</dcterms:created>
  <dc:creator>..</dc:creator>
  <dc:description/>
  <dc:language>en-US</dc:language>
  <cp:lastModifiedBy>..</cp:lastModifiedBy>
  <dcterms:modified xsi:type="dcterms:W3CDTF">2007-09-10T21:18:17Z</dcterms:modified>
  <cp:revision>7</cp:revision>
  <dc:subject/>
  <dc:title>Capitulo 3. </dc:title>
</cp:coreProperties>
</file>