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31DA-33CC-4518-878F-CC967EB7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E713-80A9-4F8E-B502-65D5155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1759-94BC-419F-9F80-605AEB6E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C765E-D153-4827-8180-70D4B6BA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919F-BA1D-4389-9513-3C2972D0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F781-C8B7-40B6-B312-6E869C1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079F-8460-4879-BF86-6DF07F7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04F-076F-4769-A0F3-A0E643DB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13C2-DE2C-4188-8F77-FA186640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CD64-60E2-467A-9BCD-7EFFBCD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686A-915C-400E-95A3-185930CE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786EE-3553-4B74-BA9D-BCB8F6EA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4459-502E-4E9E-B9CB-E5D07497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AD94-DFAE-4A46-937B-5372880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58A2-FD3E-4544-B6C5-7D89F05A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6C82-0BB9-4D85-AAA1-7C9D8097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E54-44BA-4315-8D5C-E2A64EAB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F1D8-7D7F-466E-9A8D-8A54155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4C00-E75E-4189-A537-86BBA95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1A65-E235-4F53-AFCB-2CDDDBB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3653-0287-4655-A0D9-F5F862F5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E330-846C-4D08-B2D3-D948269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56D7-C499-4F9D-B188-01788534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F94B-5DBC-4477-9B86-045DC48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105-F1F7-45F5-BFFB-D88BDB564E0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0CA-5773-4EE1-BE1C-4D157C692C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cfinsterbusch</cp:lastModifiedBy>
  <dcterms:modified xsi:type="dcterms:W3CDTF">2007-04-19T22:02:51Z</dcterms:modified>
  <cp:revision>32</cp:revision>
  <dc:subject/>
  <dc:title>L   </dc:title>
</cp:coreProperties>
</file>