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941-4C54-4853-8639-B34117EE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82C7-3748-4820-B7E0-178A7CD4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D0B5-A0F9-4AC3-80F6-4BAC8244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664-FCD7-45C8-84A7-F5ACCF46A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E1FF-06B5-4816-B870-CFD5D6A3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1236-4F43-492A-B735-E5ABD139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51CA-3538-45C6-A83D-2A50D7D2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A55B-6F15-4AE4-85D4-25666FAD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BF860-BF7F-4C01-BAAF-FB2C592E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035E-DA7B-4527-AD3A-1C8EC6F7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D6C3-0DD7-43C6-9ACD-856CBE5E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44B7-D8B1-4EB4-93AE-6D4FA04C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0DD2-4EBE-43C0-B8FA-86ED084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CDAB-B37E-40BA-86C8-57760A2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1E2-221D-4259-9F8E-9B857BDF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43AC-82ED-40BE-9D81-9A6FDEB7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DFFD-F41D-4E43-8C6C-3F0564EC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C83-5786-496D-ADDB-5920715B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2B5-4F3E-4AFA-91BA-DA3C6B1D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308-D564-4C46-9054-75BB4CE3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17E-E3C9-4DF8-B26E-B8A2E032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965-A469-431D-A99F-A7D905A9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93B-6DE0-4BFF-98FE-BA2A4C1A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FE1-31B9-43D3-AD79-73C7DC9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FA29-2D9D-4453-98AE-76C3013863BD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5B5F-4640-4598-AB94-314A92DDB995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tamarugo.cec.uchile.cl/~aabdie/media/logo-uch.gif&amp;imgrefurl=http://tamarugo.cec.uchile.cl/~aabdie/home.html&amp;h=115&amp;w=56&amp;sz=2&amp;tbnid=NwXXBaMn1ZSVsM:&amp;tbnh=82&amp;tbnw=39&amp;hl=es&amp;start=118&amp;prev=/images%3Fq%3Dlogo%2Buniversidad%2Bde%2Bchile%26start%3D100%26svnum%3D10%26hl%3Des%26lr%3D%26sa%3DN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digilander.libero.it/desertodimillesimo/logo_vatican_2.jpg&amp;imgrefurl=http://digilander.libero.it/desertodimillesimo/panorama_esterno_del_santuario_d.htm&amp;h=175&amp;w=144&amp;sz=10&amp;tbnid=dvJmm4BpE1yAXM:&amp;tbnh=95&amp;tbnw=78&amp;hl=es&amp;start=130&amp;prev=/images%3Fq%3Dsanta%2Bsede%26start%3D120%26svnum%3D10%26hl%3Des%26lr%3D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4360" y="162864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ANTA SEDE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547640" y="4941360"/>
            <a:ext cx="64008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Jeannette Irigoin Barren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iversidad de 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549360"/>
            <a:ext cx="1297080" cy="11970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3284640"/>
            <a:ext cx="165744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tapas Históric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80870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sta 187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1870 y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de 192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805360"/>
            <a:ext cx="10429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era Etapa (hasta 187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96960" y="1483920"/>
            <a:ext cx="8447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dos pontificios con la misma calidad que el resto de los Est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efe de Estado (Papa) es también jefe espiritual de la Igl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deres del Pap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piritu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gunda Etapa (1870 a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aparecen Estados Pontificios (por anexión de Roma por Ital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apa carece de poder tempo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y de garantías” rigen relación leg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uenta con Derechos y honores de sober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a de dinero anual para el Pa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raterritorialidad de palacios pap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uestión Romana”  rige relación real entre Italia y Pap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hace uso de derecho de leg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pa concluye tratados (Concordato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ercera Etapa (desde 1929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de Letrán: crea Estado de la Ciudad del Vaticano que estable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talia reconoce la soberanía de la Santa Se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tiene propiedad sobre Ciudad del Vaticano, además de soberanía exclusiva y absolu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ersona de Soberano Pontífice es sagrada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e reconoce a Santa Sede Derecho de Legación activo y pas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permanecerá ajena a rivalidades temporales entre los Es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anta Sede será territorio neutro e invio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734080"/>
            <a:ext cx="111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Otros acuerdos de Letrá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416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corda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ción Financi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734080"/>
            <a:ext cx="104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orda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24000" y="2004480"/>
            <a:ext cx="85183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ablece privilegios para la Iglesia Católica en Ital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religión oficial del Estado de Italia será la Cató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eñanza obligatoria de doctrina Católica, modificado en 198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rantiza auxilio de fuerza pública para ejecución de sentencias eclesiás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vención Financier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82310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ratado que completa los Acuerdos de Letrá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Otorga compensación económica al Papado por pérdida de Estados Pontifi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5661000"/>
            <a:ext cx="1042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Tahoma"/>
              </a:rPr>
              <a:t>Santa Sede después de Tratado de Letrá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9140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oficio del jefe Supremo de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a Sede actúa en la vida internacional como órgano supremo de la Iglesia Católi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tiene un observador permanente en la ON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ibe misiones diplomát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vía agentes diplomáticos (Nuncios) al exterior, con carácter de embajado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8028000" y="5661000"/>
            <a:ext cx="111600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9:51:00Z</dcterms:created>
  <dc:creator>..</dc:creator>
  <dc:description/>
  <dc:language>en-US</dc:language>
  <cp:lastModifiedBy>cfinsterbusch</cp:lastModifiedBy>
  <dcterms:modified xsi:type="dcterms:W3CDTF">2007-05-14T13:38:47Z</dcterms:modified>
  <cp:revision>9</cp:revision>
  <dc:subject/>
  <dc:title>SANTA SEDE</dc:title>
</cp:coreProperties>
</file>