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9B5-088A-4477-BA02-1BDAF312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8DB-6F00-4C67-9485-D712E9D3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352-B957-4B0B-8025-41FCD436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B8C-CD91-4378-8578-391A4999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1DE-B1B9-4F8D-91DC-65DC8970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188-34D4-49BD-A438-BDECA73C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A1B-A6CE-4127-B74F-D1DDF7B1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8A3-246A-4AC7-B805-B8E11D07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1C9-BAE6-414A-AD2A-86DB09A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417-DA1C-4217-976C-C30BCF90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5FD-0B0D-418D-8108-A207F6D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0CF-C3E8-4E0A-B7BE-A3079B10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4009-0420-4672-B687-1BF49B34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82080" cy="6800040"/>
          </a:xfrm>
          <a:prstGeom prst="rect">
            <a:avLst/>
          </a:prstGeom>
          <a:solidFill>
            <a:srgbClr val="fff2e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Tiempos Modernos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: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Siglos XVI al XVIII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Proyección del derecho de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Castilla al Nuevo Mundo, derecho indiano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La gestación de una nueva cosmovisión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1800" spc="-1" strike="noStrike" u="sng">
                <a:solidFill>
                  <a:srgbClr val="cc6600"/>
                </a:solidFill>
                <a:uFillTx/>
                <a:latin typeface="Arial"/>
              </a:rPr>
              <a:t>Característica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1.- Expansión europea hacia Africa y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2.-Quiebre de la bases filosóficas, científicas y jurídicas del Medio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3.- Ruptura de la unidad religiosa de Occidente en torno al catol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4.- Consolidación del capitalismo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5.- Consolidación de las monarquías autónomas  y desarrollo del absolu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6.- Inicio del proceso de inserción de América en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7.- La proyección del jus commune al Nuevo Mundo a travé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8.-La revitalización de la concepción jusnaturalista católica y su enfre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on los supuestos del jus comm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9.- Gestación del racionalismo e inicio ideológico de la Moder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680" y="0"/>
            <a:ext cx="933084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( 2 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Santillán 155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1/6 de lo produ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go tributo en servicio personal; regula trato 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del encomendado,organización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os, mita y repartimiento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Gamboa.158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 el tributo y el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o, prohibe el servicio personal, pago de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sacion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en dinero, regula trato en el trabajo, organización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l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Esquilach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1620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real general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érica, Tasa tributo y jornal, hace voluntario el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en servicio personal, regula el trato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Laso de la Veg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635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el tribut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jornal, permite el pago voluntario en servicio,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nero o especies, regula mita repartimien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765000"/>
            <a:ext cx="73080" cy="5616720"/>
          </a:xfrm>
          <a:custGeom>
            <a:avLst/>
            <a:gdLst>
              <a:gd name="textAreaLeft" fmla="*/ 21240 w 73080"/>
              <a:gd name="textAreaRight" fmla="*/ 73440 w 73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statutos jurídicos de la población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incipio que sustenta la estructura so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sigualdad jurídica con base r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rupos con estatutos diferenciad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Peninsulares americanos y crio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Indígenas 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Mest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iferencia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rmas jurídicas que los rigen; capacidad jurídica; tributación; oficios, trabajos o actividades económicas permitidas; distinta inserción en los beneficios de la estructur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ultad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storia del Derecho II –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Seminario: “El quiebre institucional de 189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Instrucciones para el desarrollo del seminario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tema debe ser preparado por los alumnos asignados de acuerdo a la pauta de desarrollo que se indica en cada caso.  El material bibliográfico suficiente para preparar la exposición y participación en el seminario se encuentra en un folleto que está a su disposición en la Biblioteca Central. Cada alumno será responsable de elaborar una presentación oral sobre el tema asignado, deberá dirigir los debates relativos a su exposición y participar en la discusión de los otros temas que se expongan en las reunion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valuació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da alumno tendrá tres notas, se evaluará: a) la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vidual, 50% ; b ) la participación en el debate posterior a las exposi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ún el número y calidad de las intervenciones, 25%;  c) prueba escrita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el contenido esencial del seminario; 25%. En consideración a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ta de un tema sobre el cual hay interpretaciones diversas, la evaluación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trará  en el conocimiento y comprensión de las materias y las destre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xponer y argumentar sobre los temas discutidos, prescindiend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 que el alumno adop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esiones, temas y orden de las exposiciones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.-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Marco constitucional e institucional a la época del conflicto.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xposi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Contenido</a:t>
            </a:r>
            <a:r>
              <a:rPr b="0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) Las reformas constitucional efectuadas a la Constitución de 1833 entre 1871 y 1890 y sus efectos sobre el Estado autoritario (portalian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) Los rasgos parlamentarios del sistema de  gobierno  chileno hasta 1890. Interpelación, voto de  censura y acusación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) Las modificaciones institucionales producidas por la incorporación de la libertad de enseñanza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 ) Los conflictos sociales y políticos producidos por la laicización del Estado: confesionalidad del  Estado y leyes de laicización ,  matrimonio civil, cementerios laicos, Estado  docente o Superintendencia de Educación del Est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No  se incluye específicamente la cuestión social por ser un tema  muy extenso aún cuando, es un factor importa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2.- La situación internacional de Chile  y los hechos del conflicto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xpositor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enido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) Aspectos económicos del conflicto militar con Perú y Bolivia y acción de Chile respecto de las propiedades salitreras al término de é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) El programa y la acción de gobierno del  Presidente  Balmace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) Composición socio política del Congreso y  posición  respecto del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) Responsabilidad política y acusaciones constitucionales en la n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itucional de 18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) El desarrollo de los  hech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3.-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Las tesis históricas interpretativas del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xposi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eni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) La Interpretación política del conflicto y sus argu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) La interpretación  economicista del quiebre institucional  y sus argu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) Análisis constitucional e institucional en relación al tipo de gobierno  imperante en Chile a la época del conflicto (presidencial- autoritario o parlamentari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135000"/>
            <a:ext cx="88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lementos formativos de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Siglos XVI a X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A la influencia ejercida en la formación del derecho occidental por el elemento romano, canónico, germano y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 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se agregan a partir del siglo XVI los sigu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Elem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oncepción católic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cepción racionalist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Positivism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Concepciones socialistas sobre el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JUSTOS TITULOS DE EXPANSIÓN SEGÚN  LA DOCTRINA DEL  IUS COM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La doctrina del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 creó ciertos títulos a los que asignó validez como justificativos de expansión en beneficio de “príncipes cristianos”.Textos legales de algunos estados recepcionaron estas normas doctrinales como es el caso del Código de las Si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Partidas en el reino de Cast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Matrimon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heredero (a) del reino (se adquiere el título y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 el reino del  cónyuge o lo adquiere el hijo d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Her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diversos reinos se vinculan si son heredados por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sma  perso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Elección por la comunida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e trata de ratificación posterior a o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ch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cesión Pontifi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opera sobre tierras de infieles a prín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y sobre tierras de príncipes cristianos excomulgad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empre respecto de príncipes cristianos que acepten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mporal 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quista u ocupación milit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tierras de infieles y sobre tierras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 siempre que concurran otros títu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Descubrimiento y toma de poses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ierras despob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363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Bases jurídicas de la expansión castellana</a:t>
            </a:r>
            <a:r>
              <a:rPr b="1" lang="es-ES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apitul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descubrimiento, conquist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lonización (Capitulación de Santa Fe 1492, de H.Cor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Pizarro, etc.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Hues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la capit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2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Bulas Pontificias de donación de 14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 Dominio sobre tierras e islas descubiertas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demarcación de 100 lgs.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. de las Islas Azores y Cabo Ve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Exclusiva de navegación en los mares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 Dominio de las riquezas, suelo y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 Investidura sobre las tierras descubiertas y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Tratado de Tordesillas, 149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re la línea demarcatoria 370 leguas al O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Islas Azores y Cabo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6320" y="1673280"/>
            <a:ext cx="7729560" cy="478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93920" y="1724040"/>
            <a:ext cx="6778440" cy="465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illas .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POLEMICAS DE INDIAS -1511 – 1570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Junta de Burgos de 15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uerdo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ye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querimiento de J. López de Palacios Ru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Bula Sublimis Deus 15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Justos títulos de expansión de F. Vitoria 15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Libre circulación de los pueb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ibre consentimiento de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Guerra justa sólo si es de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Junta de Valladolid 1542  (Las casas / 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oge el título de libre circulación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Acoge el principio de la guerra defensiva como ju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Dictación  de Las Leyes Nue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Junta de Valladolid 1551 (Las Casas /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1240"/>
            <a:ext cx="914400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tenido de los Acuerdos y Leyes de Burgos de 151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Acuerdo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Los indios son seres humanos racionales destinados a la sal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sólo regidos por el derecho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Los indígenas pueden ser obligados a trab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Se les debe pagar salario por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) Condiciones de trabajo compatibles con su condición huma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da por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) Evangelización de los indios para lograr conversión volu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) Deben vivir en comunicación con los españ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) Se declaran válidas las Bulas Papales como títulos justos pre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ficación  a los indios del poder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Leye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Trato en el trabajo en las 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Reducción de los indios a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Mecanismos de control de encomienda y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bre los indios: Protector de indios; visita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mien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3360"/>
            <a:ext cx="91440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 jurídic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sión real del tributo debido al rey por un número determinado de indígenas en beneficio de un  español benemérito de In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antil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volu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encomiend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de 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u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a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de 150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dios son súbditos libr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rona sometidos al pago de 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de Burgos de 151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, el trato en el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ducción a pueblos ,las visitas y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ctores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 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Nuevas de 154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 supres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sobre tas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ributo de los ind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ción de tributos y  jornal, monto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erior al anterior; según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ada lugar, prohibe servici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1413000"/>
            <a:ext cx="72720" cy="1008000"/>
          </a:xfrm>
          <a:custGeom>
            <a:avLst/>
            <a:gdLst>
              <a:gd name="textAreaLeft" fmla="*/ 21240 w 72720"/>
              <a:gd name="textAreaRight" fmla="*/ 73080 w 72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2:51:22Z</dcterms:created>
  <dc:creator>mfigueroa</dc:creator>
  <dc:description/>
  <dc:language>en-US</dc:language>
  <cp:lastModifiedBy>mfigueroa</cp:lastModifiedBy>
  <dcterms:modified xsi:type="dcterms:W3CDTF">2007-08-22T20:48:30Z</dcterms:modified>
  <cp:revision>11</cp:revision>
  <dc:subject/>
  <dc:title>Diapositiva 1</dc:title>
</cp:coreProperties>
</file>