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843-E605-40CC-8E84-D3A942BD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087-584F-4B72-9086-9B33C86A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B1F-59F4-479D-A602-2D653F3E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B00-EB15-434A-9877-45F4D6D4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D21D-AA8D-433E-9304-E6C4AF21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52E-5286-4E26-A768-817FD228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23A-B89E-4EFB-B50B-0A08D609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739-2FCD-4213-81E8-5E8987AC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962-3B53-48F6-BDAB-D3E7AFF5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5C2D-DAF4-437B-BA75-AD0C640B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712-E7AF-4B77-B943-F7C06FFF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B4A-A863-4AF4-8BFE-A3C234ED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17FB-FE5E-4A94-849B-1FF23C67E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54040" y="404640"/>
            <a:ext cx="803448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2920" y="17640"/>
            <a:ext cx="8858160" cy="68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15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93800" y="81000"/>
            <a:ext cx="752328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14560" y="147600"/>
            <a:ext cx="70578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1680" y="368280"/>
            <a:ext cx="80326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38160" y="333360"/>
            <a:ext cx="726588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2360" y="189000"/>
            <a:ext cx="86374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3440" y="333360"/>
            <a:ext cx="59929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3:29:15Z</dcterms:created>
  <dc:creator>WinuE</dc:creator>
  <dc:description/>
  <dc:language>en-US</dc:language>
  <cp:lastModifiedBy>WinuE</cp:lastModifiedBy>
  <dcterms:modified xsi:type="dcterms:W3CDTF">2007-08-08T13:31:25Z</dcterms:modified>
  <cp:revision>2</cp:revision>
  <dc:subject/>
  <dc:title>Diapositiva 1</dc:title>
</cp:coreProperties>
</file>