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B1D7-7F5D-491B-827E-840DE59C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7FD-DB7B-4820-97DF-5BE08FC5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86D-C90B-4B98-9E24-19F62C16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163-EF3A-4262-83EE-944795C7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27D-4F63-49FE-84E3-B48F78A6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BE8-DD50-4C28-BCBD-CA6CC5CB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374-4A32-4DAB-9D35-DCF34B65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47D-D52F-4D36-A35F-720499F4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C64A-D058-459C-8719-655051A5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5D0-DD39-4112-952C-E98D680B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C7E-214A-4052-86EA-DF95B5F1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67C4-3F9D-4D98-9BFD-21D04BA6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3EC9-9E6F-4565-BC9A-82D0A2AB7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10600" cy="6800760"/>
          </a:xfrm>
          <a:prstGeom prst="rect">
            <a:avLst/>
          </a:prstGeom>
          <a:solidFill>
            <a:srgbClr val="eaf3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El Estado</a:t>
            </a:r>
            <a:r>
              <a:rPr b="1" lang="es-ES" sz="24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Ind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Corona castellana y su dominio en Améric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rác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poblacion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premia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la colonización.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Presencia del Estad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olítica de fundación de ciudade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bildos y pueblo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pañoles y de in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rganización económica de Améric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Mercantilism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Contratación, 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monopolio comerci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= sistema de flotas =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puertos, prohibición de intercambio entre colonias, impues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piedad eminente, tráfico negr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fesionalidad del Estado castellan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vigencia del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derech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anónic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América (trib. Eclesiástic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patronato ind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8201520"/>
          </a:xfrm>
          <a:prstGeom prst="rect">
            <a:avLst/>
          </a:prstGeom>
          <a:solidFill>
            <a:srgbClr val="e3f0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Patronato indiano. Evolución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3300"/>
                </a:solidFill>
                <a:uFillTx/>
                <a:latin typeface="Arial"/>
              </a:rPr>
              <a:t>Concepto: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tribuciones concedidas por la Santa Sede al Estado sobre la Iglesia en Amé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3300"/>
                </a:solidFill>
                <a:uFillTx/>
                <a:latin typeface="Arial"/>
              </a:rPr>
              <a:t>Etapas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Real patronato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) Derecho de pres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1508)   b) Percepción del diezmo c)  Rey patrón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tector de la Igles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Regio Vicariato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) Exequatur o pase re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s.16-17)       b) Recurso de fue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Rey vicario del P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 Regalism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          a) Rey vicario de Cris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s.18)                 b) Origen divino del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Rey responsable solo ante 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) Derecho a designar los obis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0480"/>
            <a:ext cx="9144000" cy="7412040"/>
          </a:xfrm>
          <a:prstGeom prst="rect">
            <a:avLst/>
          </a:prstGeom>
          <a:solidFill>
            <a:srgbClr val="e3f0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Estructura territorial y funcional del gobierno de Amé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E .territori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audiencias o gobernaciones, corregimientos y  virrein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Estructura fun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.-Gobier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Gobernador, corregidor, virr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.-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Justici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dinar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R. Audiencia (oidores), justicia mayo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gidores,  alcal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speci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clesiástica, comercial, minera, de haci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i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.-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Haciend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iciales de Real Hacienda y  de Tesore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4.-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Guerra: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rey, gobernador, capitán ge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)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Gobierno Local no autónom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abil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)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Gobierno eclesiástic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Obispados, parroqu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213840" cy="7412040"/>
          </a:xfrm>
          <a:prstGeom prst="rect">
            <a:avLst/>
          </a:prstGeom>
          <a:solidFill>
            <a:srgbClr val="e0e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El estado Indiano en el siglo XVI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 Evolución de las instituciones públicas como consecuenci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extensión al Nuevo Mundo de la política del </a:t>
            </a: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absolutismo ilust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égimen de comercio l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a) El cambio del ideario económico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avíos de registro sue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fisiocrasia y preliberalismo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égimen de Intend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rigen divino del poder y regalis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clesiá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b) La monarquía de origen div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y las reforma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odo por el pueblo pero sin 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16360" y="1484280"/>
            <a:ext cx="71640" cy="1224000"/>
          </a:xfrm>
          <a:custGeom>
            <a:avLst/>
            <a:gdLst>
              <a:gd name="textAreaLeft" fmla="*/ 20880 w 71640"/>
              <a:gd name="textAreaRight" fmla="*/ 72000 w 7164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4076640"/>
            <a:ext cx="71280" cy="1562040"/>
          </a:xfrm>
          <a:custGeom>
            <a:avLst/>
            <a:gdLst>
              <a:gd name="textAreaLeft" fmla="*/ 20880 w 71280"/>
              <a:gd name="textAreaRight" fmla="*/ 71640 w 71280"/>
              <a:gd name="textAreaTop" fmla="*/ 64800 h 1562040"/>
              <a:gd name="textAreaBottom" fmla="*/ 1497240 h 156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920" y="0"/>
            <a:ext cx="9205920" cy="6802200"/>
          </a:xfrm>
          <a:prstGeom prst="rect">
            <a:avLst/>
          </a:prstGeom>
          <a:solidFill>
            <a:srgbClr val="ecf3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Derecho Indi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s jurídicas dictadas para regir en América desde 1492 hasta 18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plidas por el derecho castellano en el orden de prelación de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yes de Toro de 15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recho natural: ( Paradigma del contenido debido del Dº positiv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recho positivo: Ind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tropolitana (Rec.Leys. Indias 16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Ley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territorial (bandos, ordenanzas, reales acuer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stellana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supletoria, o.prel. L. de Toro + Nueva y Novís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opilación de L de Castilla, 1567 180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dígen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sólo según o en ausencia de l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ostu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dian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según, en ausencia y contra ley canónica y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rbitrio judicial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Jurisprudenc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Probidad funcio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Judicia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Controles del arbitrio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arcialidad jud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Jurisprudencia doctri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9280" y="2565360"/>
            <a:ext cx="71280" cy="1008000"/>
          </a:xfrm>
          <a:custGeom>
            <a:avLst/>
            <a:gdLst>
              <a:gd name="textAreaLeft" fmla="*/ 20880 w 71280"/>
              <a:gd name="textAreaRight" fmla="*/ 71640 w 71280"/>
              <a:gd name="textAreaTop" fmla="*/ 18720 h 1008000"/>
              <a:gd name="textAreaBottom" fmla="*/ 98928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03"/>
                  <a:pt x="0" y="805"/>
                </a:cubicBezTo>
                <a:lnTo>
                  <a:pt x="0" y="20795"/>
                </a:lnTo>
                <a:cubicBezTo>
                  <a:pt x="0" y="21198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58920" y="2276640"/>
            <a:ext cx="71640" cy="720720"/>
          </a:xfrm>
          <a:custGeom>
            <a:avLst/>
            <a:gdLst>
              <a:gd name="textAreaLeft" fmla="*/ 20880 w 71640"/>
              <a:gd name="textAreaRight" fmla="*/ 72000 w 71640"/>
              <a:gd name="textAreaTop" fmla="*/ 29880 h 720720"/>
              <a:gd name="textAreaBottom" fmla="*/ 6908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54200" y="3789360"/>
            <a:ext cx="73080" cy="934920"/>
          </a:xfrm>
          <a:custGeom>
            <a:avLst/>
            <a:gdLst>
              <a:gd name="textAreaLeft" fmla="*/ 21240 w 73080"/>
              <a:gd name="textAreaRight" fmla="*/ 73440 w 73080"/>
              <a:gd name="textAreaTop" fmla="*/ 38880 h 934920"/>
              <a:gd name="textAreaBottom" fmla="*/ 89604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14560" y="5013360"/>
            <a:ext cx="71280" cy="792000"/>
          </a:xfrm>
          <a:custGeom>
            <a:avLst/>
            <a:gdLst>
              <a:gd name="textAreaLeft" fmla="*/ 20880 w 71280"/>
              <a:gd name="textAreaRight" fmla="*/ 71640 w 71280"/>
              <a:gd name="textAreaTop" fmla="*/ 32760 h 792000"/>
              <a:gd name="textAreaBottom" fmla="*/ 7592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0" y="1628640"/>
            <a:ext cx="69840" cy="649440"/>
          </a:xfrm>
          <a:custGeom>
            <a:avLst/>
            <a:gdLst>
              <a:gd name="textAreaLeft" fmla="*/ 20520 w 69840"/>
              <a:gd name="textAreaRight" fmla="*/ 69840 w 69840"/>
              <a:gd name="textAreaTop" fmla="*/ 27000 h 649440"/>
              <a:gd name="textAreaBottom" fmla="*/ 62244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94200" y="5300640"/>
            <a:ext cx="73080" cy="865080"/>
          </a:xfrm>
          <a:custGeom>
            <a:avLst/>
            <a:gdLst>
              <a:gd name="textAreaLeft" fmla="*/ 21240 w 73080"/>
              <a:gd name="textAreaRight" fmla="*/ 73440 w 73080"/>
              <a:gd name="textAreaTop" fmla="*/ 36000 h 865080"/>
              <a:gd name="textAreaBottom" fmla="*/ 82908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60480"/>
            <a:ext cx="9144000" cy="7107120"/>
          </a:xfrm>
          <a:prstGeom prst="rect">
            <a:avLst/>
          </a:prstGeom>
          <a:solidFill>
            <a:srgbClr val="ecf3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Arbitrio judici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  Es expresión de una concepción jusnaturalis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católica que fundamenta el derecho castellano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ano. Juez obligado a producir la equ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suística usando la fuente formal más adecuada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eando una nueva norma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) juicio de resi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uez funcionario:   b) inhabil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) recus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) Oblig. y prohib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g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Mecanismos de contro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del arbitrio  judici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Recursos procesales:   a) ape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re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) 2ª 3ª su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) nu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) injusticia no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3300"/>
                </a:solidFill>
                <a:uFillTx/>
                <a:latin typeface="Arial"/>
              </a:rPr>
              <a:t>Control de juridicidad de las nor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curso de suplicación de la ley inju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no procesal). Su interposición suspende la ley supli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2133720"/>
            <a:ext cx="71280" cy="1726920"/>
          </a:xfrm>
          <a:custGeom>
            <a:avLst/>
            <a:gdLst>
              <a:gd name="textAreaLeft" fmla="*/ 20880 w 71280"/>
              <a:gd name="textAreaRight" fmla="*/ 71640 w 71280"/>
              <a:gd name="textAreaTop" fmla="*/ 71640 h 1726920"/>
              <a:gd name="textAreaBottom" fmla="*/ 165528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1700280"/>
            <a:ext cx="72720" cy="1490760"/>
          </a:xfrm>
          <a:custGeom>
            <a:avLst/>
            <a:gdLst>
              <a:gd name="textAreaLeft" fmla="*/ 21240 w 72720"/>
              <a:gd name="textAreaRight" fmla="*/ 73080 w 72720"/>
              <a:gd name="textAreaTop" fmla="*/ 61920 h 1490760"/>
              <a:gd name="textAreaBottom" fmla="*/ 14288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7640" y="3573360"/>
            <a:ext cx="71640" cy="1511280"/>
          </a:xfrm>
          <a:custGeom>
            <a:avLst/>
            <a:gdLst>
              <a:gd name="textAreaLeft" fmla="*/ 20880 w 71640"/>
              <a:gd name="textAreaRight" fmla="*/ 72000 w 71640"/>
              <a:gd name="textAreaTop" fmla="*/ 62640 h 1511280"/>
              <a:gd name="textAreaBottom" fmla="*/ 14486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11:01:34Z</dcterms:created>
  <dc:creator>mfigueroa</dc:creator>
  <dc:description/>
  <dc:language>en-US</dc:language>
  <cp:lastModifiedBy>mfigueroa</cp:lastModifiedBy>
  <dcterms:modified xsi:type="dcterms:W3CDTF">2007-09-12T13:12:29Z</dcterms:modified>
  <cp:revision>15</cp:revision>
  <dc:subject/>
  <dc:title>Diapositiva 1</dc:title>
</cp:coreProperties>
</file>