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1CBA-5120-41BB-B6BD-3E4E9A2B7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95F9-0CAF-43F4-8157-686E0B4E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9DA7-0F7B-45B8-A68A-274E14250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6C50-4698-45AC-B7E2-0EC83279E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BDE8-89FF-4F5D-AEB7-05592C35C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ADF3-D61B-41C2-BE22-ABCBB2AA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2EB9-37DE-460B-9875-95DB7565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4A67-EA48-40C3-8111-267338E1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9BAE-9240-484B-9EBF-F931C88D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4073-47B4-4A18-816F-65340E74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5978-886F-4B7C-B27B-3FCCB70C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4744-66E7-4276-988A-E9E5FC96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3EDB-01EA-4C71-B46B-D00BBFD8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1CBD-4A5D-417A-9507-E298B702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764F-6F9E-4A6E-822D-4CF19619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F40F-9053-4F3C-85AC-8E07784BE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A715-23AE-428B-8A82-98B877345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0E91-9DDF-4D53-8BFE-2FECF800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94B9-249E-444C-87C4-E1FCA3E0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F01D-5CF8-4BE5-B42C-43FEFD14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5EDD-CA90-4B2C-B986-5B0FA953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8631-0F7E-4752-BF8A-2425107A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FB1C-3B4E-4008-BCF4-46002F73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2B89-CDEE-49D9-8AB6-90B6209A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13B7-A378-4826-88FE-950B16E1D0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FBE4-C84F-4D4F-A2AC-561FB8B72F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02200"/>
          </a:xfrm>
          <a:prstGeom prst="rect">
            <a:avLst/>
          </a:prstGeom>
          <a:solidFill>
            <a:srgbClr val="000000"/>
          </a:solidFill>
          <a:ln w="9360">
            <a:solidFill>
              <a:srgbClr val="e9e4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"/>
              </a:rPr>
              <a:t>Siglo XVIII. La Ilustra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.- La dualidad entre Despotismo Ilustrado e Ilustr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.- La convivencia entre Antiguo Régimen y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Modernidad en  gestación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3.- Ilustración: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movimiento cultural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que gesta la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“modernidad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4.- Los rasgos  de la Ilustra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)  Madurez de una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nueva cosmovisión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gestada  desde el siglo XVI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b)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La razón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como Instrumento de comprensión y ordenación de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univers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)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La educación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de la raz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)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La crítica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como forma de análisis de la rea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)  El Universo, un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orden matemá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)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El optimismo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humano frente al futu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f)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Tolera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)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Antibelic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h)  El Humanismo y los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Derechos del Homb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)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El laic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7107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"/>
              </a:rPr>
              <a:t>Derecho e Ilustr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.-  Concepción de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derecho natural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.-  Derecho natural y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raz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3.-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Apriorísmo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etodológ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4.-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Derechos del Hombre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: principios racionalmente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autoevidentes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5.-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El derecho como instrumento de cambio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de la sociedad huma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6.-  El derecho positivo como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construcción sistemática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7.-  La sociedad política basada en el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pacto o contrato social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8.-  El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constitucionalismo y la codificación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: técnicas de positivización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os princip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9.-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La preeminencia de la ley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como fuente del derech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0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La seguridad jurídica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como fin último del sistema jurídico positiv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692280"/>
            <a:ext cx="92203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La  Ilustración es la salida del  hombre  de  la minoría de edad, debida a su propia culp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Minoría de edad  e incapacidad para  servirse,  sin  ser guiado por  otros, de su propia mente. Y  esta minoría de edad es imputable a él mismo porque su causa estriba, no  en una falta de su ment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sino en la falta de decisión y de valor,  del valor  de utilizarla sin ser guiado por nadi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s-ES" sz="2800" spc="-1" strike="noStrike">
                <a:solidFill>
                  <a:srgbClr val="ffffff"/>
                </a:solidFill>
                <a:latin typeface="Tahoma"/>
              </a:rPr>
              <a:t>!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s-ES" sz="2800" spc="-1" strike="noStrike">
                <a:solidFill>
                  <a:srgbClr val="ffffff"/>
                </a:solidFill>
                <a:latin typeface="Tahoma"/>
              </a:rPr>
              <a:t>Sapere aude!  ! Ten el valor de servirte de t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es-ES" sz="2800" spc="-1" strike="noStrike">
                <a:solidFill>
                  <a:srgbClr val="ffffff"/>
                </a:solidFill>
                <a:latin typeface="Tahoma"/>
              </a:rPr>
              <a:t>propia mente!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Ese es el fundamento  de   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Ilustració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E. K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113400" y="-115920"/>
            <a:ext cx="444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¿Qué es la Ilustració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0:12:09Z</dcterms:created>
  <dc:creator>mfigueroa</dc:creator>
  <dc:description/>
  <dc:language>en-US</dc:language>
  <cp:lastModifiedBy>derecho</cp:lastModifiedBy>
  <dcterms:modified xsi:type="dcterms:W3CDTF">2007-09-26T15:05:23Z</dcterms:modified>
  <cp:revision>6</cp:revision>
  <dc:subject/>
  <dc:title>Diapositiva 1</dc:title>
</cp:coreProperties>
</file>