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13D34-2E9D-47E1-85EC-63681AD2A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E026F-A7AB-4292-9710-3945E180D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360C7-900B-43D5-8BEF-D0BD2B363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B2E3F-6307-46D1-9DE9-B2BE4DF32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198384-8BF7-45FF-A598-77A8DD0C18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15CA2-9371-428C-97F1-2BCA779EE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7BB26-7ED7-4AE4-885E-81CBA6262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3E121-59D2-4B32-9119-68A167C2E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8D158-864A-4D5E-876C-E3DB70C42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C947F-3B76-4596-BA8D-C657D1FD3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45AD6-4969-4B47-A840-A9CAD7BF0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8F4C3-BDCB-4408-B7EF-3AD3AC9E3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DFD93-C6CE-4AA7-BE9D-2DC91E176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CBFBA-794C-408C-B234-DEECC64CD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2C981-4A15-43CA-9E54-7ED289638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F9156F-0A55-4E3C-95D8-B843CF4E0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064955-B516-4F24-9B77-C6C15B6FCF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4CB9A-806F-4AA0-9113-55A6FDE8E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38045-A562-42EC-A7D3-615A641A5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ACEAE-149D-4787-A344-177523E61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50294-1B7C-486E-BD5C-D306A1F67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A67B5-32CF-4E00-B6C2-BC6403C4A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EB313-3D3C-4499-A51D-30138C138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49951-596A-4B5E-B638-E5B31304D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100000"/>
                </a:gs>
                <a:gs pos="100000">
                  <a:srgbClr val="0f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1331C-76B6-4CD5-8A95-9FF149AA0A60}"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100000"/>
                </a:gs>
                <a:gs pos="100000">
                  <a:srgbClr val="0d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10CD1-140D-4763-927A-B6FFB8C0F60B}"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lick to edit the title text format</a:t>
            </a:r>
            <a:endParaRPr b="0" lang="en-US" sz="5400" spc="-1" strike="noStrike">
              <a:solidFill>
                <a:srgbClr val="ff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econd Outline Level</a:t>
            </a:r>
            <a:endParaRPr b="0" lang="en-US" sz="2800" spc="-1" strike="noStrike">
              <a:solidFill>
                <a:srgbClr val="ffcc00"/>
              </a:solidFill>
              <a:latin typeface="Tahoma"/>
            </a:endParaRPr>
          </a:p>
          <a:p>
            <a:pPr lvl="2" marL="914400" algn="ctr">
              <a:spcBef>
                <a:spcPts val="601"/>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Third Outline Level</a:t>
            </a:r>
            <a:endParaRPr b="0" lang="en-US" sz="2400" spc="-1" strike="noStrike">
              <a:solidFill>
                <a:srgbClr val="ffcc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urth Outline Level</a:t>
            </a:r>
            <a:endParaRPr b="0" lang="en-US" sz="2000" spc="-1" strike="noStrike">
              <a:solidFill>
                <a:srgbClr val="ffcc00"/>
              </a:solidFill>
              <a:latin typeface="Tahoma"/>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ifth Outline Level</a:t>
            </a:r>
            <a:endParaRPr b="0" lang="en-US" sz="2000" spc="-1" strike="noStrike">
              <a:solidFill>
                <a:srgbClr val="ffcc00"/>
              </a:solidFill>
              <a:latin typeface="Tahoma"/>
            </a:endParaRPr>
          </a:p>
          <a:p>
            <a:pPr lvl="5"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ixth Outline Level</a:t>
            </a:r>
            <a:endParaRPr b="0" lang="en-US" sz="2000" spc="-1" strike="noStrike">
              <a:solidFill>
                <a:srgbClr val="ffcc00"/>
              </a:solidFill>
              <a:latin typeface="Tahoma"/>
            </a:endParaRPr>
          </a:p>
          <a:p>
            <a:pPr lvl="6"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eventh Outline Level</a:t>
            </a:r>
            <a:endParaRPr b="0" lang="en-US" sz="2000" spc="-1" strike="noStrike">
              <a:solidFill>
                <a:srgbClr val="ffcc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Arial"/>
                <a:ea typeface="Times New Roman"/>
              </a:rPr>
              <a:t>Plan de prevención y erradicación del trabajo infantil y adolescente en Chile. Aplicación y eficacia.</a:t>
            </a:r>
            <a:br>
              <a:rPr sz="4800"/>
            </a:br>
            <a:r>
              <a:rPr b="0" lang="en-U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0" name=""/>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Interrogan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Objetivo General</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Hipótesis</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Título</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6" name=""/>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graphicFrame>
        <p:nvGraphicFramePr>
          <p:cNvPr id="97" name=""/>
          <p:cNvGraphicFramePr/>
          <p:nvPr/>
        </p:nvGraphicFramePr>
        <p:xfrm>
          <a:off x="684360" y="1844640"/>
          <a:ext cx="7772400" cy="481032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Pregunt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Objetivos específic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Contenid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2800" spc="-1" strike="noStrike">
                <a:solidFill>
                  <a:srgbClr val="ffffff"/>
                </a:solidFill>
                <a:latin typeface="Tahoma"/>
              </a:rPr>
              <a:t>Matriz de operacionalización de las variables</a:t>
            </a:r>
            <a:endParaRPr b="0" lang="en-US" sz="2800" spc="-1" strike="noStrike">
              <a:solidFill>
                <a:srgbClr val="ffcc00"/>
              </a:solidFill>
              <a:latin typeface="Arial"/>
            </a:endParaRPr>
          </a:p>
        </p:txBody>
      </p:sp>
      <p:graphicFrame>
        <p:nvGraphicFramePr>
          <p:cNvPr id="99" name=""/>
          <p:cNvGraphicFramePr/>
          <p:nvPr/>
        </p:nvGraphicFramePr>
        <p:xfrm>
          <a:off x="685800" y="1981080"/>
          <a:ext cx="8062920" cy="3345120"/>
        </p:xfrm>
        <a:graphic>
          <a:graphicData uri="http://schemas.openxmlformats.org/drawingml/2006/table">
            <a:tbl>
              <a:tblPr/>
              <a:tblGrid>
                <a:gridCol w="1943280"/>
                <a:gridCol w="2087280"/>
                <a:gridCol w="2232000"/>
                <a:gridCol w="1800360"/>
              </a:tblGrid>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Hipótesi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Variabl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dicador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Fuent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In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Altos índices de trabajo infantil y adolesc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Ineficacia del Plan </a:t>
                      </a:r>
                      <a:r>
                        <a:rPr b="0" lang="en-U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 sobre el trabajo infantil en Chile</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Reformas legales promovidas para el desarrollo del Plan </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Tex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Investigacione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Documen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Material de Internet</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n-U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lIns="90000" rIns="90000" tIns="46800" bIns="46800"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Usuario</cp:lastModifiedBy>
  <dcterms:modified xsi:type="dcterms:W3CDTF">2007-08-20T16:18:52Z</dcterms:modified>
  <cp:revision>20</cp:revision>
  <dc:subject/>
  <dc:title>MATRIZ 1</dc:title>
</cp:coreProperties>
</file>