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0A9-A532-4FF4-A95D-F5C0B189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D69B-7E08-4D46-AA67-ACABC4F8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FAC-1E16-4EA6-B45A-340C7D76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260-5D32-4469-9990-82931AA1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7B5-1BF6-4C4C-8965-A337AEF5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722F-A94C-4B91-8628-F6606A50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2189-7935-4F3A-A02E-687D57C4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777-DFEA-45B0-8E69-9128702E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3586-9F42-45EC-A3EB-021C3D88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810-472A-4AE7-AAD2-96E63208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BDA-A03A-4BC5-B332-EDBD3A04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4FD-6F1D-417E-BF2C-44F3538F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4CA7-D072-4473-B8E3-5D29EFE0E7E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Economía cer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El efecto de las mayores tasas sobre C e I se cono ce como efecto crowding out o expulsión, porque el aumento del gasto público expulsa gasto privad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Qué pasa con el nivel de equilibrio del producto y de los precio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R. Depende de la forma de la curva de OA y en última instancia, del supuesto sobre flexibilidad de salari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s efectos de un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ducción de impuest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obre la DA son los mismos que causa una expansión de 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n embargo, menores impuestos también pueden tener efectos positivos sobre la oferta, estimulando el empleo y la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umento de 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duce un exceso de oferta de din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familias convierten su exceso de dinero en bonos (ahorran) haciendo caer las tasas de interé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 caída en i, aumenta C e I, causando un aumento de la D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evamente, los efectos sobre el producto y los precios dependen del supuesto de O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Times New Roman"/>
              </a:rPr>
              <a:t>Qué pasa en el caso clás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A medida que P sube (OA inelástica) los saldos reales disminuyen, revirtiendo el aumento inicial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Es decir, de acuerdo al enfoque clásico, en el equilibrio final, el nivel de producto no ha variado y los precios suben en igual proporción que el aumento de M. M/P, i, también invariab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Ver casos especiales y otros tópicos en L&amp;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Economía cer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2628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FOQUE IS-LM Y LA DEMANDA AGREGA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n esta sección estudiaremos como las políticas macroeconómicas afectan la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demanda agregada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y por lo tanto, el producto y el emple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abemos que Qd = C + I + 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demás, el consumo es una función decreciente de la tasa de interés, creciente del ingreso disponible corriente y esperad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 decir, C = C (i, Q-T, (Q-T)</a:t>
            </a:r>
            <a:r>
              <a:rPr b="0" lang="es-ES" sz="25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Por su parte, la inversión también es una función inversa de la tasa de interés, pero además depende positivamente de la PMgK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I = I ( i, PMgK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sí, la DA se puede expresar com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Qd = C (i, Q-T, (Q-T)</a:t>
            </a:r>
            <a:r>
              <a:rPr b="0" lang="es-ES" sz="25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) + I ( i, PMgK) + 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a forma útil de derivar la curva de demanda agregada y visualizar los efectos de las PM es el modelo IS-LM  (1937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 curva 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versión-ahorro) relaciona el nivel de demanda agregada con el nivel de tasa de interés, manteniendo fijas otras variabl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o sabemos, un aumento de la tasa de interés deprime la DA por sus efectos sobre el consumo y la invers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 representar gráficamente esta relación encontramos una curva con pendiente negativa conocida como 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variables que mantuvimos constante determinan la posición de la I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Así, la IS se desplaza a la derecha si aumenta G, o el ingreso disponible o la PMg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La curva L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determinar la tasa de interés, debemos considerar el mercado monetari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odemos expresar el equilibrio del mercado monetario de la siguiente form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M/P = L(i, Qd); es decir, la oferta de saldos reales (M/P) es igual a la demanda por saldos reales de dinero, dada por L(i, Qd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La curva LM muestra las combinaciones de demanda agregada y tasa de interés consistentes con el 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Times New Roman"/>
              </a:rPr>
              <a:t>equilibrio del mercado monetario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, para un nivel dado de M/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 curva LM tiene pendiente positiva (¿por qué?) y su posición depende del valor de M/P en la economí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 equilibrio IS-L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graficado para G, T, M y P dado) determina el único par de tasa de interés y demanda de producto, para los cuales el mercado de bienes y el mercado monetario están simultáneamente en equilibri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ve es recordar que para determinar el nivel de precios y de producto de la economía, debemos combinar la curva de DA (que se deriva de IS-LM) con la curva de OA (derivada las clases previas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derivar la curva de DA a partir de este modelo, debemos preguntarnos qué sucede si cambia P (recordemos que la DA muestra la relación existente entre Qd y P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 sube P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, la IS no se modifica, pero M/P disminuye, generándose un exceso de demanda por din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restablecer el equilibrio en este mercado, se requiere (i) un aumento de tasas de interés, (ii) una menor demanda de bienes y servicios o una combinación de ambo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Vemos gráficamente que se produce ambos efectos, obteniéndose la curva de 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 aumento del gasto fiscal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a reducción de impuesto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 incremento de la oferta monetari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 el gobierno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umenta el gast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para una tasa de interés dada, aumenta la demanda de bienes desplazando la IS a la derech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 la tasa de interés no cambia, el incremento de la actividad produce un exceso de demanda por saldos monetarios re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familias cambian sus ahorros (bonos) por dinero, es decir, reducen su ahorro haciendo subir la tasa de interé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 aumento de i, permite reducir el exceso de demanda por dinero y a la vez reduce el consumo y la inversión privad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0:41:57Z</dcterms:created>
  <dc:creator>Hermann </dc:creator>
  <dc:description/>
  <dc:language>en-US</dc:language>
  <cp:lastModifiedBy>BCCH</cp:lastModifiedBy>
  <dcterms:modified xsi:type="dcterms:W3CDTF">2007-11-08T17:55:52Z</dcterms:modified>
  <cp:revision>15</cp:revision>
  <dc:subject/>
  <dc:title>IS-LM</dc:title>
</cp:coreProperties>
</file>