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7015-412C-4998-91D3-35CA9339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E702-FEFA-4B88-9E07-AF2188DA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8187-A7CE-4C0E-9DB7-3DA287B0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EB68-E15B-4952-9BF3-58F86591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230D-8277-4AB5-849C-F67DB462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857-A9DF-408F-BC7B-B7366794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819-B542-41EE-ACA2-9C28C33B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810B-B8BD-430F-A621-308460BD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ED46-8AC1-497A-A695-644F0A00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4116-61D2-452A-95D5-EF0AA40F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CAF4-2DDD-4FCB-BA80-98478E9E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B55D-8E54-4E88-A9BC-605569EC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7244-8479-424E-A93B-3F4348B62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-11160" y="4680"/>
          <a:ext cx="916632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60" y="4680"/>
                    <a:ext cx="9166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Recaudación 1989-2006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en millones de p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923760" y="1989000"/>
          <a:ext cx="7296480" cy="41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89000"/>
                    <a:ext cx="729648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Recaudación 1989-2006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como % del P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19080" y="2060640"/>
          <a:ext cx="7305840" cy="41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9080" y="2060640"/>
                    <a:ext cx="730584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23760" y="1989000"/>
          <a:ext cx="7296480" cy="41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89000"/>
                    <a:ext cx="729648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23760" y="1916280"/>
          <a:ext cx="7296480" cy="41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16280"/>
                    <a:ext cx="729648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23760" y="1916280"/>
          <a:ext cx="7296480" cy="41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16280"/>
                    <a:ext cx="729648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19:20:54Z</dcterms:created>
  <dc:creator> Rodrigo Rojas</dc:creator>
  <dc:description/>
  <dc:language>en-US</dc:language>
  <cp:lastModifiedBy>s</cp:lastModifiedBy>
  <dcterms:modified xsi:type="dcterms:W3CDTF">2007-08-01T14:55:19Z</dcterms:modified>
  <cp:revision>7</cp:revision>
  <dc:subject/>
  <dc:title>Diapositiva 1</dc:title>
</cp:coreProperties>
</file>