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288588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E583-02FE-4461-9A80-F47B7527F488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3160-7ADC-4BAD-A49B-6372DFAF78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Img"/>
          </p:nvPr>
        </p:nvSpPr>
        <p:spPr>
          <a:xfrm>
            <a:off x="637920" y="415440"/>
            <a:ext cx="55846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204B-3264-4CB6-BEC0-C858F5F8BB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726B-C0AB-4108-96B9-07CFF20306DB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C29F-7A43-422F-960F-49FCBE7BD1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607-AF7C-48AE-BDF6-5B14348B6DC6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7B12-615A-40EE-8E11-A1AD66B9A6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9F6A-A99A-4900-A0DF-97C829065FAE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A08A-A36C-48B1-B781-261AEC4D76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E5F7-97BE-48DF-AE5A-834C744E3E1A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F868-051F-490A-BD71-F66E40BEF3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EBA7-15D6-4427-BD77-7F77E4D28B5E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92C-13FA-4C0A-8F3C-C29EDF1A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E12-6DD5-4F50-9B8D-96CFDDD4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F4A-6BCE-42A8-BA63-5B5DEA12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54A-36F6-449E-9C5D-FE81C028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9D01-0C7E-44B9-B9FB-27CE8FEC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E1C4-57BC-40CB-87F7-64AD1740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A82E-7154-48D1-A59E-0ABCEEFA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46E-E2CA-4327-8143-53C54BCC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1293-515C-4D93-B184-E35BEF46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DC89-AB73-4F0C-8BEE-C4B915E2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4AF6-2BB9-43B0-A1D9-B19A0E7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F6F-FFA9-4749-9ABE-12BDFFEA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44D3-865A-4026-A80B-EF7E36F0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04D8-613C-4A38-9F7D-115F49A8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98E3-6575-445A-9BE3-75F392D7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86B1-1639-4F12-A7E1-A84E1825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7F2E-AE9E-48F2-9BBF-9E9B9DB2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372-FEAE-4EE1-ACD4-EA1E2E17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F6E-5EC1-49E8-994A-4BC91750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A54-4873-4346-B075-4199BB8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0D4-A424-4E4A-B130-138E03E7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329-FAD7-49BC-AC95-F3A5ABE5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C01-8876-49F4-AF33-8A704926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607-8586-4E13-96C5-72BD018C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1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C68E-5D1A-41EA-A69A-18246E24E484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5DF2-7228-48A1-A1EB-24755C90CD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77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129C-B952-4EC6-B4A8-C9AD80A5BA48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771120" y="1767960"/>
            <a:ext cx="8744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5525-DD08-42DF-A616-7FE0A18A21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080" y="8377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dbbd71"/>
                </a:solidFill>
                <a:latin typeface="Book Antiqua"/>
              </a:rPr>
              <a:t>Derecho Tributar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95080" y="4876920"/>
            <a:ext cx="7296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Segundo Semestre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43828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88D-751B-4F2D-A186-BFABA269C8A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D39D4-04DF-44CF-8E2C-23253DECDF42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990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omparación Tasa y Preci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2590920"/>
            <a:ext cx="45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Oblig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Monop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Subsi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3320" y="2590560"/>
            <a:ext cx="4552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olu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Libre ofe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Ut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927-6C49-4AC0-ADD1-B89D6D6193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67A32-4DB6-4D4F-AE71-D6A2D5658877}" type="datetime1">
              <a:rPr lang="en-US"/>
              <a:t>07/30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76240" y="699480"/>
            <a:ext cx="79250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Norma: Decreto Supremo N° 109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 EXENT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echa Publicación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8.02.2005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Organismo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MINISTERIO DE 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AGRICULTURA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IJA TARIFA POR LA INSPECCION Y CERTIFICACION DE PRODUCTOS FORESTALES DE EXPORTACION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Santiago, 22 de Febrero de 2005.- Hoy se decretó lo que sigue: Núm. 109 exento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isto: El artículo 6º del DFL Nº 294 de 1960; lo establecido en artículo 7º letra ñ) de la ley Nº 18.755, Orgánica del Servicio Agrícola y Ganadero, modificada por la ley Nº 19.283, el Nº 16 del decreto Nº 186, de 1994, del Ministerio de Agricultura; el decreto Nº 19, de 2001, del Ministerio Secretaría General de la Presidencia y el artículo 32, Nº 8, y 35 de la Constitución Política de la República,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ecreto: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1º Fíjanse las siguientes tarifas a ser aplicadas en las labores de inspección y certificación de productos forestales de export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Rollizos, maderas aserradas   y aserrables, por metro cúbico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stillas y madera elaborada,   por tonelada 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ara de coligüe, por cada muestra de 300 uds que ampara un lote de 6000 unidades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) Tejuelas de madera y otros productos forestales elaborados no incluidos en lo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tipos anteriores, por    hora de inspección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º Las tarifas señaladas en el presente decreto y los valores aplicables no incluyen el valor de los servicios de laboratorio que deban efectuarse, ni el costo de las horas extraordinarias habilitadas a cobrar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3º El presente decreto regirá a contar del primer día del mes siguiente al de su publicación en el Diario Oficial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nótese, comuníquese y publíquese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Por orden del Presidente de la República, Arturo Barrera Miranda, Ministro de Agricultura (S).- María Eugenia Wagner Brizzi, Ministra de Hacienda (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0C0-C9AB-4AC3-8036-BCD143E9BDC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D9132-22D1-4175-9D5C-8CD26F3F4045}" type="datetime1">
              <a:rPr lang="en-US"/>
              <a:t>07/30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br>
              <a:rPr sz="3600"/>
            </a:b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Definicion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2520" y="2285640"/>
            <a:ext cx="9201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jurídico en virtud del cual, un sujeto debe dar a otro, que actúa ejercitando el poder tributario, una suma de dinero que se determina por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de carácter personal que surge entre el Estado u otros entes públicos y, los sujetos pasivos en cuanto en cuanto ocurre el presupuesto de hecho previsto en la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593-D44E-4AD2-9E7F-221FB5D54D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C67E3-70EA-489F-89C8-201FE3EF85A1}" type="datetime1">
              <a:rPr lang="en-US"/>
              <a:t>07/30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785680" y="1143000"/>
            <a:ext cx="471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Ele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Vinculo Jurí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Fuente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Acaecimiento de un hecho gra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Obligación principal: Pago de suma de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BE9-2E6C-4E2C-B14E-E87DC0995EA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EBE91-74F4-4429-8468-D11B1E26EFBD}" type="datetime1">
              <a:rPr lang="en-US"/>
              <a:t>07/30/26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Sujetos y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Sujet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Activo (Esta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asivo (Contribuyente, Agente retenedor, tercero respons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Hecho Gravado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Conjunto de circunstancias hipotéticamente previstas en la norma, cuya realización provoca el nacimiento de la obligación tributaria concreta. (Afecto, Exento, No afect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Deveng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A2C-7CC4-4785-9038-DFB7B7F16ABC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962F7-7DDE-4C33-9E86-84445AEBE4FF}" type="datetime1">
              <a:rPr lang="en-US"/>
              <a:t>07/30/26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Base Imponible y 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Base Imponible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uantificación del hecho gravado. Cifra sobre la cual se aplica la tasa. Real o Presu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Porcentaje que se aplica a la base. Proporcional, Progresiva, Fija, etc. (Ejemp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réditos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contra la Base o contra 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Exenciones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DFC-9B0E-4C52-8C09-81C8ECF4EE0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A68E3-DAA8-4434-8575-643AB940EBFE}" type="datetime1">
              <a:rPr lang="en-US"/>
              <a:t>07/30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Determ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io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utoridad tributaria (S.I.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326-E706-48A2-AE3E-413BCCDB84FB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55A7F-B62C-4109-B8A7-4FB2E9CFFD81}" type="datetime1">
              <a:rPr lang="en-US"/>
              <a:t>07/30/26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Exti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ago o 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scri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ompensación o impu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572-176A-4F51-96F3-56350A100A0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BF381-1B2B-4B45-873B-64E762FB2530}" type="datetime1">
              <a:rPr lang="en-US"/>
              <a:t>07/30/26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87360" y="11430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Limites al Poder Tribu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1160" y="27432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C71-5F94-46AA-BF64-1EA43E91B74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7A682-9C1E-4665-A6D1-78C494F30DCC}" type="datetime1">
              <a:rPr lang="en-US"/>
              <a:t>07/30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0160" y="1937520"/>
            <a:ext cx="862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: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2 Las que la Constitución exija que sean reguladas por una ley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14: Las demás que la Constitución señale como leyes de iniciativa exclusiva del Presidente de la Repúbl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2°: “Las leyes sobre tributos de cualquiera naturaleza que sean, sobre los presupuestos de la administración pública y sobre reclutamiento, sólo pueden tener origen en la Cámara de Diputad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4° N° 1: “Corresponderá, asimismo, al Presidente de la República, la iniciativa exclusiva para: 1° Imponer, suprimir, reducir o condonar tributos de cualquier clase o naturaleza, establecer exenciones o modificar las existentes y determinar su forma, proporcionalidad o progresió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6D6-B4FA-47C2-BC1F-FCD4F6469F67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BA427-F233-48FF-A33D-E9E0B65856F2}" type="datetime1">
              <a:rPr lang="en-US"/>
              <a:t>07/30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967200" y="2681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l bobtail, que en castellano significa "cola mocha" o "cola corta", debe su nombre a un hecho que sucedió hace doscientos años. Dado que el rey Guillermo I había establecido un impuesto sobre los perros de caza, que tenían todos la cola larga, los pastores, que utilizaban a sus perros de rebaño también para ir a cazar jabalíes, empezaron a cortar la cola a los cachorros recién nacidos, con el fin de no tener que pagar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00440" y="838080"/>
            <a:ext cx="28861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EBA-C24D-4B5F-9FAD-4271ED7A940F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A63A1-B05E-45BD-8357-3A6FD67137DF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0160" y="2360520"/>
            <a:ext cx="86266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de los tributos en proporción a las rentas o en la progresión o forma que fije la ley, y la igual repartición de las demás cargas públ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En ningún caso la ley podrá establecer tributos manifiestamente desproporcionados o inju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4D6-500E-4CF5-BDA4-E0F4C4E993F3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2D4C2-B692-47DC-9EC8-E2D084647D08}" type="datetime1">
              <a:rPr lang="en-US"/>
              <a:t>07/30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5240" y="23612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1591920"/>
            <a:ext cx="923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5240" y="2971800"/>
            <a:ext cx="76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2º La no discriminación arbitraria en el trato que deben dar el Estado y sus organismos en materia económ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Sólo en virtud de una ley, y siempre que no signifique tal discriminación se podrán autorizar determinados beneficios directos o indirectos a favor de algún sector, actividad o zona geográfica, o establecer gravámenes especiales que afecten a uno u otras. En el caso de las franquicias o beneficios indirectos, la estimación del costo de éstos deberá incluirse anualmente en la Ley de Presupue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1560" y="91440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B22-6A16-45AF-AA25-80DC22ADA897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18EA5-D951-42C0-A4C4-6B0083679022}" type="datetime1">
              <a:rPr lang="en-US"/>
              <a:t>07/30/26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4080" y="2057400"/>
            <a:ext cx="912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……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Los tributos que se recauden, cualquiera que sea su naturaleza ingresaran al patrimonio de la Nación y no podrán estar afectos a un destino determin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Sin embargo, la ley podrá autorizar que determinados tributos puedan estar afectados a fines propios de la defensa nacional. Asimismo, podrá autorizar que los que gravan actividades o bienes que tengan una clara identificación regional o local puedan ser aplicados, dentro de los marcos que la misma ley señale, por las autoridades regionales o comunales para el financiamiento de obras de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910-FE90-4FAE-9537-66481B013CE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56362-3D74-4E2D-9FE5-04D51886D129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15880" y="2818440"/>
            <a:ext cx="74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6280" y="3580200"/>
            <a:ext cx="75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4º El derecho de propiedad en sus diversas especies sobre toda clase de bienes corporales o incorp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2B6-3178-49AE-A91A-030B3AF84C7F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C42FE-4CB0-4225-8F19-E460C1B351B7}" type="datetime1">
              <a:rPr lang="en-US"/>
              <a:t>07/30/2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2240" y="26661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1240" y="3427920"/>
            <a:ext cx="826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6º La seguridad de que los preceptos legales que por mandato de la Constitución regulen o complementen las garantías que ésta establece o que las limiten en los casos en que ella lo autoriza, no podrán afectar los derechos en su esencia, ni imponer condiciones, tributos o requisitos que impidan su libre ejerc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87F-779A-4CFC-9B63-7C99A822BD1A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65BDF-69CF-4D15-8C97-A00F81BE5329}" type="datetime1">
              <a:rPr lang="en-US"/>
              <a:t>07/30/26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8680" y="1371600"/>
            <a:ext cx="7648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Potestad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se orig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 qué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funci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74E-2265-47EF-B810-D41C65E709B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BDBB3-7F7B-431C-87DF-294BAA1E553D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71120" y="1028520"/>
            <a:ext cx="874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Orig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Abstr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Perma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ndeleg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rrenunc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mprescrip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Limitaciones territoriales y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489-AED3-4622-99DF-3792A20FE54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7E53A-C0C7-4DC9-8522-E2857F4FF451}" type="datetime1">
              <a:rPr lang="en-US"/>
              <a:t>07/30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80" y="2514240"/>
            <a:ext cx="925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quella prestación obligatoria, comúnmente en dinero, exigida por el Estado en ejercicio de su poder de imperio, en virtud de una ley, para atender sus necesidades y cumplir sus fines públicos, económicos y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981-3B4A-499C-BEE8-48B6DCEF89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D666E-9636-491D-8BA5-26896DA4F1C7}" type="datetime1">
              <a:rPr lang="en-US"/>
              <a:t>07/30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6091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lasificació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4520" y="1980720"/>
            <a:ext cx="7077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Internos y Ex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irectos e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iscales y Muni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ales y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ermanentes y Transi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orcionales, progresivos y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tención y de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4AE-96DA-4775-8AE5-690983E1D4D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5CB20-7656-4E99-A792-3629D049D7BF}" type="datetime1">
              <a:rPr lang="en-US"/>
              <a:t>07/30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3344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DB8-0442-4F09-8FEB-0B651292CD3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86833-1B8A-46E1-AED1-A9487A005395}" type="datetime1">
              <a:rPr lang="en-US"/>
              <a:t>07/30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9760" y="503280"/>
            <a:ext cx="746748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1DE-6DAE-4743-84BF-C5A975E30F0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F520D-AD08-4D30-B1E6-E21601967ABC}" type="datetime1">
              <a:rPr lang="en-US"/>
              <a:t>07/30/26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7617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ipos de 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23600" y="2286000"/>
            <a:ext cx="5239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tribu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B76-A786-4A1D-B981-8FD9A1EFB2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1A2DF-E9A5-4F2D-8A5F-C465E96B1395}" type="datetime1">
              <a:rPr lang="en-US"/>
              <a:t>07/30/2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1:59:30Z</dcterms:created>
  <dc:creator>dale tincher</dc:creator>
  <dc:description/>
  <dc:language>en-US</dc:language>
  <cp:lastModifiedBy> Rodrigo Rojas</cp:lastModifiedBy>
  <cp:lastPrinted>1999-12-01T16:13:34Z</cp:lastPrinted>
  <dcterms:modified xsi:type="dcterms:W3CDTF">2007-08-02T15:42:52Z</dcterms:modified>
  <cp:revision>180</cp:revision>
  <dc:subject/>
  <dc:title>Using PowerPoint - For Lawyers - VA CLE Course by Dale Tincher Consultwebs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etsmartinc.com</vt:lpwstr>
  </property>
  <property fmtid="{D5CDD505-2E9C-101B-9397-08002B2CF9AE}" pid="9" name="LinkColor">
    <vt:r8>16711782</vt:r8>
  </property>
  <property fmtid="{D5CDD505-2E9C-101B-9397-08002B2CF9AE}" pid="10" name="MailAddress">
    <vt:lpwstr>dtincher@netsmartinc.com</vt:lpwstr>
  </property>
  <property fmtid="{D5CDD505-2E9C-101B-9397-08002B2CF9AE}" pid="11" name="NavBtnPos">
    <vt:r8>3</vt:r8>
  </property>
  <property fmtid="{D5CDD505-2E9C-101B-9397-08002B2CF9AE}" pid="12" name="Other">
    <vt:lpwstr>Phone: 919-272-8052</vt:lpwstr>
  </property>
  <property fmtid="{D5CDD505-2E9C-101B-9397-08002B2CF9AE}" pid="13" name="OutputDir">
    <vt:lpwstr>E:\NCBA Presentations - PPT and 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