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C76-1CF3-4A32-B6C3-170F9443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ACB-AC0E-424E-AEB5-FE2B9D00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67A-6D36-4881-9E08-B386A06F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54B-1AAB-4DCD-9A94-EDB1E346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D91-16BD-4959-B8EE-529E7C75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AE8A-5058-4747-8462-E967D4A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563-EDC7-439A-945B-35BDFF67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EFE4-C83D-492A-A748-47ACE68B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C11E-CD16-41EB-814B-FD772206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4957-A736-4695-987F-7D2401C2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CA8D-8BD1-48E9-83F5-63727AF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2D3-46C5-4866-BBA8-E43A203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5306-473C-4698-9A33-35C4183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969A-2C74-4606-A1C2-5B9B78C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26FC-5686-4293-B25D-13812D27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F3E7-FB48-4340-8EB1-6B07ABC6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B502-0E99-4963-849F-61D140EC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CB8-9C64-407B-ACF2-B123B30E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A10-6E11-468A-A704-69AD86A7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B4D-7337-4EE5-9C91-D24BAB9D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818-E551-4323-ADF7-D0D4D32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17A-C339-47DB-8027-66FAA3CA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AF0-4FAB-41E3-91F2-65A48F0E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CFD-E9D0-44FB-A9E2-3F72CCB7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989-83A8-4942-B398-56B5E4553B9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86C3-8E9C-46AE-B952-A55238801E8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 Rodrigo Rojas</cp:lastModifiedBy>
  <dcterms:modified xsi:type="dcterms:W3CDTF">2007-08-28T15:56:09Z</dcterms:modified>
  <cp:revision>618</cp:revision>
  <dc:subject/>
  <dc:title>II. LEY DEL IMPUESTO AL VALOR AGREGADO (IVA)  Aspectos teóricos del Impuesto al  Valor Agregado Estructura General de la Ley</dc:title>
</cp:coreProperties>
</file>