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AFF-8977-4683-8B07-E6FD2DCF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773-6480-4A8B-ACA7-01ED2EDC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96F-9CA2-4228-B34A-144D144C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97B-9362-475D-AE2E-8B107B6D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1982-8486-44FD-97C1-7ABB2044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9F64-1C0D-486B-AC4A-800D6843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BDEA-D57B-495B-A506-CDA8EA0F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7AF2-3046-40DC-9C90-836C6AE5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5A2B-D450-4AAD-B969-21DA92A1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A797-7868-45FF-BB3D-81D81FF6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D100-7E92-4EEB-9C2B-C5B66689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731-F2DD-40ED-9548-A870D875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CA5E-18B7-4D02-B20A-B199EF1F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B8A9-4D89-471E-9163-6CB8781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E0A9-2E2F-4CF7-ABF7-FFDFD8CB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6018-95CF-4337-8D5A-1B4F1AF4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535F-9E1C-42E1-B439-B01DD915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33F-EB4D-43E6-98C9-81C2C6CF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139-9D3B-4EE9-9038-2AEE2EF1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358-F659-4F51-90A6-2F0013C1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91B-B9BE-4538-9105-C40B3F0F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387-BDF9-4FD4-AAAB-DD1B918D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770-C01C-450A-92DA-26CCD84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B9F-6638-44F2-BFEB-C0D68806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A301-4B4B-4D49-969F-9DD6B4C2E8CF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3737-1566-4D65-9969-2A17F1DD27FE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4280" y="574200"/>
            <a:ext cx="67816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0066"/>
                </a:solidFill>
                <a:latin typeface="Century Gothic"/>
              </a:rPr>
              <a:t>DEVENGAMIENTO DEL IV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it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666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misma que realiza el consignata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Remuneración que cobra el consignat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s ventas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efectuadas por 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se encuentra afecta a IVA siempre que recaiga sobre bienes del giro (activo realizable) del mandante (“vende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 IVA por el monto total: ES EL 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 remuneración d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ase imponible: comisión o remune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B.- Anticipos a cuenta del 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recio de ven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Modalidad venta en que se obtienen anticipos del valor de las especies ve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entrega y factura en e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l precio vigente época ent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nticipos no se encuentran afectos a 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Century Gothic"/>
              </a:rPr>
              <a:t>relativos a Inmuebles 2.- Normas especiales – Contratos</a:t>
            </a:r>
            <a:r>
              <a:rPr b="1" lang="es-MX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20574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emitirse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 la respectiva FA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instalación o confección de especialidades a suma alzada o por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ventas o promesas de ventas de Inmue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 de inmuebles con opció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120" y="31392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PERCIBIR 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el precio del contrato o parte de é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confección o instalación de especi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promesas de ventas de inmue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s de inmuebles con opción de comp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 las ventas de inmueb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606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Percibir todo o parte d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205000"/>
            <a:ext cx="1871640" cy="2552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ocurra pri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Oportunidad de emisión facturas en otras transferencias de inmuebl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6291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Apor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Trans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Reti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Ventas de univers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2421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Que comprendan inmue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8006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648320"/>
            <a:ext cx="144792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3.- Norma General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 en servici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2588760"/>
            <a:ext cx="5991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. Fecha emisión factura o boleta,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.- Fecha remuneración se percibe o pone a disposición del prestador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2708280"/>
            <a:ext cx="165600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ocurra 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ón anticipos percibidos antes de la prestación del servic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I: basta que se perciba aunque el servicio no se hubiera prestado (factura por el monto percib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TRIBUNALES SUPERIORES JUST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sencial que se verifique la pr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oleta debe emitirse cuando se haya realizado el servicio y sea pa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</a:t>
            </a: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956960"/>
            <a:ext cx="79549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Momento en que concurren todos los elementos del HECHO GRA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ISCO adquiere desde ese m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ítulo o derecho sobre el monto de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independiente de su exig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5300640"/>
            <a:ext cx="7619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SE DEVENGA EL IMPUESTO CUANDO OCU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L HECHO QUE DA NACIMIENTO A LA OBLIG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4.- Prestación de servic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54072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érmino período fijado para su p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echa emisión factura o bo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cepción o puesta a dis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2276640"/>
            <a:ext cx="1584360" cy="157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5229360"/>
            <a:ext cx="8064360" cy="140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s periódicos: aquellos que se pres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orma permanente, regular o continua, el cobr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ago se efectúa en forma periódica, determi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uministros y servicio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omiciliar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ergía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servicios telef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gua po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lcantaril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5.-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2174760"/>
            <a:ext cx="8064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ículo 9 letra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 devenga impuesto al consum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egalmente la importació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 tramitarse totalmente la im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373720"/>
            <a:ext cx="792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uando mercancías quedan a disposición del interesado para su libre circulación en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6.- Retiros de mercaderí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77240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l ret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respectivo; oportunidad en que deben ser contab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retiros para uso personal socio, dueño, empleado o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faltantes de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bienes corporales muebles destinados a rifas y sorteos con fines    promo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tregas de bienes gratuitamente con mismos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7.- IVA por intereses en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compraventa a Plaz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9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ntereses o reajustes por saldo impago de ventas a plazo devengan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hacerse exi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perc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581280"/>
            <a:ext cx="144468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4100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n exigibles al vencimiento de la respectiva cuota, letra u otro documento que lo contenga, en todo o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iferencias de camb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riginadas en ventas a plazo de bi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rporales muebles: se incluyen en el concepto de reaju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691920"/>
            <a:ext cx="678168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330066"/>
                </a:solidFill>
                <a:latin typeface="Century Gothic"/>
              </a:rPr>
              <a:t>SUJETO DEL IMPUESTO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1.- Regla general sobre el sujeto pasiv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0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648320"/>
            <a:ext cx="62643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RESTADOR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276720"/>
            <a:ext cx="4495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) Al realizar “ventas” de bienes de su pr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roducción o adquiridos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) Al realizar cualquiera de las operaciones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la ley equipara 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stador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a) al realizar hecho gravado básico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b) al realizar hecho gravado especial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858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dquirientes de bienes corporales muebles o servicios cuando el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Century Gothic"/>
              </a:rPr>
              <a:t>SII CAMBIA EL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s adquirientes de bienes corp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muebles cuando 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entury Gothic"/>
              </a:rPr>
              <a:t>vendedores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no tienen domicilio ni residencia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s de devengamien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venta b.c. Mue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bienes corporales inmue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 : servicios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m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ntereses sald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eneficiarios del Servicio cuando person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realiza la prestación reside en el  extran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2.- Aplicación de RG a caso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8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22 Regl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)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6800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5320" y="2916360"/>
            <a:ext cx="3045960" cy="947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mpor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a habitual o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1700280"/>
            <a:ext cx="2629080" cy="340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ersona que int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duce legalment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ercad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xtran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ara su uso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n 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sin residencia en Chil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50036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971800"/>
            <a:ext cx="2438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ujeto Pa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PR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ADQUI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438280"/>
            <a:ext cx="457200" cy="3654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95040 h 3654720"/>
              <a:gd name="textAreaBottom" fmla="*/ 3559680 h 365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205000"/>
            <a:ext cx="30481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i el vende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 tiene resi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n Chile (aun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nserve el domic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c) Adjud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981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 bienes corporales muebles del giro en liquidaciones de soc. o 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3933720"/>
            <a:ext cx="34578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o comuneros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LID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RESPO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tributo por la c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que les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) Aport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2819520"/>
            <a:ext cx="2808360" cy="240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124080"/>
            <a:ext cx="144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l Trib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) Servicios prestador por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ersonas no residentes en Chi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46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819520"/>
            <a:ext cx="2210040" cy="29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BENEFI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205000"/>
            <a:ext cx="2217600" cy="32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restado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resid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x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f) Contratos grales. Construcción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y Conf. e instal. especialidad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7926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1 Letra 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g) Transferencias recíprocas de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domin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792080"/>
            <a:ext cx="3274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h) Operaciones realizadas por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comisionistas y otro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54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rt. 22  Regla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1.- 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9 letra a)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emisión boleta o factura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de entrega real o simbólica de las especies cuando por naturaleza del acto que da origen a la transferencia no se emita boleta o fa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3.- Cambios de Sujeto Pasivo del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Impues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ey faculta al SII para cambiar al sujeto pasivo (art.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ambio del Sujeto Pasivo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cultas del SII es Discrecional (juicio exclusi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l notificarse resolución: Obligación Tributaria: entre el Estado y el compr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80960" y="2247480"/>
            <a:ext cx="7266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Devengamiento queda supeditado a dos hech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misión de boleta o fa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ntrega real o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522936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bviamente: para que se devengue el tributo, deben concurrir todos los elementos del HECHO GRA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8120" y="198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</a:rPr>
              <a:t>Emisión de Documento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 que deben emitirse las BO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 el momento de la entrega real o simbólica de las e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echa en que deben emitirse las FA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ismo momento de entrega real o simbólica de las especies; o A MAS T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treg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Entrega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- vendedor permite al comprador la aprehensión material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trega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vendedor entrega las llaves del l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transfiere el bien a una persona que ya lo tiene por cualquier título no traslaticio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ponen especies a disposición del intere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one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incluyen dentro de las normas generales sobre devengamiento de IVA en venta de bienes corporales mue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.- Entregas en consig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b.- Anticipos a cuenta de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licable a ventas realizadas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signa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martill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.</cp:lastModifiedBy>
  <dcterms:modified xsi:type="dcterms:W3CDTF">2007-04-12T15:40:18Z</dcterms:modified>
  <cp:revision>283</cp:revision>
  <dc:subject/>
  <dc:title>DEVENGAMIENTO DEL IVA</dc:title>
</cp:coreProperties>
</file>