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61B-3FE0-4E7E-B6D0-F3D6E043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A80-B282-4439-9C31-41908DF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B7E-D470-4D3F-9957-56A83D92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DE7-CCFF-4E21-85EA-3C21E4E7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A1C-4785-4631-82C2-601D123C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18D-FB94-4496-9ADC-95E7D771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C42-E20F-48BA-B250-189DED7C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046-8BCB-4254-AEC4-98001D9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546-BEB1-4A72-AB0F-6982210F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EC6-B8D5-41C3-9875-9311A3F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52D-1C5F-4A65-86B7-0BA77CB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AC1-8F0A-4535-BB6B-C3E51AA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8FF-6F06-442F-91DD-0452A493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26920" y="189000"/>
          <a:ext cx="684072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9000"/>
                    <a:ext cx="684072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4:05:16Z</dcterms:created>
  <dc:creator>.</dc:creator>
  <dc:description/>
  <dc:language>en-US</dc:language>
  <cp:lastModifiedBy>.</cp:lastModifiedBy>
  <dcterms:modified xsi:type="dcterms:W3CDTF">2007-04-04T14:15:17Z</dcterms:modified>
  <cp:revision>2</cp:revision>
  <dc:subject/>
  <dc:title>Diapositiva 1</dc:title>
</cp:coreProperties>
</file>