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591-1FF0-4557-9D59-73D678B4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150-D016-455B-9299-00DB162A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E85-5BC2-4C5D-B812-126D5C49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011-E1D7-4C21-A2AC-90AFD42A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E1C-E39B-41C6-B1C0-04D1FF7E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F41-B5A4-42E1-9D00-3CCB1457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5FE-8ECB-44D3-A61C-9F961D82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EB8-C0C2-4E7B-8DFB-E7A0D6DF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FD4-3B1A-44FB-8D15-67FCA8F6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846-7454-45D9-BE4D-89E2A93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3EE-F2EC-4D59-B2DE-BBF65CB7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041-B1A8-4BF2-9818-1956E8EF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C206-8DD1-458A-A186-445EAEE608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4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4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5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5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7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8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9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45" idx="1"/>
            <a:endCxn id="58" idx="1"/>
          </p:cNvCxnSpPr>
          <p:nvPr/>
        </p:nvCxnSpPr>
        <p:spPr>
          <a:xfrm rot="10800000">
            <a:off x="496080" y="2120400"/>
            <a:ext cx="360" cy="1725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 Rodrigo Rojas</cp:lastModifiedBy>
  <dcterms:modified xsi:type="dcterms:W3CDTF">2007-03-05T15:37:51Z</dcterms:modified>
  <cp:revision>20</cp:revision>
  <dc:subject/>
  <dc:title>Diapositiva 1</dc:title>
</cp:coreProperties>
</file>