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F151-873C-4D86-B3A3-BCD186F0CFC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bjetivo de la N es que el subsidio cubra eficientemente el Eº de Neces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SPUES DE CONVENI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lo tanto, toda licencia de hasta 10 días tendrá un período de carencia de 3, y se comenzarán a pagar com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º día desde el día 4 de la respectiva licenci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 4 dias de lic, se paga sólo 1.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TRÓ: debe entenderse como sinónimo de "Solicit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HS: asociacion Chilena de Seguridad- CCHC: Mutual de Seguridad, IST: Instituto de Seguridad d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 MED:  atencion medica, quirurgica y dental, hospitalizaciones, medicamentos, gastos de traslado, prótesi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ECOº licencia médica, I.P., pension en caso de invalidez (pension parcial o total), asignacion por muerte y pensiones de superviv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PREV: actividades de prevencion en los lugares de trabajo y hacia los trabajadores (Comités Paritarios, Departamento Prevencion de Riesgos, otr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los riesgos de la cap del w pueden agruparse 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 estado de anormalidad  (patológica) motivada por lesiones de tipo agudas o crónicas, que no constituyen fenómenos naturales, son una multiplicidad de enferme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F: son inherentes al ser humano, siendo en consecuencia fenómenos naturales como la maternidad, vejez o muer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rof: aquellos que se producen en el lugar de trabajo. Se distinguen 2 tipos: accidente del trabajo (repentinos y a consecuencia o con ocasión del trabajo) y enfermedades profesionales ( de gestacion lenta e inherente al desarrollo del trabaj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BSIDIO LABORAL:  Nacieron en Chile en 1924 con los Seguros Sociales Obreros, siendo el 1º país americano que tuvo su propia ley de “Seguro Obligatorio”. Se entiende que el concepto nacio de la ecuacion entre: SALUD- CAP DE W- CAP DE GANAR- SUBSISTENCIA.</a:t>
            </a: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ON:  son una prestación pecuniaria proporcional a las remuneraciones o rentas imponibles del trabajador que han servido para determinar sus cotizaciones previsional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rante estos períodos de pago de subsidio se protegen los fondos de cotizaciones previsionales, continuando con su pago.</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GEN LAB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 PROFESIONAL: Las enfermedades profesionales reconocidas legalmente están establecidas en el Decreto 109 del </a:t>
            </a:r>
            <a:r>
              <a:rPr b="0" i="1" lang="es-ES" sz="1200" spc="-1" strike="noStrike">
                <a:solidFill>
                  <a:srgbClr val="000000"/>
                </a:solidFill>
                <a:latin typeface="Arial"/>
              </a:rPr>
              <a:t>Reglamento Para La Calificación Y Evaluación De Accidentes Del Trabajo Y Enfermedades Profesional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JS:  -intoxicaciones por agentes químicos, neumoconiasis como la silicosis, asbestosis, tendinitis y lumbalgias, et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 esta normativa especial entre otras caracts dice que basta con TENER afiliacion + cto W. Además estas licencias se pagan por el total de días, (no tienen período de Carencia que no se p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S: mín 30 días cotizados dentro de los 6 meses previos a licencia. No necesitan ser correlativos ( resto trabs = 90), sin embargo mantienen el req de 6 meses de afiliacion a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TIZACION AL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pagada la cotizacion del mes anterior al inicio de la lic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 licencia empieza el 15 junio, tener pagado ma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3EF972-93AA-47E3-96F1-8CF8BB5FA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C7F641-6C3F-4367-B19E-BB9A0FDEC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E3FBB1-7E7F-429E-8317-BB87C5864F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11A7F8-45BA-4A24-93EE-D9F16154B9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7D59C-7C5E-41C4-B76E-76ADB4A77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F618-3F98-48DC-A177-776DA1C76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E3A0F-99A1-4E1A-BDF2-67598EBC2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1E4F5-A35E-4AA7-A426-02F1F023F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AA697-DB3D-4033-85D8-C979ECF15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714FB-91BB-4853-97F3-CEF3129A8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FB798-04FB-4F9F-9E8F-18C84228A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944A63-38A8-44BC-BC26-A2C7222BC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7F90E-3D53-461D-BBC1-2AE1A9DAD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D24BF-3F61-4684-992F-D8FD8AEC4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7D437-367B-4CFA-928D-A019B0290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F2D8B-28D1-4A14-9174-7CCA2CF72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FC2D8-90A2-4153-A0AF-E5A2FBC24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62510-DAB5-4B56-9984-AD001DE41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7AA9BA-2319-4151-8D6A-00014E56B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D1FBC-0D9E-4572-8442-FE589B7DF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A8CD90-77CF-4E93-8B5E-822F686DE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4E3D15-5FC4-4405-AC02-28D389D77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92CB1-16BE-4EA3-8429-A64998671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EBB00D-BD01-489C-AD99-E67CB878D4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BAFD-0CA6-4BDE-B69E-F89F728AA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4E47-1A03-46C9-A29B-65F3CA55E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7640" y="1628640"/>
            <a:ext cx="688356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ICENCIAS MEDICAS Y SUBSIDIOS POR INCAPACIDAD LABORAL TRANSITORIA</a:t>
            </a:r>
            <a:endParaRPr b="0" lang="en-US" sz="4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CONVENIO DE PAGO CON EMPLEADORE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rt. 19 DFL 44 permite que las entidades que pagan estos subsidi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S,CCAF e ISAPRES) convengan con los empleadores para que sean és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nes paguen directamente el subsidio a sus trabajad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os convenios son sólo para el pago del subsidio mismo y NO  involucran el pago de las cotizaciones del período, las que continúan a cargo de la entidad previsional correspo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PERIODO DE PAGO DEL SUBSIDIO</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20 DFL44:  “ los subsidios se pagarán, por lo menos, con la misma periodicidad que la remuneración, sin que pueda ser, en caso alguno, superior a un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PERÍODO DE CARENCIA</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14 DFL 4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os subsidios se devengarán desde el 1º día de la correspondiente licencia, si esta fuere superior a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o desde el 4º día si ella fuere menor o igual a dichos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empleador NO TIENE la obligación de pagar estos 3 días SAL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haya un CONVENIO INDIVIDUAL o COLEC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El período de carencia NO involucra el pago de 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respectivas cotizaciones previsionales, las que NO SE INTERRUMPEN</a:t>
            </a:r>
            <a:r>
              <a:rPr b="0" lang="es-ES" sz="1600" spc="-1" strike="noStrike">
                <a:solidFill>
                  <a:srgbClr val="000000"/>
                </a:solidFill>
                <a:latin typeface="Arial"/>
              </a:rPr>
              <a:t>. </a:t>
            </a:r>
            <a:r>
              <a:rPr b="0" lang="es-ES" sz="1600" spc="-1" strike="noStrike">
                <a:solidFill>
                  <a:srgbClr val="000000"/>
                </a:solidFill>
                <a:latin typeface="Arial"/>
              </a:rPr>
              <a:t>	</a:t>
            </a:r>
            <a:r>
              <a:rPr b="0" i="1" lang="es-ES" sz="1600" spc="-1" strike="noStrike">
                <a:solidFill>
                  <a:srgbClr val="000000"/>
                </a:solidFill>
                <a:latin typeface="Arial"/>
              </a:rPr>
              <a:t>(ARTS. 17 y 22 DFL Nº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uede ocurrir que se otorgue una licencia por 10 días o menos (o sea, tenga período de carencia) y luego se otorgue otra licencia que sumadas pasen de los 10 días, aquí se debe reliquidar el beneficio y, por tanto, pagar el subsidio desde el 1º día de incapacidad labo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5 DFL 4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subsidios durarán hasta el término de la correspondiente licencia médica, AÚN CUANDO haya terminado el respectivo contrato de traba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 entiende por “ correspondiente licencia médica” no sólo aquella que esté haciendo uso el trabajador al término de su contrato, sino de cualquier otra u otras que se otorguen como continuacion de aquella y por el mismo diagnóst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MONTO MÍNIMO DEL SUBSIDI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6  DFL 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monto DIARIO de los subsidios no podrá ser inferior a la trigésima parte de la mitad del ingreso mínimo que rija para el sector privad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 todo, para los trabajadores que tengan MÁS DE UN EMPLEADOR o que tengan simultáneamente la calidad de trabajador DEPENDIENTE E INDEPENDIENTE tendrán derecho al pago de este subsidio en el evento en que la suma de los subsidios que hubieren devengado en el mismo período no supere el monto de aquél.</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8  DFL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subsidios de proteccion a la maternidad el cálculo es distinto, considerandose un promedio de los 3 meses anteriores al inicio del prenatal (pues después se seguira devengando ininterrumpidamente el posnatal y, eventualmente, la enfermedad por hijo menor de un a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620640"/>
            <a:ext cx="93250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LAZO PARA COBRAR EL  BENEFICIO </a:t>
            </a:r>
            <a:br>
              <a:rPr sz="3600"/>
            </a:br>
            <a:r>
              <a:rPr b="1" lang="es-ES" sz="3600" spc="-1" strike="noStrike" u="sng">
                <a:solidFill>
                  <a:srgbClr val="000000"/>
                </a:solidFill>
                <a:uFillTx/>
                <a:latin typeface="Arial"/>
              </a:rPr>
              <a:t>(PRESCRIPCIÓN)</a:t>
            </a:r>
            <a:endParaRPr b="0" lang="en-US" sz="3600" spc="-1" strike="noStrike">
              <a:solidFill>
                <a:srgbClr val="000000"/>
              </a:solidFill>
              <a:latin typeface="Arial"/>
            </a:endParaRPr>
          </a:p>
        </p:txBody>
      </p:sp>
      <p:sp>
        <p:nvSpPr>
          <p:cNvPr id="159"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fontScale="98000"/>
          </a:bodyPr>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TRABAJ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24 inc 2º</a:t>
            </a:r>
            <a:r>
              <a:rPr b="0" lang="es-ES" sz="1200" spc="-1" strike="noStrike">
                <a:solidFill>
                  <a:srgbClr val="000000"/>
                </a:solidFill>
                <a:latin typeface="Arial"/>
              </a:rPr>
              <a:t> </a:t>
            </a:r>
            <a:r>
              <a:rPr b="1" lang="es-ES" sz="1200" spc="-1" strike="noStrike">
                <a:solidFill>
                  <a:srgbClr val="000000"/>
                </a:solidFill>
                <a:latin typeface="Arial"/>
              </a:rPr>
              <a:t>ley 18469  (ART.155 INC. 2º DFL 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el derecho a impetrar (solicitar) el subsidio por incapacidad laboral prescribe en 6 MESES desde el término de la respectiva licencia”</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jurisprudencia de la Su.Se.So dice que debe entenderse que por la sola presentación de la respectiva licencia el trabajador ya impetró el subsidio correspondient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EMPLE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 24 inc 3 (ART 155 inc.3º DFL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dentro del mismo plazo (6 meses) prescribirá el derecho de los servicios públicos e instituciones empleadoras para solicitar los pagos y devoluciones que deban efectuar los Servicios de Salud, con motivo de los períodos de incapacidad laboral de los trabajadores de dichas entidade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perintendencia  ha interpretado que este plazo de 6 meses se aplica también a las CCAF, ya</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dichas entidades actúan EN REPRESENTACION de los Servicios de Salud (ORD. Nº 1845, de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6.02.1995)</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mbio, como el inciso 3º del art 24 (art. 155 DFL 1) NO hace referencia a las ISAPRES, a ellas NO  se les  aplica dicho plazo para solicitarles devoluciones, por lo que no existiendo norma especial, debe aplicarse el plazo general de los 5 años del art 2515 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7200"/>
            <a:ext cx="821844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CIDENTES DEL TRABAJO </a:t>
            </a:r>
            <a:br>
              <a:rPr sz="3200"/>
            </a:br>
            <a:r>
              <a:rPr b="1" lang="es-ES" sz="3200" spc="-1" strike="noStrike" u="sng">
                <a:solidFill>
                  <a:srgbClr val="000000"/>
                </a:solidFill>
                <a:uFillTx/>
                <a:latin typeface="Arial"/>
              </a:rPr>
              <a:t>Y ENFERMEDADES PROFESIONALES</a:t>
            </a:r>
            <a:br>
              <a:rPr sz="3200"/>
            </a:br>
            <a:r>
              <a:rPr b="1" lang="es-ES" sz="3200" spc="-1" strike="noStrike" u="sng">
                <a:solidFill>
                  <a:srgbClr val="000000"/>
                </a:solidFill>
                <a:uFillTx/>
                <a:latin typeface="Arial"/>
              </a:rPr>
              <a:t>(ley 16744)</a:t>
            </a:r>
            <a:endParaRPr b="0" lang="en-US" sz="3200" spc="-1" strike="noStrike">
              <a:solidFill>
                <a:srgbClr val="000000"/>
              </a:solidFill>
              <a:latin typeface="Arial"/>
            </a:endParaRPr>
          </a:p>
        </p:txBody>
      </p:sp>
      <p:sp>
        <p:nvSpPr>
          <p:cNvPr id="16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ARIOS:</a:t>
            </a:r>
            <a:endParaRPr b="0" lang="en-US" sz="18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BAJADORES DEPENDIENTES</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UDIANTES EN PRÁCTICA REMUNERADA</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RIOS PÚBLICOS DEL ESTADO</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RTOS TRABAJADORES INDEPENDIENTES QUE COTICEN INDIVIDUALMENTE</a:t>
            </a:r>
            <a:endParaRPr b="0" lang="en-US" sz="1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SMO ADMINISTRADOR:</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ÚBLICO:</a:t>
            </a:r>
            <a:r>
              <a:rPr b="0" lang="es-ES" sz="1200" spc="-1" strike="noStrike">
                <a:solidFill>
                  <a:srgbClr val="000000"/>
                </a:solidFill>
                <a:latin typeface="Arial"/>
              </a:rPr>
              <a:t> INP-SN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RIVADO</a:t>
            </a:r>
            <a:r>
              <a:rPr b="0" lang="es-ES" sz="1200" spc="-1" strike="noStrike">
                <a:solidFill>
                  <a:srgbClr val="000000"/>
                </a:solidFill>
                <a:latin typeface="Arial"/>
              </a:rPr>
              <a:t>: Mutualidades de Empleadores:</a:t>
            </a:r>
            <a:r>
              <a:rPr b="0" lang="es-ES" sz="1200" spc="-1" strike="noStrike">
                <a:solidFill>
                  <a:srgbClr val="000000"/>
                </a:solidFill>
                <a:latin typeface="Arial"/>
              </a:rPr>
              <a:t>	</a:t>
            </a:r>
            <a:r>
              <a:rPr b="0" lang="es-ES" sz="1200" spc="-1" strike="noStrike">
                <a:solidFill>
                  <a:srgbClr val="000000"/>
                </a:solidFill>
                <a:latin typeface="Arial"/>
              </a:rPr>
              <a:t>-ACHS</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200" spc="-1" strike="noStrike">
                <a:solidFill>
                  <a:srgbClr val="000000"/>
                </a:solidFill>
                <a:latin typeface="Arial"/>
              </a:rPr>
              <a:t>-CCHC</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ST</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ADMINISTRACION DELEGADA</a:t>
            </a:r>
            <a:r>
              <a:rPr b="0" lang="es-ES" sz="1200" spc="-1" strike="noStrike">
                <a:solidFill>
                  <a:srgbClr val="000000"/>
                </a:solidFill>
                <a:latin typeface="Arial"/>
              </a:rPr>
              <a:t>:  Para empresas con +2000 trabajadores, por ej: Codelco, Chilectra</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OS:</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MÉD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ECONÓM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PREVENTIVAS</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ACTERÍSTICAS:</a:t>
            </a:r>
            <a:endParaRPr b="0" lang="en-US" sz="16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período de carencia</a:t>
            </a:r>
            <a:endParaRPr b="0" lang="en-US" sz="12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a:t>
            </a:r>
            <a:r>
              <a:rPr b="0" lang="es-ES" sz="1200" spc="-1" strike="noStrike">
                <a:solidFill>
                  <a:srgbClr val="000000"/>
                </a:solidFill>
                <a:latin typeface="Arial"/>
              </a:rPr>
              <a:t>	</a:t>
            </a:r>
            <a:r>
              <a:rPr b="0" lang="es-ES" sz="1000" spc="-1" strike="noStrike">
                <a:solidFill>
                  <a:srgbClr val="000000"/>
                </a:solidFill>
                <a:latin typeface="Arial"/>
              </a:rPr>
              <a:t>ocurridos a causa o con ocasión del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urante el trayecto de ida y regreso entre la habitacion y el lugar de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los sufridos por dirigentes sindicales a causa o con ocasión de sus cometidos gremiales</a:t>
            </a:r>
            <a:endParaRPr b="0" lang="en-US" sz="10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ermedad Profesional: se encuentran detalladas en respectivo decreto 10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000000"/>
                </a:solidFill>
                <a:uFillTx/>
                <a:latin typeface="Arial"/>
              </a:rPr>
              <a:t>INTERVINIENTES EN TRAMITACION DE UNA LICENCIA</a:t>
            </a:r>
            <a:endParaRPr b="0" lang="en-US" sz="3000" spc="-1" strike="noStrike">
              <a:solidFill>
                <a:srgbClr val="000000"/>
              </a:solidFill>
              <a:latin typeface="Arial"/>
            </a:endParaRPr>
          </a:p>
        </p:txBody>
      </p:sp>
      <p:sp>
        <p:nvSpPr>
          <p:cNvPr id="163" name="PlaceHolder 2"/>
          <p:cNvSpPr>
            <a:spLocks noGrp="1"/>
          </p:cNvSpPr>
          <p:nvPr>
            <p:ph/>
          </p:nvPr>
        </p:nvSpPr>
        <p:spPr>
          <a:xfrm>
            <a:off x="395280" y="1341360"/>
            <a:ext cx="8229600" cy="46800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MÉDICO, MATRÓN O DENTISTA</a:t>
            </a:r>
            <a:r>
              <a:rPr b="0" lang="es-ES" sz="1600" spc="-1" strike="noStrike" u="sng">
                <a:solidFill>
                  <a:srgbClr val="000000"/>
                </a:solidFill>
                <a:uFillTx/>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nera la licencia, indica tipo de licencia (1-7), diagnostico y fecha de inicio y cese del reposo y si este es total o par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ACIENTE:</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te:</a:t>
            </a:r>
            <a:r>
              <a:rPr b="0" lang="es-ES" sz="1600" spc="-1" strike="noStrike">
                <a:solidFill>
                  <a:srgbClr val="000000"/>
                </a:solidFill>
                <a:latin typeface="Arial"/>
              </a:rPr>
              <a:t>  -sector privado= </a:t>
            </a:r>
            <a:r>
              <a:rPr b="0" lang="es-ES" sz="1400" spc="-1" strike="noStrike">
                <a:solidFill>
                  <a:srgbClr val="000000"/>
                </a:solidFill>
                <a:latin typeface="Arial"/>
              </a:rPr>
              <a:t>2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ara presentar a empleador </a:t>
            </a:r>
            <a:endParaRPr b="0" lang="en-US" sz="14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ctor público= </a:t>
            </a:r>
            <a:r>
              <a:rPr b="0" lang="es-ES" sz="1400" spc="-1" strike="noStrike">
                <a:solidFill>
                  <a:srgbClr val="000000"/>
                </a:solidFill>
                <a:latin typeface="Arial"/>
              </a:rPr>
              <a:t>3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para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resentar a empleador</a:t>
            </a:r>
            <a:endParaRPr b="0" lang="en-US" sz="14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dependiente </a:t>
            </a:r>
            <a:r>
              <a:rPr b="0" lang="es-ES" sz="1600" spc="-1" strike="noStrike">
                <a:solidFill>
                  <a:srgbClr val="000000"/>
                </a:solidFill>
                <a:latin typeface="Arial"/>
              </a:rPr>
              <a:t>=2 días habiles desde la </a:t>
            </a:r>
            <a:r>
              <a:rPr b="0" i="1" lang="es-ES" sz="1600" spc="-1" strike="noStrike">
                <a:solidFill>
                  <a:srgbClr val="000000"/>
                </a:solidFill>
                <a:latin typeface="Arial"/>
              </a:rPr>
              <a:t>emision</a:t>
            </a:r>
            <a:r>
              <a:rPr b="0" lang="es-ES" sz="1600" spc="-1" strike="noStrike">
                <a:solidFill>
                  <a:srgbClr val="000000"/>
                </a:solidFill>
                <a:latin typeface="Arial"/>
              </a:rPr>
              <a:t> de la licencia para presentarla, sea a la ISAPRE o SNS</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EMPLEADOR:</a:t>
            </a:r>
            <a:r>
              <a:rPr b="0" lang="es-ES" sz="1600" spc="-1" strike="noStrike">
                <a:solidFill>
                  <a:srgbClr val="000000"/>
                </a:solidFill>
                <a:latin typeface="Arial"/>
              </a:rPr>
              <a:t> = 3 días hábiles desde recepcion para entregar la licencia a:</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SNS</a:t>
            </a:r>
            <a:r>
              <a:rPr b="1" lang="es-ES" sz="1600" spc="-1" strike="noStrike">
                <a:solidFill>
                  <a:srgbClr val="000000"/>
                </a:solidFill>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IDAD LICS MEDS</a:t>
            </a:r>
            <a:r>
              <a:rPr b="0" lang="es-ES" sz="1500" spc="-1" strike="noStrike">
                <a:solidFill>
                  <a:srgbClr val="000000"/>
                </a:solidFill>
                <a:latin typeface="Arial"/>
              </a:rPr>
              <a:t>= 3 a 30 días hábiles desde recepción para tramitar y derivar a Unidad de Pago de Subsidios (SNS), CCAF o ISAPRE para el respectivo pago, en licencias de hasta 30 días.</a:t>
            </a:r>
            <a:endParaRPr b="0" lang="en-US" sz="1500" spc="-1" strike="noStrike">
              <a:solidFill>
                <a:srgbClr val="000000"/>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MPIN:</a:t>
            </a:r>
            <a:r>
              <a:rPr b="0" lang="es-ES" sz="1500" spc="-1" strike="noStrike">
                <a:solidFill>
                  <a:srgbClr val="000000"/>
                </a:solidFill>
                <a:latin typeface="Arial"/>
              </a:rPr>
              <a:t> =  7 a 60 días hábiles para tramitar licencias superiores a 30 días, complementarias al descanso maternal o prórrogas de Reposo Preventivo (licencia tipo 2)</a:t>
            </a:r>
            <a:endParaRPr b="0" lang="en-US" sz="15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SAPRE</a:t>
            </a:r>
            <a:r>
              <a:rPr b="1"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POYO TÉCNICO DE MEDICO CIRUJANO</a:t>
            </a:r>
            <a:r>
              <a:rPr b="0" lang="es-ES" sz="1500" spc="-1" strike="noStrike">
                <a:solidFill>
                  <a:srgbClr val="000000"/>
                </a:solidFill>
                <a:latin typeface="Arial"/>
              </a:rPr>
              <a:t> .= 3 días hábiles desde fecha de recepcion para tramitar todas las licencias de sus afiliad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LES DE RECHAZO, DEVOLUCION O INVALIDACION DE UNA LICENCIA MÉDICA</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misión de Da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 fuera de plazo por el emplead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o trabajador independient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umplimiento del repos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ificacion o adulteracion de la licencia</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mendaduras, aunque sean de quien emitió la lice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RECURSOS DE RECLAMACIO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A LICENCIA MÉDICA:</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a:solidFill>
                  <a:srgbClr val="000000"/>
                </a:solidFill>
                <a:latin typeface="Arial"/>
              </a:rPr>
              <a:t>Legitimados:</a:t>
            </a:r>
            <a:r>
              <a:rPr b="0" lang="es-ES" sz="2000" spc="-1" strike="noStrike">
                <a:solidFill>
                  <a:srgbClr val="000000"/>
                </a:solidFill>
                <a:latin typeface="Arial"/>
              </a:rPr>
              <a:t> trabajador, sus cargas o el empleador ante la COMPIN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fecha de pronunciamien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ramitación</a:t>
            </a:r>
            <a:r>
              <a:rPr b="0" lang="es-ES" sz="2000" spc="-1" strike="noStrike">
                <a:solidFill>
                  <a:srgbClr val="000000"/>
                </a:solidFill>
                <a:latin typeface="Arial"/>
              </a:rPr>
              <a:t>: COMPIN es Única Instancia y debe pronunciarse dentro de 10 días. Su resolución es vinculante y debe ser notificada a las part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OS SUBSIDIO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egitimados</a:t>
            </a:r>
            <a:r>
              <a:rPr b="0" lang="es-ES" sz="2000" spc="-1" strike="noStrike">
                <a:solidFill>
                  <a:srgbClr val="000000"/>
                </a:solidFill>
                <a:latin typeface="Arial"/>
              </a:rPr>
              <a:t>: trabajador o sus cargas ante COMP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rechazo del pago del subsidio, este reclamo debe ser por escri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ONCEPTOS BÁSICO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LABORAL</a:t>
            </a:r>
            <a:r>
              <a:rPr b="0" lang="es-ES" sz="3200" spc="-1" strike="noStrike">
                <a:solidFill>
                  <a:srgbClr val="000000"/>
                </a:solidFill>
                <a:latin typeface="Arial"/>
              </a:rPr>
              <a:t>:</a:t>
            </a:r>
            <a:endParaRPr b="0" lang="en-US" sz="32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Pat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Fisi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 Profesional    (ley 16744)</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TEMPORAL</a:t>
            </a:r>
            <a:r>
              <a:rPr b="0" lang="es-ES" sz="3200" spc="-1" strike="noStrike">
                <a:solidFill>
                  <a:srgbClr val="000000"/>
                </a:solidFill>
                <a:latin typeface="Arial"/>
              </a:rPr>
              <a:t>: </a:t>
            </a:r>
            <a:r>
              <a:rPr b="0" lang="es-ES" sz="2000" spc="-1" strike="noStrike">
                <a:solidFill>
                  <a:srgbClr val="000000"/>
                </a:solidFill>
                <a:latin typeface="Arial"/>
              </a:rPr>
              <a:t>toda lesión producida por uno de estos riesgos y que luego del tratamiento médico permite la recuperación total del trabajador y su reintegro al trabajo. El subsidio en caso de este tipo de incapacidad se cancela hasta por un máximo de 52 semanas, pudiendo llegar a alcanzar extraordinariamente 104 semanas en to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59920"/>
            <a:ext cx="8362800" cy="6597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ICENCIA MÉDICA</a:t>
            </a:r>
            <a:r>
              <a:rPr b="0" lang="es-ES" sz="3200" spc="-1" strike="noStrike">
                <a:solidFill>
                  <a:srgbClr val="000000"/>
                </a:solidFill>
                <a:latin typeface="Arial"/>
              </a:rPr>
              <a:t>:</a:t>
            </a:r>
            <a:r>
              <a:rPr b="0" lang="es-ES" sz="2000" spc="-1" strike="noStrike">
                <a:solidFill>
                  <a:srgbClr val="000000"/>
                </a:solidFill>
                <a:latin typeface="Arial"/>
              </a:rPr>
              <a:t> documento oficial que da derecho a un trabajador(a) para ausentarse o reducir su jornada laboral durante un período determinado de tiempo, en virtud de una indicación profesional certificada emitida por profesional competente (médico, matrón o dentista), esto genera por tanto el derecho 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REPOSO,  lo que constituye una CAUSAL JUSTIFICADA DE AUSENCIA LABORAL</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PAGO DEL SUBSIDIO POR INCAPACIDAD LABORAL TEMPORAL (eventualmente)</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UBSIDIO POR INCAPACIDAD LABORAL</a:t>
            </a:r>
            <a:r>
              <a:rPr b="0" lang="es-ES" sz="3000" spc="-1" strike="noStrike">
                <a:solidFill>
                  <a:srgbClr val="000000"/>
                </a:solidFill>
                <a:latin typeface="Arial"/>
              </a:rPr>
              <a:t>:</a:t>
            </a:r>
            <a:endParaRPr b="0" lang="en-US" sz="3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enen por finalidad cubrir las contingencias sociales que generan estados de necesidad,</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usa de la suspensión </a:t>
            </a:r>
            <a:r>
              <a:rPr b="0" i="1" lang="es-ES" sz="1800" spc="-1" strike="noStrike">
                <a:solidFill>
                  <a:srgbClr val="000000"/>
                </a:solidFill>
                <a:latin typeface="Arial"/>
              </a:rPr>
              <a:t>transitoria</a:t>
            </a:r>
            <a:r>
              <a:rPr b="0" lang="es-ES" sz="1800" spc="-1" strike="noStrike">
                <a:solidFill>
                  <a:srgbClr val="000000"/>
                </a:solidFill>
                <a:latin typeface="Arial"/>
              </a:rPr>
              <a:t> de la capacidad de trabajo,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iginados por :</a:t>
            </a:r>
            <a:r>
              <a:rPr b="0" lang="es-ES" sz="1800" spc="-1" strike="noStrike">
                <a:solidFill>
                  <a:srgbClr val="000000"/>
                </a:solidFill>
                <a:latin typeface="Arial"/>
              </a:rPr>
              <a:t>	</a:t>
            </a:r>
            <a:r>
              <a:rPr b="0" lang="es-ES" sz="1600" spc="-1" strike="noStrike">
                <a:solidFill>
                  <a:srgbClr val="000000"/>
                </a:solidFill>
                <a:latin typeface="Arial"/>
              </a:rPr>
              <a:t>1) </a:t>
            </a:r>
            <a:r>
              <a:rPr b="0" lang="es-ES" sz="1800" spc="-1" strike="noStrike">
                <a:solidFill>
                  <a:srgbClr val="000000"/>
                </a:solidFill>
                <a:latin typeface="Arial"/>
              </a:rPr>
              <a:t>enfermedad o accidente comú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2)  uso de derechos de protección a la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aternida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 </a:t>
            </a:r>
            <a:r>
              <a:rPr b="0" lang="es-ES" sz="1800" spc="-1" strike="noStrike">
                <a:solidFill>
                  <a:srgbClr val="000000"/>
                </a:solidFill>
                <a:latin typeface="Arial"/>
              </a:rPr>
              <a:t>enfermedad profesio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4) accidente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LASIFICACIÓ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a:t>
            </a:r>
            <a:r>
              <a:rPr b="0" i="1" lang="es-ES" sz="2400" spc="-1" strike="noStrike">
                <a:solidFill>
                  <a:srgbClr val="000000"/>
                </a:solidFill>
                <a:latin typeface="Arial"/>
              </a:rPr>
              <a:t>ORIGEN COMÚ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de </a:t>
            </a:r>
            <a:r>
              <a:rPr b="0" i="1" lang="es-ES" sz="2400" spc="-1" strike="noStrike">
                <a:solidFill>
                  <a:srgbClr val="000000"/>
                </a:solidFill>
                <a:latin typeface="Arial"/>
              </a:rPr>
              <a:t>ORIGEN MATER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de *</a:t>
            </a:r>
            <a:r>
              <a:rPr b="0" i="1" lang="es-ES" sz="2400" spc="-1" strike="noStrike">
                <a:solidFill>
                  <a:srgbClr val="000000"/>
                </a:solidFill>
                <a:latin typeface="Arial"/>
              </a:rPr>
              <a:t>ORIGEN PROFESIO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a:t>
            </a:r>
            <a:r>
              <a:rPr b="0" i="1" lang="es-ES" sz="2400" spc="-1" strike="noStrike">
                <a:solidFill>
                  <a:srgbClr val="000000"/>
                </a:solidFill>
                <a:latin typeface="Arial"/>
              </a:rPr>
              <a:t>ACCIDENTE DEL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LABORAL DE ORIGEN COMÚN:</a:t>
            </a:r>
            <a:r>
              <a:rPr b="0" lang="es-ES" sz="2000" spc="-1" strike="noStrike">
                <a:solidFill>
                  <a:srgbClr val="000000"/>
                </a:solidFill>
                <a:latin typeface="Arial"/>
              </a:rPr>
              <a:t> aquella producto de múltiples patologías NO relacionadas a la actividad labor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UBSIDIO DE ORIGEN MATERNAL:</a:t>
            </a:r>
            <a:r>
              <a:rPr b="0" lang="es-ES" sz="2000" spc="-1" strike="noStrike">
                <a:solidFill>
                  <a:srgbClr val="000000"/>
                </a:solidFill>
                <a:latin typeface="Arial"/>
              </a:rPr>
              <a:t> aquellos cuyo origen se relaciona al embarazo; tanto a sus patologías asociadas como al descanso pre y postnatal; a la enfermedad grave del hijo menor de 1 año así como  y para el caso de enfermedad del menor de un año respecto del cual se tenga su cuidado y se esté en juicio de adop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DE ORIGEN LABORAL:</a:t>
            </a:r>
            <a:r>
              <a:rPr b="0" lang="es-ES" sz="2000" spc="-1" strike="noStrike">
                <a:solidFill>
                  <a:srgbClr val="000000"/>
                </a:solidFill>
                <a:latin typeface="Arial"/>
              </a:rPr>
              <a:t> aquella producida por enfermedades causadas de una manera directa por el ejercicio de la profesión o el trabajo que realice una persona y que le produzca incapacidad o muerte. (Decreto 109)</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CCIDENTE DEL TRABAJO:</a:t>
            </a:r>
            <a:r>
              <a:rPr b="0" lang="es-ES" sz="2000" spc="-1" strike="noStrike">
                <a:solidFill>
                  <a:srgbClr val="000000"/>
                </a:solidFill>
                <a:latin typeface="Arial"/>
              </a:rPr>
              <a:t> toda lesión que una persona sufre a causa o con ocasión del trabajo y que le produzca incapacidad o muerte. Son también los accidentes ocurridos en el trayecto de ida y regreso entre la habitación y el lugar de trabajo. Se consideran también accidente de trabajo los sufridos por dirigentes sindicales a causa o con ocasión del desempeño de sus cometidos grem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57200"/>
            <a:ext cx="8218440" cy="18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REQUISITOS DE ACCESO AL SUBSIDIO (BENEFICIARIOS)</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ORIGEN COMÚN Y MATER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BAJADORES DEPENDIENTES</a:t>
            </a:r>
            <a:r>
              <a:rPr b="0" lang="es-ES" sz="1800" spc="-1" strike="noStrike">
                <a:solidFill>
                  <a:srgbClr val="000000"/>
                </a:solidFill>
                <a:latin typeface="Arial"/>
              </a:rPr>
              <a:t> (sector privado) art. 4º DFL 44/1978</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ín. 6 meses afiliación previsional previa. </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r con 3 meses de cotizaciones dentro de los 6 meses anteriores a la fecha de inicio de licencia</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 días cotizados dentro de 6 meses previos)</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Excepciones</a:t>
            </a:r>
            <a:r>
              <a:rPr b="0" lang="es-E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dentes del Trabajo ( art.26 ley 16.744)</a:t>
            </a:r>
            <a:endParaRPr b="0" lang="en-US" sz="1400" spc="-1" strike="noStrike">
              <a:solidFill>
                <a:srgbClr val="000000"/>
              </a:solidFill>
              <a:latin typeface="Arial"/>
            </a:endParaRPr>
          </a:p>
          <a:p>
            <a:pPr lvl="2" marL="1143000" indent="-2286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bajadores contratados por día, turnos o jornadas Art.4º inc.2 DFL 44</a:t>
            </a:r>
            <a:r>
              <a:rPr b="0" lang="es-ES" sz="1000" spc="-1" strike="noStrike">
                <a:solidFill>
                  <a:srgbClr val="000000"/>
                </a:solidFill>
                <a:latin typeface="Arial"/>
              </a:rPr>
              <a:t>	</a:t>
            </a:r>
            <a:endParaRPr b="0" lang="en-US" sz="1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1773360"/>
            <a:ext cx="8229600" cy="4535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BAJADORES INDEPENDIENTES</a:t>
            </a:r>
            <a:r>
              <a:rPr b="0" lang="es-ES" sz="2000" spc="-1" strike="noStrike">
                <a:solidFill>
                  <a:srgbClr val="000000"/>
                </a:solidFill>
                <a:latin typeface="Arial"/>
              </a:rPr>
              <a:t> (Ley 18.469 art.18 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149 DFL 1 DE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cencia Médica autorizad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 meses de afiliación previsional previos al inicio de la licenci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ín. 6 meses de cotizaciones (continuas o discontinuas)</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r al día en el pago de sus cotizaciones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ORGANISMOS PAGADORES </a:t>
            </a:r>
            <a:br>
              <a:rPr sz="4000"/>
            </a:br>
            <a:r>
              <a:rPr b="1" lang="es-ES" sz="4000" spc="-1" strike="noStrike" u="sng">
                <a:solidFill>
                  <a:srgbClr val="000000"/>
                </a:solidFill>
                <a:uFillTx/>
                <a:latin typeface="Arial"/>
              </a:rPr>
              <a:t>DEL SUBSIDI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19: “ </a:t>
            </a:r>
            <a:r>
              <a:rPr b="0" i="1" lang="es-ES" sz="1800" spc="-1" strike="noStrike">
                <a:solidFill>
                  <a:srgbClr val="000000"/>
                </a:solidFill>
                <a:latin typeface="Arial"/>
              </a:rPr>
              <a:t>El pago de los subsidios corresponde a la entidad que deba otorgarlos o al empleador, si así lo ha convenido con la entidad otorgante”</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tanto, el subsidio por incapacidad laboral es pagado por:</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VICIO DE SALUD</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INDEPENDIENTES</a:t>
            </a:r>
            <a:r>
              <a:rPr b="0" lang="es-ES" sz="2000" spc="-1" strike="noStrike">
                <a:solidFill>
                  <a:srgbClr val="000000"/>
                </a:solidFill>
                <a:latin typeface="Arial"/>
              </a:rPr>
              <a:t> y aquellos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NO ESTÉN AFILIADOS</a:t>
            </a:r>
            <a:r>
              <a:rPr b="0" lang="es-ES" sz="2000" spc="-1" strike="noStrike">
                <a:solidFill>
                  <a:srgbClr val="000000"/>
                </a:solidFill>
                <a:latin typeface="Arial"/>
              </a:rPr>
              <a:t> a una Caja de Compensación.</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CAF:</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SÍ ESTÉN AFILIADOS</a:t>
            </a:r>
            <a:r>
              <a:rPr b="0" lang="es-ES" sz="2000" spc="-1" strike="noStrike">
                <a:solidFill>
                  <a:srgbClr val="000000"/>
                </a:solidFill>
                <a:latin typeface="Arial"/>
              </a:rPr>
              <a:t> a una de dichas Caja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APRE:</a:t>
            </a:r>
            <a:r>
              <a:rPr b="0" lang="es-ES" sz="2000" spc="-1" strike="noStrike">
                <a:solidFill>
                  <a:srgbClr val="000000"/>
                </a:solidFill>
                <a:latin typeface="Arial"/>
              </a:rPr>
              <a:t> pagan subsidios de </a:t>
            </a:r>
            <a:r>
              <a:rPr b="0" lang="es-ES" sz="1400" spc="-1" strike="noStrike">
                <a:solidFill>
                  <a:srgbClr val="000000"/>
                </a:solidFill>
                <a:latin typeface="Arial"/>
              </a:rPr>
              <a:t>TODOS</a:t>
            </a:r>
            <a:r>
              <a:rPr b="0" lang="es-ES" sz="2000" spc="-1" strike="noStrike">
                <a:solidFill>
                  <a:srgbClr val="000000"/>
                </a:solidFill>
                <a:latin typeface="Arial"/>
              </a:rPr>
              <a:t> sus afiliados, sean trabajadores dependientes o independ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250200" y="476280"/>
            <a:ext cx="8893440" cy="5426280"/>
            <a:chOff x="250200" y="476280"/>
            <a:chExt cx="8893440" cy="5426280"/>
          </a:xfrm>
        </p:grpSpPr>
        <p:cxnSp>
          <p:nvCxnSpPr>
            <p:cNvPr id="127" name="_s45097"/>
            <p:cNvCxnSpPr>
              <a:stCxn id="128" idx="0"/>
              <a:endCxn id="129" idx="2"/>
            </p:cNvCxnSpPr>
            <p:nvPr/>
          </p:nvCxnSpPr>
          <p:spPr>
            <a:xfrm flipV="1" rot="16200000">
              <a:off x="645120" y="4865760"/>
              <a:ext cx="689760" cy="37440"/>
            </a:xfrm>
            <a:prstGeom prst="bentConnector3">
              <a:avLst>
                <a:gd name="adj1" fmla="val 16553"/>
              </a:avLst>
            </a:prstGeom>
            <a:ln w="28440">
              <a:solidFill>
                <a:srgbClr val="000000"/>
              </a:solidFill>
              <a:miter/>
            </a:ln>
          </p:spPr>
        </p:cxnSp>
        <p:cxnSp>
          <p:nvCxnSpPr>
            <p:cNvPr id="130" name="_s45094"/>
            <p:cNvCxnSpPr>
              <a:stCxn id="131" idx="2"/>
              <a:endCxn id="132" idx="0"/>
            </p:cNvCxnSpPr>
            <p:nvPr/>
          </p:nvCxnSpPr>
          <p:spPr>
            <a:xfrm rot="5400000">
              <a:off x="6615000" y="4247640"/>
              <a:ext cx="1818360" cy="3240"/>
            </a:xfrm>
            <a:prstGeom prst="bentConnector3">
              <a:avLst>
                <a:gd name="adj1" fmla="val 6277"/>
              </a:avLst>
            </a:prstGeom>
            <a:ln w="28440">
              <a:solidFill>
                <a:srgbClr val="000000"/>
              </a:solidFill>
              <a:miter/>
            </a:ln>
          </p:spPr>
        </p:cxnSp>
        <p:cxnSp>
          <p:nvCxnSpPr>
            <p:cNvPr id="133" name="_s45090"/>
            <p:cNvCxnSpPr>
              <a:endCxn id="134" idx="2"/>
            </p:cNvCxnSpPr>
            <p:nvPr/>
          </p:nvCxnSpPr>
          <p:spPr>
            <a:xfrm flipV="1" rot="16200000">
              <a:off x="2388960" y="4845600"/>
              <a:ext cx="834120" cy="221760"/>
            </a:xfrm>
            <a:prstGeom prst="bentConnector3">
              <a:avLst>
                <a:gd name="adj1" fmla="val 13687"/>
              </a:avLst>
            </a:prstGeom>
            <a:ln w="28440">
              <a:solidFill>
                <a:srgbClr val="000000"/>
              </a:solidFill>
              <a:miter/>
            </a:ln>
          </p:spPr>
        </p:cxnSp>
        <p:cxnSp>
          <p:nvCxnSpPr>
            <p:cNvPr id="135" name="_s45080"/>
            <p:cNvCxnSpPr>
              <a:stCxn id="134" idx="0"/>
              <a:endCxn id="136" idx="2"/>
            </p:cNvCxnSpPr>
            <p:nvPr/>
          </p:nvCxnSpPr>
          <p:spPr>
            <a:xfrm flipV="1" rot="16200000">
              <a:off x="2113920" y="3205080"/>
              <a:ext cx="376920" cy="791280"/>
            </a:xfrm>
            <a:prstGeom prst="bentConnector3">
              <a:avLst>
                <a:gd name="adj1" fmla="val 30305"/>
              </a:avLst>
            </a:prstGeom>
            <a:ln w="28440">
              <a:solidFill>
                <a:srgbClr val="000000"/>
              </a:solidFill>
              <a:miter/>
            </a:ln>
          </p:spPr>
        </p:cxnSp>
        <p:cxnSp>
          <p:nvCxnSpPr>
            <p:cNvPr id="137" name="_s45078"/>
            <p:cNvCxnSpPr>
              <a:stCxn id="129" idx="0"/>
              <a:endCxn id="136" idx="2"/>
            </p:cNvCxnSpPr>
            <p:nvPr/>
          </p:nvCxnSpPr>
          <p:spPr>
            <a:xfrm flipH="1" flipV="1" rot="5400000">
              <a:off x="1251000" y="3133080"/>
              <a:ext cx="376920" cy="936000"/>
            </a:xfrm>
            <a:prstGeom prst="bentConnector3">
              <a:avLst>
                <a:gd name="adj1" fmla="val 30305"/>
              </a:avLst>
            </a:prstGeom>
            <a:ln w="28440">
              <a:solidFill>
                <a:srgbClr val="000000"/>
              </a:solidFill>
              <a:miter/>
            </a:ln>
          </p:spPr>
        </p:cxnSp>
        <p:cxnSp>
          <p:nvCxnSpPr>
            <p:cNvPr id="138" name="_s45076"/>
            <p:cNvCxnSpPr>
              <a:stCxn id="139" idx="2"/>
              <a:endCxn id="131" idx="0"/>
            </p:cNvCxnSpPr>
            <p:nvPr/>
          </p:nvCxnSpPr>
          <p:spPr>
            <a:xfrm rot="5400000">
              <a:off x="7383240" y="2515320"/>
              <a:ext cx="335520" cy="51840"/>
            </a:xfrm>
            <a:prstGeom prst="bentConnector3">
              <a:avLst>
                <a:gd name="adj1" fmla="val 34049"/>
              </a:avLst>
            </a:prstGeom>
            <a:ln w="28440">
              <a:solidFill>
                <a:srgbClr val="000000"/>
              </a:solidFill>
              <a:miter/>
            </a:ln>
          </p:spPr>
        </p:cxnSp>
        <p:cxnSp>
          <p:nvCxnSpPr>
            <p:cNvPr id="140" name="_s45074"/>
            <p:cNvCxnSpPr>
              <a:stCxn id="141" idx="0"/>
              <a:endCxn id="142" idx="2"/>
            </p:cNvCxnSpPr>
            <p:nvPr/>
          </p:nvCxnSpPr>
          <p:spPr>
            <a:xfrm flipV="1" rot="16200000">
              <a:off x="3648600" y="1676880"/>
              <a:ext cx="408600" cy="1800360"/>
            </a:xfrm>
            <a:prstGeom prst="bentConnector3">
              <a:avLst>
                <a:gd name="adj1" fmla="val 27954"/>
              </a:avLst>
            </a:prstGeom>
            <a:ln w="28440">
              <a:solidFill>
                <a:srgbClr val="000000"/>
              </a:solidFill>
              <a:miter/>
            </a:ln>
          </p:spPr>
        </p:cxnSp>
        <p:cxnSp>
          <p:nvCxnSpPr>
            <p:cNvPr id="143" name="_s45072"/>
            <p:cNvCxnSpPr>
              <a:stCxn id="136" idx="0"/>
              <a:endCxn id="142" idx="2"/>
            </p:cNvCxnSpPr>
            <p:nvPr/>
          </p:nvCxnSpPr>
          <p:spPr>
            <a:xfrm flipH="1" flipV="1" rot="5400000">
              <a:off x="2226240" y="2053800"/>
              <a:ext cx="408600" cy="1046880"/>
            </a:xfrm>
            <a:prstGeom prst="bentConnector3">
              <a:avLst>
                <a:gd name="adj1" fmla="val 27954"/>
              </a:avLst>
            </a:prstGeom>
            <a:ln w="28440">
              <a:solidFill>
                <a:srgbClr val="000000"/>
              </a:solidFill>
              <a:miter/>
            </a:ln>
          </p:spPr>
        </p:cxnSp>
        <p:cxnSp>
          <p:nvCxnSpPr>
            <p:cNvPr id="144" name="_s45068"/>
            <p:cNvCxnSpPr>
              <a:stCxn id="139" idx="0"/>
              <a:endCxn id="145" idx="2"/>
            </p:cNvCxnSpPr>
            <p:nvPr/>
          </p:nvCxnSpPr>
          <p:spPr>
            <a:xfrm flipV="1" rot="16200000">
              <a:off x="5477040" y="-183960"/>
              <a:ext cx="983520" cy="3216960"/>
            </a:xfrm>
            <a:prstGeom prst="bentConnector3">
              <a:avLst>
                <a:gd name="adj1" fmla="val 11607"/>
              </a:avLst>
            </a:prstGeom>
            <a:ln w="28440">
              <a:solidFill>
                <a:srgbClr val="000000"/>
              </a:solidFill>
              <a:miter/>
            </a:ln>
          </p:spPr>
        </p:cxnSp>
        <p:cxnSp>
          <p:nvCxnSpPr>
            <p:cNvPr id="146" name="_s45066"/>
            <p:cNvCxnSpPr>
              <a:stCxn id="142" idx="0"/>
              <a:endCxn id="145" idx="2"/>
            </p:cNvCxnSpPr>
            <p:nvPr/>
          </p:nvCxnSpPr>
          <p:spPr>
            <a:xfrm flipH="1" flipV="1" rot="5400000">
              <a:off x="3165120" y="721080"/>
              <a:ext cx="983520" cy="1407600"/>
            </a:xfrm>
            <a:prstGeom prst="bentConnector3">
              <a:avLst>
                <a:gd name="adj1" fmla="val 11607"/>
              </a:avLst>
            </a:prstGeom>
            <a:ln w="28440">
              <a:solidFill>
                <a:srgbClr val="000000"/>
              </a:solidFill>
              <a:miter/>
            </a:ln>
          </p:spPr>
        </p:cxnSp>
        <p:sp>
          <p:nvSpPr>
            <p:cNvPr id="145" name="_s45062"/>
            <p:cNvSpPr/>
            <p:nvPr/>
          </p:nvSpPr>
          <p:spPr>
            <a:xfrm>
              <a:off x="2123280" y="476280"/>
              <a:ext cx="4474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SMOS PAGADORES DEL SUBSIDIO</a:t>
              </a:r>
              <a:endParaRPr b="0" lang="en-US" sz="1600" spc="-1" strike="noStrike">
                <a:solidFill>
                  <a:srgbClr val="000000"/>
                </a:solidFill>
                <a:latin typeface="Arial"/>
              </a:endParaRPr>
            </a:p>
          </p:txBody>
        </p:sp>
        <p:sp>
          <p:nvSpPr>
            <p:cNvPr id="142" name="_s45063"/>
            <p:cNvSpPr/>
            <p:nvPr/>
          </p:nvSpPr>
          <p:spPr>
            <a:xfrm>
              <a:off x="468360" y="1916280"/>
              <a:ext cx="496764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FONASA</a:t>
              </a:r>
              <a:endParaRPr b="0" lang="en-US" sz="1300" spc="-1" strike="noStrike">
                <a:solidFill>
                  <a:srgbClr val="000000"/>
                </a:solidFill>
                <a:latin typeface="Arial"/>
              </a:endParaRPr>
            </a:p>
          </p:txBody>
        </p:sp>
        <p:sp>
          <p:nvSpPr>
            <p:cNvPr id="139" name="_s45065"/>
            <p:cNvSpPr/>
            <p:nvPr/>
          </p:nvSpPr>
          <p:spPr>
            <a:xfrm>
              <a:off x="6010560" y="1916280"/>
              <a:ext cx="3133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ISAPRE</a:t>
              </a:r>
              <a:endParaRPr b="0" lang="en-US" sz="1300" spc="-1" strike="noStrike">
                <a:solidFill>
                  <a:srgbClr val="000000"/>
                </a:solidFill>
                <a:latin typeface="Arial"/>
              </a:endParaRPr>
            </a:p>
          </p:txBody>
        </p:sp>
        <p:sp>
          <p:nvSpPr>
            <p:cNvPr id="136" name="_s45071"/>
            <p:cNvSpPr/>
            <p:nvPr/>
          </p:nvSpPr>
          <p:spPr>
            <a:xfrm>
              <a:off x="323640" y="2781360"/>
              <a:ext cx="316764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PENDIENTE</a:t>
              </a:r>
              <a:endParaRPr b="0" lang="en-US" sz="1300" spc="-1" strike="noStrike">
                <a:solidFill>
                  <a:srgbClr val="000000"/>
                </a:solidFill>
                <a:latin typeface="Arial"/>
              </a:endParaRPr>
            </a:p>
          </p:txBody>
        </p:sp>
        <p:sp>
          <p:nvSpPr>
            <p:cNvPr id="141" name="_s45073"/>
            <p:cNvSpPr/>
            <p:nvPr/>
          </p:nvSpPr>
          <p:spPr>
            <a:xfrm>
              <a:off x="3923640" y="2781360"/>
              <a:ext cx="165492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DEPENDIETE</a:t>
              </a:r>
              <a:endParaRPr b="0" lang="en-US" sz="1300" spc="-1" strike="noStrike">
                <a:solidFill>
                  <a:srgbClr val="000000"/>
                </a:solidFill>
                <a:latin typeface="Arial"/>
              </a:endParaRPr>
            </a:p>
          </p:txBody>
        </p:sp>
        <p:sp>
          <p:nvSpPr>
            <p:cNvPr id="131" name="_s45075"/>
            <p:cNvSpPr/>
            <p:nvPr/>
          </p:nvSpPr>
          <p:spPr>
            <a:xfrm>
              <a:off x="6155640" y="2708280"/>
              <a:ext cx="2737800" cy="632160"/>
            </a:xfrm>
            <a:prstGeom prst="roundRect">
              <a:avLst>
                <a:gd name="adj" fmla="val 23366"/>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TODO</a:t>
              </a:r>
              <a:r>
                <a:rPr b="0" lang="es-ES" sz="1300" spc="-1" strike="noStrike">
                  <a:solidFill>
                    <a:srgbClr val="000000"/>
                  </a:solidFill>
                  <a:latin typeface="Arial"/>
                </a:rPr>
                <a:t> Trabajad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dependiente e independiente</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129" name="_s45077"/>
            <p:cNvSpPr/>
            <p:nvPr/>
          </p:nvSpPr>
          <p:spPr>
            <a:xfrm>
              <a:off x="250200" y="3789360"/>
              <a:ext cx="144108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SÍ</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34" name="_s45079"/>
            <p:cNvSpPr/>
            <p:nvPr/>
          </p:nvSpPr>
          <p:spPr>
            <a:xfrm>
              <a:off x="2049840" y="3789360"/>
              <a:ext cx="129384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N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47" name="_s45089"/>
            <p:cNvSpPr/>
            <p:nvPr/>
          </p:nvSpPr>
          <p:spPr>
            <a:xfrm>
              <a:off x="2194560" y="5229360"/>
              <a:ext cx="322920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8760" rIns="687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el </a:t>
              </a:r>
              <a:r>
                <a:rPr b="1" lang="es-ES" sz="1300" spc="-1" strike="noStrike">
                  <a:solidFill>
                    <a:srgbClr val="000000"/>
                  </a:solidFill>
                  <a:latin typeface="Arial"/>
                </a:rPr>
                <a:t>SNS</a:t>
              </a:r>
              <a:endParaRPr b="0" lang="en-US" sz="1300" spc="-1" strike="noStrike">
                <a:solidFill>
                  <a:srgbClr val="000000"/>
                </a:solidFill>
                <a:latin typeface="Arial"/>
              </a:endParaRPr>
            </a:p>
          </p:txBody>
        </p:sp>
        <p:sp>
          <p:nvSpPr>
            <p:cNvPr id="132" name="_s45093"/>
            <p:cNvSpPr/>
            <p:nvPr/>
          </p:nvSpPr>
          <p:spPr>
            <a:xfrm>
              <a:off x="6226920" y="5158080"/>
              <a:ext cx="2593080" cy="7189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79560" rIns="7956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l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SAPRE</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sp>
          <p:nvSpPr>
            <p:cNvPr id="128" name="_s45096"/>
            <p:cNvSpPr/>
            <p:nvPr/>
          </p:nvSpPr>
          <p:spPr>
            <a:xfrm>
              <a:off x="250200" y="5229360"/>
              <a:ext cx="151236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a:t>
              </a:r>
              <a:r>
                <a:rPr b="1" lang="es-ES" sz="1300" spc="-1" strike="noStrike">
                  <a:solidFill>
                    <a:srgbClr val="000000"/>
                  </a:solidFill>
                  <a:latin typeface="Arial"/>
                </a:rPr>
                <a:t>CCAF</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grpSp>
      <p:sp>
        <p:nvSpPr>
          <p:cNvPr id="148" name=""/>
          <p:cNvSpPr/>
          <p:nvPr/>
        </p:nvSpPr>
        <p:spPr>
          <a:xfrm>
            <a:off x="4859280" y="34290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03:09Z</dcterms:created>
  <dc:creator>Anita</dc:creator>
  <dc:description/>
  <dc:language>en-US</dc:language>
  <cp:lastModifiedBy>Rosa Maria</cp:lastModifiedBy>
  <dcterms:modified xsi:type="dcterms:W3CDTF">2007-12-03T01:52:24Z</dcterms:modified>
  <cp:revision>12</cp:revision>
  <dc:subject/>
  <dc:title>SUBSIDIOS POR INCAPACIDAD LABORAL</dc:title>
</cp:coreProperties>
</file>