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1966-DCF5-4CC4-BFFB-D98FE3D5FC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sertar análisis del monopolio y su proceso de maximización de ingre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4A2-4937-4EF9-AF3B-C2179E6D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8EB-F4A1-4AD8-AE93-3C993F8F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FDB-04B5-438D-926A-F0A6FEB8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4B2-CCDF-456D-B1A6-81E0EAA5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16E4-8EE5-48E2-AF4D-BABE2973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7C53-7232-4170-B7E6-6E9769B8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553F-EE1E-4C4C-8B71-A193D30A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DAC2-F5DA-43E4-B90C-F074ACF7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16C1-6605-43BA-B3BB-00A3AD9A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AA45-F9EE-45F9-971F-9E27D648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D09E-ACCF-4607-BFE3-F49D5074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E5F-16B3-44E2-BBFD-B3B72C23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E39E-190D-4085-8F09-D2F2CD87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3DEB-304D-41B4-9B2C-71BCB682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CE81-AC34-41EB-AF64-93B7FDF1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C170-ED7C-4779-9E09-27CB839B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3BC0-4DA3-42FD-BB97-E8338299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201C-074C-43A4-9A10-1D1B5E3D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63D37-E3CD-476D-A3D3-ED19611E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3136-1B2E-4115-8753-0481F5A5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B56D-0E21-49ED-A372-F06106AE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E154-AD42-4DC0-87D9-733C595D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7F9-538F-4110-814B-56C57126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D528E-9DF2-41ED-9BBB-26A95A37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7804B-5A47-4A3F-8801-A23D18BF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648DA-6638-445C-BA18-53676E89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0680-EAD7-4366-887A-3A3C3C33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FC9E3-A3EA-49A5-A85F-E617963A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50E3-9134-470A-918C-D20E18C1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A00E8-D2E7-48E8-A435-48286EF7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446-0478-47F8-A2BE-93337E1E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D5E-CCA6-42E3-A105-47BEB961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AA5-E62D-4CE8-A3A9-DD15D27D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F5C-1439-451D-9E09-9D3526D4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7BC-358D-4E44-9B01-60840291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316-66E0-4B42-BDC6-A69E1393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9356-5D59-47EA-99BC-7947A3BA121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233F-9EA1-4084-AEF0-6EFC683A8E1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4F57-4EDD-413E-8589-E01BDDEF1C3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3678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b7"/>
                </a:solidFill>
                <a:latin typeface="Arial Black"/>
              </a:rPr>
              <a:t>Propiedad Industrial y Defensa de la Competenci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2656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onaldo Bru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oris Sant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Restricciones Vertic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tricciones territor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tricciones sobre la producción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ijación de precios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tromisión en la gestión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ranqui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gla: Si la explotación legítima directamente de la propiedad industrial permite iguales efectos, la restricción sería vál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53A-3342-4E4F-8143-EB5D90A31B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Nuevas Tecnologí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las generales, proscripción de la exclusión y del abuso, derechos a contratar con competidores, a innovar y a compet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regulación de los contratos sobre transferencia de tecnologí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7E4-B7B3-47A7-92C3-F1D7A205DD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Cas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IMS Health contra NDC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ósforos chinos, Calvin Klein, Le Coq Sportive, Soprole – Da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5D9-132A-471B-A07D-81829376FA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3500280"/>
            <a:ext cx="1008000" cy="863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3500280"/>
            <a:ext cx="1728720" cy="86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3500280"/>
            <a:ext cx="396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500280"/>
            <a:ext cx="0" cy="187344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3284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¿Cuál es el Valor Social de una innov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414972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27640" y="314172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365720"/>
            <a:ext cx="0" cy="107928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9280" y="436572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450864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3573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social de la inno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6DD-3A28-4315-9EA5-F5B9C05774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00360" y="2997360"/>
            <a:ext cx="1224000" cy="10080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2997360"/>
            <a:ext cx="1081080" cy="10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2133720"/>
            <a:ext cx="1873080" cy="33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400536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299736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2781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618920" y="2997360"/>
            <a:ext cx="10810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ximización de beneficios del monopo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38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3645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mg 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4005360"/>
            <a:ext cx="0" cy="143964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465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314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érdida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B80-6668-4FB4-B584-8668E30AD3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133720"/>
            <a:ext cx="2305080" cy="1871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2133720"/>
            <a:ext cx="3889440" cy="3166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ximizar el bienestar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38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24360" y="2852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4005360"/>
            <a:ext cx="0" cy="143964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4000" y="4797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man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2123640" y="3500280"/>
            <a:ext cx="1295280" cy="2305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618920" y="4005360"/>
            <a:ext cx="2305080" cy="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619280" y="3068640"/>
            <a:ext cx="4032360" cy="22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68360" y="227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dente del consumi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486900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dente del Prod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9AE-FD7E-473C-B307-82D4F8F674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19280" y="2997360"/>
            <a:ext cx="1081080" cy="360360"/>
          </a:xfrm>
          <a:prstGeom prst="rect">
            <a:avLst/>
          </a:pr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78136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618920" y="2997360"/>
            <a:ext cx="10810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5516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eneficios de una innovación para un monopo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3573360"/>
            <a:ext cx="79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4941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5013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43280" y="55008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3141720"/>
            <a:ext cx="7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19280" y="465300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429264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00360" y="3357720"/>
            <a:ext cx="35892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3357720"/>
            <a:ext cx="0" cy="20872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3357720"/>
            <a:ext cx="1081080" cy="64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299736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19280" y="3357720"/>
            <a:ext cx="144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19280" y="4005360"/>
            <a:ext cx="41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133720"/>
            <a:ext cx="1873080" cy="33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234936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4005360"/>
            <a:ext cx="1081080" cy="64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BC4-EF68-4A31-B2AA-4BB80CD85F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26920" y="134136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19280" y="3500280"/>
            <a:ext cx="1728720" cy="865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3500280"/>
            <a:ext cx="3673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48000" y="3500280"/>
            <a:ext cx="0" cy="187344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3284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eneficios de una innovación para una empresa en competencia a la Ber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3141720"/>
            <a:ext cx="79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4365720"/>
            <a:ext cx="439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393372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19640" y="234936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8000" y="443700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ta del Innov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4D2-8353-44A1-A57C-B7E37FAC1D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La razón de ser de la propiedad industri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recho de propi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novación. Crecimiento y bienestar general. Innovaciones generan más y mejores bienes a menores precios. Pero suponen inversión en I+D, riesgosa: se posibilita si el inversionista tiene expectativa de recuperarla con rentas sobrenormales, monopól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llow (1957), crecimiento EEUU se explica por mejoras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chumpeter (1943), los monopolios pueden innovar, porque recuperarán su inversión en I+D con rentas sobrenormales </a:t>
            </a:r>
            <a:r>
              <a:rPr b="0" lang="es-MX" sz="20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grá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n embargo, aún sin la exclusividad existen incentivos a innov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cance. Derecho a excluir y a explot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D79-B1B6-430B-934A-DBF3D60DB6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b7"/>
                </a:solidFill>
                <a:latin typeface="Arial Black"/>
              </a:rPr>
              <a:t>La razón de ser de la defensa de la competenci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007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recho a emprender, derecho a competir, libertad de los ig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ienestar de los consumidores, eficiencia, </a:t>
            </a:r>
            <a:r>
              <a:rPr b="0" lang="es-MX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bienestar social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a libre competencia, sin fallas de mercado, genera eficiencia productiva y asignativa, y así bienestar soci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ero los individuos repudian los monopolios sólo hasta que se convierten en uno, y resulta que la competencia tiende al Highlander: La entrada a la cancha es libre y la lucha es por el dinero de los consumidores, libres para decidir a quién y cuánto entregar. Las armas legales son la innovación y la eficiencia, que permite ofrecer más y mejores bienes a menores precios. Los competidores luchan a muerte. Los sobrevivientes adquieren poder de mercado con cada victoria. Este poder puede usarse para crear armas ilegales, con las cuales impedir el ingreso de nuevos competidores, eliminar a los actuales e imponer bienes y precios. O sea, para anular la libertad de los otros agentes. Esta libertad es la que debe ser proteg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nce. Prohibición de excluir y de explotar en forma abus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547-1E77-496A-B5EB-A931BF9BCD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oder de Mercado y Derechos Industriale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menos incentivos que una empresa en competencia para innovar.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Compárese el valor de la innovación para uno y otro (</a:t>
            </a:r>
            <a:r>
              <a:rPr b="0" lang="es-MX" sz="2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Gráficos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incentivos para impedir la innovación ajena, pues genera competencia y empuja a la baja el precio de equilib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incentivos estratégicos para utilizar los derechos industriales con el fin de excluir competidores o imponer precios u otras condiciones abusivas. (monopolio amenazado por la entrada, Gilbert y Newbery 19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3FB-C307-40C3-9A52-21E22F0432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El Conflicto</a:t>
            </a:r>
            <a:br>
              <a:rPr sz="4400"/>
            </a:br>
            <a:r>
              <a:rPr b="1" lang="es-MX" sz="2800" spc="-1" strike="noStrike">
                <a:solidFill>
                  <a:srgbClr val="ffffb7"/>
                </a:solidFill>
                <a:latin typeface="Arial Black"/>
              </a:rPr>
              <a:t>Doctrina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ctrina de la inherencia. Son ilícitas las restricciones a la competencia que excedan del alcance del derecho de propiedad indust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ctrina de la ausencia de conflicto. Los derechos de propiedad industrial excluyen absolutamente la aplicación de la ley de defensa de la competencia, como todo derecho de propie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regla de la razón. Las restricciones que impone el propietario industrial pueden ser eficientes y hasta procompet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aplicación de las reglas sobre restricciones vertic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641-9262-4E03-AB85-4F2A4FED34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El Conflicto</a:t>
            </a:r>
            <a:br>
              <a:rPr sz="4400"/>
            </a:br>
            <a:r>
              <a:rPr b="1" lang="es-MX" sz="2800" spc="-1" strike="noStrike">
                <a:solidFill>
                  <a:srgbClr val="ffffb7"/>
                </a:solidFill>
                <a:latin typeface="Arial Black"/>
              </a:rPr>
              <a:t>Solución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monopolización. La propiedad industrial otorga exclusividad sobre un invento, procedimiento o signo, no sobre un mercado (aunque podrían coincidir, si es aquel es la única forma de producir un bien sin sustituto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derecho a emprender. La propiedad industrial permite impedir el emprendimiento en relación al objeto de tal propiedad, pero no más allá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explotación. La propiedad industrial permite explotarla, pero no autoriza la explotación abus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flicto real: Sólo en lo que lo toca al derecho a excluir del objeto amparado por propiedad industrial. El conflicto se resuelve en favor de la propiedad industri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flicto aparente: Fuera de aquel ámbito, y aún dentro del mismo, en lo que toca a la explotación abusiva, no hay conflicto, la ley de propiedad industrial no es la aplicable, sino la ley de defensa de la competencia, que prohíbe la exclusión y la explotación abusiva. Así, podría infringir la ley de defensa de la competencia, la imposición, en un contrato de licencia, de contratar licencias de otros proveedores (exclusión), o la de contratar una licencia distinta de la requerida (venta atada)… pero la realidad es comple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F72-0EE4-4EF0-B430-EC441373A6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Exclusori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nopolización de mercados adquiriendo propiedad industrial. Derechos industriales genéricos o sin uso. Carrera de patentes. Patentamiento Defensiv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se materializan beneficios de invenciones. Demanda insatisfecha, pérdidas sociales. Agentes dispuestos a adquirir productos a precios de mercado no puedan hacerlo. Un caso dramático es el de los medicamentos, países pobres quedan privados de ell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e obliga a competidores a emular innovación falsa, incrementando co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itigios por amplitud de patentes retardan y encarecen la 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dquisición fraudulenta de propiedad industrial. Ejercicio del </a:t>
            </a:r>
            <a:r>
              <a:rPr b="0" i="1" lang="es-MX" sz="1600" spc="-1" strike="noStrike">
                <a:solidFill>
                  <a:srgbClr val="ffffff"/>
                </a:solidFill>
                <a:latin typeface="Arial"/>
              </a:rPr>
              <a:t>ius prohibendi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 otros propietarios legítim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Juicios retardan y encarecen la 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Doctrina europea del agotamiento de los derech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Doctrina chilena sobre importaciones paralel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tos de licencia. Cláusulas que restringen competir o innovar, o contratar con competidor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s licencias son en general, deseables, porque posibilitan uso, difusión y socialización de la innovación (pago por ingeniería inversa o adopcion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as restricciones son razonables, funcionales a la protección de los derechos industriales, pero no pueden ir más allá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Un criterio es no permitir más restricciones que las que derivarían de la explotación directa, sin licenc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3D1-E0E3-4D4D-9940-4CF52C3336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Abusiv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alías y otras contraprestaciones abusivas. Discrimi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ntas atadas. Licencias at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osición de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ambién se han cuestionado pagos posteriores a la licencias y retrocesiones de mejora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482-DE82-4A9E-9605-0C0DEA726C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Coordinad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nsacciones sobre licencias, licencias cruzadas y colusiones exclusorias y abus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nsacciones sobre licencias, licencias cruzadas, pérdida de independencia de las empresas y concentr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5DB-F19B-4A4B-9A19-E11BC9AE31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9:19:04Z</dcterms:created>
  <dc:creator>Boris</dc:creator>
  <dc:description/>
  <dc:language>en-US</dc:language>
  <cp:lastModifiedBy>Claudio Magliona</cp:lastModifiedBy>
  <dcterms:modified xsi:type="dcterms:W3CDTF">2008-06-25T14:11:09Z</dcterms:modified>
  <cp:revision>52</cp:revision>
  <dc:subject/>
  <dc:title>Propiedad Industrial y Defensa de la Competencia</dc:title>
</cp:coreProperties>
</file>