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A1E-7E3B-4AE4-B9EE-6F103C84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4E7-1BFD-40B4-B19E-BF9E5996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CEE-6054-46C4-9932-154C40B5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0E7-C95E-4425-87E8-771438DA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7BB-942D-417E-8435-2A22FEBD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F0E-04C5-40EE-8158-9FB5B766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EBE-21BA-48BB-81DE-ECA017F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89B-F783-43ED-94AD-E1543832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C8C-259C-4333-A32E-DF7C9100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809-A2B8-45B0-9B07-CFCF2820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E4B-4627-4564-9A14-754E13A7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877-2B7B-47E7-BD2C-BCC22E00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CB9F-E7AE-4771-8BF7-4D14D23FC5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54.- “… los instrumentos, aparatos … en los que la forma sea reivindicable, tanto en su aspecto externo como en su funcionamiento, y siempre que esta produzca una UTILIDAD, esto es, que aporte a la función a que son destinados un beneficio, ventaja o efecto técnico que antes no tení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tular del derecho: empleador o 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entual repartición de benefici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U. tiene un sistema: Regla Gral: Ter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ortancia en Chile por sistema de innovació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e una definición legal para Transferencia Tecnológica, y ni siquiera una mención a ella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 es la efectiva utilización de la innovación en la sociedad civil o en el ámbito que corresp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21300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357720"/>
            <a:ext cx="2232360" cy="720720"/>
          </a:xfrm>
          <a:prstGeom prst="rightArrow">
            <a:avLst>
              <a:gd name="adj1" fmla="val 54648"/>
              <a:gd name="adj2" fmla="val 207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+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213000"/>
            <a:ext cx="10796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3357720"/>
            <a:ext cx="2232000" cy="720720"/>
          </a:xfrm>
          <a:prstGeom prst="rightArrow">
            <a:avLst>
              <a:gd name="adj1" fmla="val 54648"/>
              <a:gd name="adj2" fmla="val 207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tección 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3284640"/>
            <a:ext cx="8269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T.T</a:t>
            </a: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8640"/>
            <a:ext cx="107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71628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58136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724280"/>
            <a:ext cx="50472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7280" y="27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5589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42900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581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2205000"/>
            <a:ext cx="574920" cy="3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458136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80000" y="623736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284720" y="1844640"/>
            <a:ext cx="574560" cy="3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851280" y="2204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227628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59280" y="364464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35640" y="249228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400536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00536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797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67280" y="4220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149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4221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16720" y="314172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2421000"/>
            <a:ext cx="187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956720" y="2997360"/>
            <a:ext cx="574560" cy="38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5013360"/>
            <a:ext cx="28872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4724280"/>
            <a:ext cx="827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T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00360" y="2997000"/>
            <a:ext cx="72072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51280" y="234900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716280"/>
            <a:ext cx="2872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16360" y="3860640"/>
            <a:ext cx="86508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4941720"/>
            <a:ext cx="433080" cy="72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653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724280"/>
            <a:ext cx="792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653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95640" y="414936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4149720"/>
            <a:ext cx="576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08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292720" y="2492280"/>
            <a:ext cx="57636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8559720" y="92160"/>
            <a:ext cx="47628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32130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I + D +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 y Desarroll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dinero en conocimi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ció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conocimientos en din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comienza el día 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atentes de invención (y las demás formas de protección análogas) son sólo un elemento más (habitualmente esencial) en el proceso de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no significa NECESARIAMENTE la comercialización de la in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línea de producción en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empres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start ups, spin off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mpra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Li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Franqu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nsult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T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Material Transfer Agreem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Inno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por el cual una de las partes, titular de derechos de propiedad industrial (licenciante), autoriza a otra (licenciatario) para que use y goce de dichos derechos, a cambio de un pago convenido de antemano (regal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rito (anotación al margen) en DPI para ser oponible a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563040" y="60505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216648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a o no exclu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te o no exc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uita u one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cru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no voluntarias (Art. 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9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700280"/>
            <a:ext cx="304632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1280" y="1628280"/>
            <a:ext cx="32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086400">
            <a:off x="69840" y="-87480"/>
            <a:ext cx="3995640" cy="382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455400">
            <a:off x="4109760" y="299520"/>
            <a:ext cx="4464000" cy="282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37600">
            <a:off x="2484360" y="1989000"/>
            <a:ext cx="3816360" cy="362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10600">
            <a:off x="221760" y="1157400"/>
            <a:ext cx="3862440" cy="54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1382200">
            <a:off x="4614840" y="3731760"/>
            <a:ext cx="4272120" cy="316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14800">
            <a:off x="4773240" y="272376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1213000">
            <a:off x="5254560" y="219240"/>
            <a:ext cx="361008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470320" y="260280"/>
            <a:ext cx="34398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 rot="21451200">
            <a:off x="2124000" y="2889000"/>
            <a:ext cx="4032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sitos Modelo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licación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costo de solicitud y tram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e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plazo de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en países menos industr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ción: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por ciclos de producción acel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62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 forma tridimensional asociada o no a colores, y cualquier artículo industrial o artesanal que sirva de patrón para la fabricación de otras unidades y que se distinga de sus similares, sea por su forma, configuración geométrica, ornamentación o una combinación de estas, siempre que dichas características le den una apariencia especial perceptible por medio de la vista, de tal manera que resulte una fisonomía nue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onomía original, Nueva y Dife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rte Arbitrario (“Diseñ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ños desde fecha de solic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564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2908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3816360" cy="20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175280" cy="24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68 en adela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tos de trabajo o prestación de servic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nciones 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616320" y="599400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413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para mi gusto, Título poco afortun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3:33:19Z</dcterms:created>
  <dc:creator>rcooper</dc:creator>
  <dc:description/>
  <dc:language>en-US</dc:language>
  <cp:lastModifiedBy>Claudio Magliona</cp:lastModifiedBy>
  <dcterms:modified xsi:type="dcterms:W3CDTF">2008-07-02T23:35:22Z</dcterms:modified>
  <cp:revision>6</cp:revision>
  <dc:subject/>
  <dc:title>Modelo de Utilidad</dc:title>
</cp:coreProperties>
</file>