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561-CF0A-485E-806A-656EBCC8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BF3-7040-4B78-A97F-AEEDAA4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4B7-49DA-4795-B7EF-15AB65A8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8BC-65A5-4F89-8DF4-542DEDE8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C63-F109-4F4C-BFC9-82DEBCCF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EC6-D680-4D71-A3FB-393B438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A8A-FD5C-4842-98E4-01BFF378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E68B-6E89-4FC0-B56D-437A7D5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BADD-2489-440F-B73E-C5CB3D25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DB3-81F1-40A6-A868-72740E4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126B-A6A1-48B3-9017-0AFDF62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3E7-D14F-4998-BBD5-D496CE2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7AFE-97AA-48C8-98C1-4FDDBFD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3429-9C20-4BD3-9C68-B2117CC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D39-E3A6-4751-A6EF-8773B2A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88A-63DC-433A-990B-0FB6BA33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E400-46B5-46E3-8848-A48E538D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1B3-9649-4801-8C64-57094691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80D-2699-4A4B-8666-A393DF4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470-1B7E-4307-A225-90CFD42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D86-083A-4DDC-8CB8-9BC5AA14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653-54DB-4C17-BA59-A6B75E94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871-F315-4306-8B70-BF01F5F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7D6-5952-41D8-B95C-39992A1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82B-3CF6-4349-885C-F9F5D37380A1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1B7D-8EAB-4B84-841B-1110DCED2B0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Primer tema: teorías y concepto constitucional</a:t>
            </a: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ORGÁNICAS O SU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uguitiana. León Dug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jezeana. Gastón Jèz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SUSTANCIALES U O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el Prof. Eduardo Soto Klo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del Prof. Gustavo Fiamma Oliva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LA TESIS CONSTITU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Reforma Constitucional de 199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CONSTITUCIONAL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Segundo Tema: Definición y Elementos de la definición constitucional de DAD</a:t>
            </a: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3284280"/>
            <a:ext cx="6335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DERECHO ADMINISTRATIVO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ORMADA POR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LAS NORMAS Y PRINCIPIO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QUE REGULAN EL SER Y EL ACTUAR DE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- 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Elementos del concepto constitucional de Derecho Administrativo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REGULADORES DEL SER Y DEL ACTUAR DE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LA ADMINISTRA- CIÓN DEL ESTADO O ADMI- NISTRACIÓN PÚBLICA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2349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titular de la soberanía. León Duguit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 Efecto jurídico del Estado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constitucional. Otto Mayer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Administración Pública en el Estado constitucional. El sentido del Derecho administra- tivo.Fritz Fleiner. Las tres prerrogativas del poder público.Roger Bonn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4.  La actuación de la Administración Pública en el Estado constitucional: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imperii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y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gestionis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. André de Laubadère. El acto de gestión pública. Long, Weil, Braibant y otr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acto administrativo es propiamente el acto de autoridad, el decret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6600ff"/>
                </a:solidFill>
                <a:latin typeface="Comic Sans MS"/>
              </a:rPr>
              <a:t>PROBLE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en la actualidad, sigue siendo titular de la soberanía radicada en la nación,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PER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la soberanía no es ya el poder absoluto y perpetuo del 1800 y hasta fines del 1900. CPR., artículo 5°.inciso 2°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La CPR reconoce que </a:t>
            </a:r>
            <a:r>
              <a:rPr b="1" lang="es-MX" sz="1800" spc="-1" strike="noStrike">
                <a:solidFill>
                  <a:srgbClr val="ea0000"/>
                </a:solidFill>
                <a:latin typeface="Comic Sans MS"/>
              </a:rPr>
              <a:t>N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hay “poderes del Estado”, sino que el poder del Estado es uno solo, que se ejerce por “órganos del Estado”.CPR,art. 5°.1. Entre estos órganos están las autonomías constitucionales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preeminencia de los derechos de las personas y las formas asociativas supranacionales con poderes de decisión obligatorios para los Estado, cuestionan la vigencia de las bases del “Estado nacional”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1.LAS NORMAS: EL ORDENAMIENTO JURÍDIC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CPR., artículo 6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32 N° 8; 113 inc. 2°, y 119 inc. 2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: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NORMA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Hay dos definiciones de ley. Incumplimiento de la Disposición 5ª transitori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y la desfiguración del reglamento presidencial autónom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 hecha por el Tribunal Constitucional en perjuicio de la potestad reglamentaria presidencia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2.LOS PRINCIPIOS JURÍDICO ADMINISTRA-TIV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31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