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6A1-38D1-4718-B024-64CD2F68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757-5CE7-4A48-A05B-AAC4247D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338-32F6-4A4C-B965-61F03FC8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7C0-9F8A-4A60-B44B-240411AD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410-2CE4-4132-B3A4-B586D192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5A5-BCED-4A97-A731-5282EF76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49C-A2C8-40BA-99D7-9A74F09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230-D02F-4F29-9CBD-6903D717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DAB-28B5-41C1-A46F-257BD22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626-2B34-4586-92E7-D79DDE9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4CD-5357-4A3A-BFEE-101E89D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15F-C4E2-4BE9-8275-E4B7B18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9BBF-9C11-47D0-82A6-9890A0BA2AB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206028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PMingLiU"/>
              </a:rPr>
              <a:t>Problemáticas asociadas a la TV Digital Terre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4724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C.E.D.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20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62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red de comunicaciones electrónicas conve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Posesión de la red y conv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esde el punto de vista de la Red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Problemas normativos de la Conv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246040"/>
            <a:ext cx="7631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Necesidad de adaptación normativa para transparentar el fenóm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Igualdad de oport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Prestación de servicios con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Acceso de los usuarios a los servicios con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Desarrollo tecnológico/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3840" cy="30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00"/>
                </a:solidFill>
                <a:latin typeface="PMingLiU"/>
              </a:rPr>
              <a:t>I. Convergencia tecnológica como gatillante del proceso de digitalización de los servicios de radiosifusión sonora y televis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912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integración de redes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Plataformas de comunicaciones electr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epto de conv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Los servicios de comunicación tradicionales y nuevos, con independencia de que utilicen imágenes, sonidos, datos o voz, pueden ofrecerse actualmente a través de muchas redes diferentes”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, medios de </a:t>
            </a:r>
            <a:r>
              <a:rPr b="1" lang="es-CL" sz="2000" spc="-1" strike="noStrike">
                <a:solidFill>
                  <a:srgbClr val="800000"/>
                </a:solidFill>
                <a:latin typeface="Arial Unicode MS"/>
              </a:rPr>
              <a:t>comunicación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y tecnologías de la información y sobre sus consecuencias para la reglamentación. en la perspectiva de la sociedad de la información, Bruselas, 3 de diciembre de 1997. Acápite 1, “Los Hechos”, pág.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vergencia tecno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La llave maestra de la convergencia es la </a:t>
            </a:r>
            <a:r>
              <a:rPr b="1" lang="es-ES" sz="2400" spc="-1" strike="noStrike">
                <a:solidFill>
                  <a:srgbClr val="ff0066"/>
                </a:solidFill>
                <a:latin typeface="Arial Unicode MS"/>
              </a:rPr>
              <a:t>codificación digital de la fuente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, es decir la conversión de la información, cualquiera sea su naturaleza, en ceros y unos, susceptibles de ser tratados por las computadoras a través de algoritmos generalmente aceptados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18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… pág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vergencia desde la mirada de los oper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Rece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De la información = datos paquet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3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La Convergencia Tecnológica se manifiesta en todos los elementos que constituyen la plataforma tecnológica: las redes de acceso y tránsito y las aplicaciones y servicios sobre los diferentes terminales de usuario”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Grupo de Regulación de Telecomunicaciones, Colegio Oficial de Ingenieros de Telecomunicación. “GRETEL2000, Convergencia, Competencia y Regulación en los Mercados de Telecomunicaciones, El Audiovisual e Internet. Vol. 2, Convergencia y Economía Digital” Ed. COIT, Madrid, 2002 , pág. 6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Convergencia desde el punto de vista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Terminales multipropó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29000" y="2805120"/>
            <a:ext cx="2286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292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esde el punto de vista del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La capacidad de diferentes plataformas de red de transportar tipos de servicios esencialmente similares, o la aproximación de dispositivos de consumo tales como el teléfono, la televisión y el ordenador personal”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, medios de comunicación y tecnologías de la información y sobre sus consecuencias para la reglamentación. En la perspectiva de la sociedad de la información.  Bruselas, 3 de diciembre de 1997. Pág.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8:48:46Z</dcterms:created>
  <dc:creator>Facultad de Derecho</dc:creator>
  <dc:description/>
  <dc:language>en-US</dc:language>
  <cp:lastModifiedBy>Administrador</cp:lastModifiedBy>
  <dcterms:modified xsi:type="dcterms:W3CDTF">2006-11-24T23:14:21Z</dcterms:modified>
  <cp:revision>15</cp:revision>
  <dc:subject/>
  <dc:title>Nombres de Dominio en Internet</dc:title>
</cp:coreProperties>
</file>