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3D3-7278-4521-9A52-799F8C4C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C9D-0796-4E72-B1A2-01AC648F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ED7-5F53-473C-BEF3-1FA70AF8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59E-F753-4982-BD5C-A984F35F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4B5-177B-40FC-B534-2DE2BD11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281-443A-4819-86D2-D45D2A74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30D-7F50-46AA-9D58-134DE017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56E-6E0E-4B40-98DE-8CD47ABC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835-B2AD-47A8-8C7F-141EFCFB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60B-6637-493C-BB6B-3E689531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C62-5DB3-4B5D-856A-461C8DD8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812-6D3B-4BCF-ABC0-4A1B0910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27F1-214C-40AE-8728-6848D620E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1160" y="4680"/>
          <a:ext cx="91663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4680"/>
                    <a:ext cx="916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57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Sistemas Tributarios en las Améric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33360" y="38862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Tercera Asamblea Ple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oro Interparlamentario de las Amé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Valparaíso, Abril d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Juan Cristóbal Bonnef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Área de Políticas Presupuestarias y Gestión Públic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LPES, CE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flipH="1">
            <a:off x="-360" y="4114800"/>
            <a:ext cx="2133720" cy="281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>
            <a:lum bright="20000"/>
          </a:blip>
          <a:srcRect l="0" t="0" r="0" b="28665"/>
          <a:stretch/>
        </p:blipFill>
        <p:spPr>
          <a:xfrm>
            <a:off x="0" y="0"/>
            <a:ext cx="2133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Comparación Internacional de la Carga Fiscal, </a:t>
            </a:r>
            <a:br>
              <a:rPr sz="3200"/>
            </a:b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1999-2000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Arial"/>
              </a:rPr>
              <a:t>(en porcentajes del PI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-76320" y="914400"/>
          <a:ext cx="944892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4489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6095880"/>
            <a:ext cx="944892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Fuente: ILPES-CEPAL, Panorama de las Finanzas Públicas, 2004. Notas: Las cifras de la OECD tienen cobertura de Gobierno General, al igual que Argentina, Brasil y Chile. El resto tiene cobertura de Gobierno Cent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arga y Composición de Ingresos Tributarios en América Latina, 200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(% de PI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324480"/>
            <a:ext cx="9144000" cy="5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Fuente: ILPES-CEPAL, Panorama de las Finanzas Públicas, 2004.  </a:t>
            </a:r>
            <a:r>
              <a:rPr b="1" lang="es-ES_tradnl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Nota: La cobertura es Gobierno Central para todos los países salvo Argentina, Bolivia, Brasil y Chile, cuyos datos corresponden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a cobertura de Gobierno Gene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-152280" y="878040"/>
          <a:ext cx="9448560" cy="544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878040"/>
                    <a:ext cx="9448560" cy="54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3120" y="228600"/>
            <a:ext cx="7996320" cy="609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4:07:06Z</dcterms:created>
  <dc:creator> Rodrigo Rojas</dc:creator>
  <dc:description/>
  <dc:language>en-US</dc:language>
  <cp:lastModifiedBy>Rodrigo Rojas P.</cp:lastModifiedBy>
  <dcterms:modified xsi:type="dcterms:W3CDTF">2008-03-07T19:32:24Z</dcterms:modified>
  <cp:revision>11</cp:revision>
  <dc:subject/>
  <dc:title>Diapositiva 1</dc:title>
</cp:coreProperties>
</file>