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0288588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2719-260A-4CC5-8C8F-EABACBC1F710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0462-968C-46D3-B43A-13F5A33DDA0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Img"/>
          </p:nvPr>
        </p:nvSpPr>
        <p:spPr>
          <a:xfrm>
            <a:off x="637920" y="415440"/>
            <a:ext cx="558468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body"/>
          </p:nvPr>
        </p:nvSpPr>
        <p:spPr>
          <a:xfrm>
            <a:off x="685800" y="4331160"/>
            <a:ext cx="548604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95DC-9244-4811-9443-F7F7A6AE397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200C-4777-4010-937A-47658BBC1CB6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F46B-6D81-45E8-99CF-7F49148D98B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52FB-C24D-4322-B2B6-00311D26A535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5E1D-3C96-4169-A2AF-BCEC52E08C5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1ED0-1B90-4D71-A1F2-A7D8CC706AEA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E4A3-C3B6-4882-A8C2-3779D95B3FA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521F-F706-46DA-B981-A4FB31DADE9C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C612-6DE7-4896-8C91-5B93EAD1185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7441-5A79-4482-BE00-47C337A9405D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0C0A-ABC8-4E9D-83B7-964D5F28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7570-3128-4BA5-8211-AAD970D6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4AD1-C846-4AB0-9A3C-A681DF7A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42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744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40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442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7744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A1FD-376C-4BB4-AC17-30051A69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643F-E08E-453A-B66F-7AE59078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46FC-A811-4B73-A29B-E308F4E4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6736-9F0F-4978-B9D4-674CB0D5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DA2E-7E43-40D2-A90B-B95C4D7A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8479-77EA-4A79-B500-6C46C8A9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14080" y="27756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AD31-573F-4621-A666-C7FE85C7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D046-279A-41B0-B572-0C704AFA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CDF-5989-4D20-A46C-03B2E2D9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8B9F-97C1-4A8D-A6F0-633AA361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1AE8-340B-42C7-8DB9-3D20C24C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98F6-5184-4C65-858F-A0ABA2C9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4B29-617B-42D8-9DEC-86BE91A5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6442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7744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40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6442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7744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C16B-257C-4237-9094-DA3EAEEB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DE5D-DA11-44E9-9630-DF7B3DF6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7C00-5A27-4AFE-ADAD-486FE522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FBD0-4A0E-457C-BF49-D6425A35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14080" y="27756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27D2-D39D-4EF2-B176-0C5E1749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9EB1-7310-4DB0-B328-F3671A12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6CA9-D45E-472A-938F-965F17A4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9A21-FEEF-46CF-8B78-C15D92A3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75000" y="1789200"/>
            <a:ext cx="6008400" cy="5056200"/>
            <a:chOff x="4275000" y="1789200"/>
            <a:chExt cx="6008400" cy="5056200"/>
          </a:xfrm>
        </p:grpSpPr>
        <p:sp>
          <p:nvSpPr>
            <p:cNvPr id="1" name=""/>
            <p:cNvSpPr/>
            <p:nvPr/>
          </p:nvSpPr>
          <p:spPr>
            <a:xfrm>
              <a:off x="7554240" y="2166840"/>
              <a:ext cx="35172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77360" y="1881360"/>
              <a:ext cx="8424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9295920" y="2373480"/>
              <a:ext cx="1044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99400" y="5568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9799560" y="2436480"/>
              <a:ext cx="1080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10072440" y="2414520"/>
              <a:ext cx="1044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6150240" y="2882520"/>
              <a:ext cx="1080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923360" y="2890800"/>
              <a:ext cx="1044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5419800" y="2968200"/>
              <a:ext cx="1044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156080" y="4795920"/>
              <a:ext cx="111240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504640" y="5700600"/>
              <a:ext cx="177876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547480" y="5786280"/>
              <a:ext cx="173592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79520" y="5700600"/>
              <a:ext cx="170388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62640" y="2446200"/>
              <a:ext cx="18216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462640" y="2682720"/>
              <a:ext cx="16056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462640" y="280656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768960" y="1913040"/>
              <a:ext cx="18216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780120" y="2141640"/>
              <a:ext cx="14976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768960" y="2274840"/>
              <a:ext cx="16056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694080" y="5595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387400" y="1789200"/>
              <a:ext cx="464940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239440" y="5989680"/>
              <a:ext cx="15012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748560" y="614664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4285440" y="6146640"/>
              <a:ext cx="12852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363920" y="6093000"/>
              <a:ext cx="246492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275000" y="6086520"/>
              <a:ext cx="268272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358520" y="6127920"/>
              <a:ext cx="254520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684480" y="6013440"/>
              <a:ext cx="16020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683640" y="5719680"/>
              <a:ext cx="12816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568280" y="2814480"/>
              <a:ext cx="3088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657920" y="2452680"/>
              <a:ext cx="13536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536240" y="2766960"/>
              <a:ext cx="36612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689960" y="2427120"/>
              <a:ext cx="45036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445160" y="2255760"/>
              <a:ext cx="56592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514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83B2-453C-4E2C-8931-7608CD2A6BF6}" type="datetime">
              <a:rPr b="0" lang="es-CL" sz="1200" spc="-1" strike="noStrike">
                <a:solidFill>
                  <a:srgbClr val="ffffff"/>
                </a:solidFill>
                <a:latin typeface="Tahom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514320" y="62784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7372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EEC4-6CB0-4CB2-AF37-95543573513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4275000" y="1789200"/>
            <a:ext cx="6008400" cy="5056200"/>
            <a:chOff x="4275000" y="1789200"/>
            <a:chExt cx="6008400" cy="5056200"/>
          </a:xfrm>
        </p:grpSpPr>
        <p:sp>
          <p:nvSpPr>
            <p:cNvPr id="77" name=""/>
            <p:cNvSpPr/>
            <p:nvPr/>
          </p:nvSpPr>
          <p:spPr>
            <a:xfrm>
              <a:off x="7554240" y="2166840"/>
              <a:ext cx="35172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77360" y="1881360"/>
              <a:ext cx="8424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9295920" y="2373480"/>
              <a:ext cx="1044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699400" y="5568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9799560" y="2436480"/>
              <a:ext cx="1080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10072440" y="2414520"/>
              <a:ext cx="1044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6150240" y="2882520"/>
              <a:ext cx="1080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923360" y="2890800"/>
              <a:ext cx="1044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5419800" y="2968200"/>
              <a:ext cx="1044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56080" y="4795920"/>
              <a:ext cx="111240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504640" y="5700600"/>
              <a:ext cx="177876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547480" y="5786280"/>
              <a:ext cx="173592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579520" y="5700600"/>
              <a:ext cx="170388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62640" y="2446200"/>
              <a:ext cx="18216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62640" y="2682720"/>
              <a:ext cx="16056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62640" y="280656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68960" y="1913040"/>
              <a:ext cx="18216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780120" y="2141640"/>
              <a:ext cx="14976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768960" y="2274840"/>
              <a:ext cx="16056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694080" y="5595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87400" y="1789200"/>
              <a:ext cx="464940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39440" y="5989680"/>
              <a:ext cx="15012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48560" y="614664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85440" y="6146640"/>
              <a:ext cx="12852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63920" y="6093000"/>
              <a:ext cx="246492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75000" y="6086520"/>
              <a:ext cx="268272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58520" y="6127920"/>
              <a:ext cx="254520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84480" y="6013440"/>
              <a:ext cx="16020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683640" y="5719680"/>
              <a:ext cx="12816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68280" y="2814480"/>
              <a:ext cx="3088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57920" y="2452680"/>
              <a:ext cx="13536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36240" y="2766960"/>
              <a:ext cx="36612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89960" y="2427120"/>
              <a:ext cx="45036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45160" y="2255760"/>
              <a:ext cx="56592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514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B42C-6ABB-4573-AAB7-D559DAEBA82E}" type="datetime">
              <a:rPr b="0" lang="es-CL" sz="1200" spc="-1" strike="noStrike">
                <a:solidFill>
                  <a:srgbClr val="ffffff"/>
                </a:solidFill>
                <a:latin typeface="Tahom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514320" y="62784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771120" y="1767960"/>
            <a:ext cx="874404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7372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9BDB-7EFF-4F94-A601-32B73D1EBC0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4080" y="8377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800" spc="-1" strike="noStrike">
                <a:solidFill>
                  <a:srgbClr val="dbbd71"/>
                </a:solidFill>
                <a:latin typeface="Book Antiqua"/>
              </a:rPr>
              <a:t>Derecho Tributario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95080" y="4876920"/>
            <a:ext cx="7296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 Antiqua"/>
              </a:rPr>
              <a:t>Facultad de Derech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 Antiqua"/>
              </a:rPr>
              <a:t>Universidad de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 Antiqua"/>
              </a:rPr>
              <a:t>Primer Semestre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2819520" y="2438280"/>
            <a:ext cx="4647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Book Antiqua"/>
              </a:rPr>
              <a:t>Profe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Book Antiqua"/>
              </a:rPr>
              <a:t>Rodrigo Rojas 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4EAA-6CE8-4214-9436-2517DE11C63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E303F-ED6C-4FBF-BA83-3B18B40F4A5D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14080" y="990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Comparación Tasa y Precio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90400" y="2590920"/>
            <a:ext cx="45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Tas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Obligato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Monopol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Subsid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43320" y="2590560"/>
            <a:ext cx="4552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Volun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Libre ofer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Uti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E15F-2ECE-4F24-9327-7FDAE7376D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53384-EC9C-4384-8D5D-60B9EFC21F15}" type="datetime1">
              <a:rPr lang="en-US"/>
              <a:t>07/30/26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76240" y="699480"/>
            <a:ext cx="7925040" cy="55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Norma: Decreto Supremo N° 109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 EXENT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Fecha Publicación: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28.02.2005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Organismo: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MINISTERIO DE </a:t>
            </a: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AGRICULTURA</a:t>
            </a:r>
            <a:br>
              <a:rPr sz="1200"/>
            </a:b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FIJA TARIFA POR LA INSPECCION Y CERTIFICACION DE PRODUCTOS FORESTALES DE EXPORTACION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Santiago, 22 de Febrero de 2005.- Hoy se decretó lo que sigue: Núm. 109 exento.-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Visto: El artículo 6º del DFL Nº 294 de 1960; lo establecido en artículo 7º letra ñ) de la ley Nº 18.755, Orgánica del Servicio Agrícola y Ganadero, modificada por la ley Nº 19.283, el Nº 16 del decreto Nº 186, de 1994, del Ministerio de Agricultura; el decreto Nº 19, de 2001, del Ministerio Secretaría General de la Presidencia y el artículo 32, Nº 8, y 35 de la Constitución Política de la República,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Decreto: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1º Fíjanse las siguientes tarifas a ser aplicadas en las labores de inspección y certificación de productos forestales de exportació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Rollizos, maderas aserradas   y aserrables, por metro cúbico    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00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Astillas y madera elaborada,   por tonelada                      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00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Vara de coligüe, por cada muestra de 300 uds que ampara un lote de 6000 unidades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d) Tejuelas de madera y otros productos forestales elaborados no incluidos en lo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tipos anteriores, por    hora de inspección                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5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2º Las tarifas señaladas en el presente decreto y los valores aplicables no incluyen el valor de los servicios de laboratorio que deban efectuarse, ni el costo de las horas extraordinarias habilitadas a cobrar.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3º El presente decreto regirá a contar del primer día del mes siguiente al de su publicación en el Diario Oficial.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Anótese, comuníquese y publíquese.-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Por orden del Presidente de la República, Arturo Barrera Miranda, Ministro de Agricultura (S).- María Eugenia Wagner Brizzi, Ministra de Hacienda (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05C6-ED1E-4C2F-8ADC-4F49DA55946D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BAFD6-45D8-4E95-9BA0-7F047D284BB3}" type="datetime1">
              <a:rPr lang="en-US"/>
              <a:t>07/30/26</a:t>
            </a:fld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14080" y="91404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br>
              <a:rPr sz="3600"/>
            </a:br>
            <a:r>
              <a:rPr b="0" lang="es-MX" sz="2800" spc="-1" strike="noStrike">
                <a:solidFill>
                  <a:srgbClr val="dbbd71"/>
                </a:solidFill>
                <a:latin typeface="Book Antiqua"/>
              </a:rPr>
              <a:t>Definiciones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42520" y="2285640"/>
            <a:ext cx="9201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Vinculo jurídico en virtud del cual, un sujeto debe dar a otro, que actúa ejercitando el poder tributario, una suma de dinero que se determina por ley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Vinculo de carácter personal que surge entre el Estado u otros entes públicos y, los sujetos pasivos en cuanto en cuanto ocurre el presupuesto de hecho previsto en la ley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7296-E207-4596-935B-3567E30D746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ED804-D268-43AC-8B4C-73CFC19FAD7A}" type="datetime1">
              <a:rPr lang="en-US"/>
              <a:t>07/30/26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785680" y="1143000"/>
            <a:ext cx="4714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bbd71"/>
                </a:solidFill>
                <a:latin typeface="Book Antiqua"/>
              </a:rPr>
              <a:t>Ele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81160" y="2514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Vinculo Juríd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Fuente leg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Acaecimiento de un hecho grav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Obligación principal: Pago de suma de din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8B3E-22F7-483F-8E8A-53F693E2A00D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AA0C9-CF4F-4753-AA61-40A988C087F0}" type="datetime1">
              <a:rPr lang="en-US"/>
              <a:t>07/30/26</a:t>
            </a:fld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Sujetos y Hecho Grav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81160" y="2514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Sujeto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Book Antiqua"/>
              </a:rPr>
              <a:t>Activo (Estado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Book Antiqua"/>
              </a:rPr>
              <a:t>Pasivo (Contribuyente, Agente retenedor, tercero responsabl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Hecho Gravado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Book Antiqua"/>
              </a:rPr>
              <a:t>Conjunto de circunstancias hipotéticamente previstas en la norma, cuya realización provoca el nacimiento de la obligación tributaria concreta. (Afecto, Exento, No afecto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Book Antiqua"/>
              </a:rPr>
              <a:t>Deveng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76D9-9EC9-4179-A835-6EC76679B462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D76DA-89EA-47B0-A073-50BFD2238A71}" type="datetime1">
              <a:rPr lang="en-US"/>
              <a:t>07/30/26</a:t>
            </a:fld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Base Imponible y 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81160" y="2514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Base Imponible: 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Cuantificación del hecho gravado. Cifra sobre la cual se aplica la tasa. Real o Presun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Tasa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: Porcentaje que se aplica a la base. Proporcional, Progresiva, Fija, etc. (Ejempl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Créditos: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 contra la Base o contra el Im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Exenciones: 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Reales y Pers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B306-7B9E-4876-80DD-5E176A1BA4A4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BE60C-AE97-4DBC-A98B-E89C010AB795}" type="datetime1">
              <a:rPr lang="en-US"/>
              <a:t>07/30/26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Determi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81160" y="3048120"/>
            <a:ext cx="7924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opio Contribuy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Ju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Autoridad tributaria (S.I.I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3D29-BEFD-42CA-84DE-6EB5CF285A5A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2900C-ED8B-4CCC-85B5-5B0A22970FF3}" type="datetime1">
              <a:rPr lang="en-US"/>
              <a:t>07/30/26</a:t>
            </a:fld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Exti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81160" y="3048120"/>
            <a:ext cx="7924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ago o solu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escrip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Compensación o impu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F27E-6D3E-4F6B-950E-535C263AC293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4E632-6CD2-409C-A8DF-D41AC84E801C}" type="datetime1">
              <a:rPr lang="en-US"/>
              <a:t>07/30/26</a:t>
            </a:fld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87360" y="11430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Limites al Poder Tribut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81160" y="274320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Leg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Igualdad y Gener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No discriminación arbitr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No afec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No Confis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Seguridad Juríd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F739-E84C-4467-96C6-897584F0305B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80443-7B6F-4F7E-A9AB-40B2C108D165}" type="datetime1">
              <a:rPr lang="en-US"/>
              <a:t>07/30/26</a:t>
            </a:fld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30160" y="1937520"/>
            <a:ext cx="8626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3: “Sólo son materias de le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N° 2 Las que la Constitución exija que sean reguladas por una ley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3 “Sólo son materias de le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N° 14: Las demás que la Constitución señale como leyes de iniciativa exclusiva del Presidente de la República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5 inciso 2°: “Las leyes sobre tributos de cualquiera naturaleza que sean, sobre los presupuestos de la administración pública y sobre reclutamiento, sólo pueden tener origen en la Cámara de Diputado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5 inciso 4° N° 1: “Corresponderá, asimismo, al Presidente de la República, la iniciativa exclusiva para: 1° Imponer, suprimir, reducir o condonar tributos de cualquier clase o naturaleza, establecer exenciones o modificar las existentes y determinar su forma, proporcionalidad o progresión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84840" y="9144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Leg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C1F4-4570-4940-87AF-95C65D6E3796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AC963-7946-42D1-BF31-C6FA6DD635B6}" type="datetime1">
              <a:rPr lang="en-US"/>
              <a:t>07/30/26</a:t>
            </a:fld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-3967200" y="268128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3886200"/>
            <a:ext cx="876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l bobtail, que en castellano significa "cola mocha" o "cola corta", debe su nombre a un hecho que sucedió hace doscientos años. Dado que el rey Guillermo I había establecido un impuesto sobre los perros de caza, que tenían todos la cola larga, los pastores, que utilizaban a sus perros de rebaño también para ir a cazar jabalíes, empezaron a cortar la cola a los cachorros recién nacidos, con el fin de no tener que pagar los impues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700440" y="838080"/>
            <a:ext cx="2886120" cy="242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1181-F527-405B-B2B3-8D359519A739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FEEAF-F2FA-4186-B63B-27AF77686199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30160" y="2360520"/>
            <a:ext cx="862668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0º La igual repartición de los tributos en proporción a las rentas o en la progresión o forma que fije la ley, y la igual repartición de las demás cargas públic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En ningún caso la ley podrá establecer tributos manifiestamente desproporcionados o inju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84840" y="9144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Igualdad y Gener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8A5C-C6C7-4F45-83BC-6BB76BBA0851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E4EF3-CE1D-45CA-B772-F21A566D759B}" type="datetime1">
              <a:rPr lang="en-US"/>
              <a:t>07/30/26</a:t>
            </a:fld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2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335240" y="2361240"/>
            <a:ext cx="76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8040" y="1591920"/>
            <a:ext cx="923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35240" y="2971800"/>
            <a:ext cx="7615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2º La no discriminación arbitraria en el trato que deben dar el Estado y sus organismos en materia económ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Sólo en virtud de una ley, y siempre que no signifique tal discriminación se podrán autorizar determinados beneficios directos o indirectos a favor de algún sector, actividad o zona geográfica, o establecer gravámenes especiales que afecten a uno u otras. En el caso de las franquicias o beneficios indirectos, la estimación del costo de éstos deberá incluirse anualmente en la Ley de Presupue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31560" y="914400"/>
            <a:ext cx="60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No Discriminación Arbitr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A0E-DB0E-4C29-9FEC-96808363D216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C146D-4F7D-4CEE-B2AE-F39BE5809232}" type="datetime1">
              <a:rPr lang="en-US"/>
              <a:t>07/30/26</a:t>
            </a:fld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14080" y="2057400"/>
            <a:ext cx="9124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0º La igual repartición ………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Los tributos que se recauden, cualquiera que sea su naturaleza ingresaran al patrimonio de la Nación y no podrán estar afectos a un destino determin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Sin embargo, la ley podrá autorizar que determinados tributos puedan estar afectados a fines propios de la defensa nacional. Asimismo, podrá autorizar que los que gravan actividades o bienes que tengan una clara identificación regional o local puedan ser aplicados, dentro de los marcos que la misma ley señale, por las autoridades regionales o comunales para el financiamiento de obras de desarrol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184840" y="9144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No Afec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7ABA-151A-4002-8D73-E0E580EEE300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D5332-DEF2-4899-A265-5DE769A3FC70}" type="datetime1">
              <a:rPr lang="en-US"/>
              <a:t>07/30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415880" y="2818440"/>
            <a:ext cx="74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6280" y="3580200"/>
            <a:ext cx="753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4º El derecho de propiedad en sus diversas especies sobre toda clase de bienes corporales o incorpor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84840" y="106668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No Confis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48FE-93CB-4D55-95DB-527F449D571D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C3D50-3311-49CD-8251-023556B82B1E}" type="datetime1">
              <a:rPr lang="en-US"/>
              <a:t>07/30/26</a:t>
            </a:fld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92240" y="266616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11240" y="3427920"/>
            <a:ext cx="826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6º La seguridad de que los preceptos legales que por mandato de la Constitución regulen o complementen las garantías que ésta establece o que las limiten en los casos en que ella lo autoriza, no podrán afectar los derechos en su esencia, ni imponer condiciones, tributos o requisitos que impidan su libre ejerc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84840" y="106668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Seguridad Juríd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2866-CEF2-4C06-B4A7-DE848E75DE44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FBCB5-27E5-4D9A-B99A-58263D951E04}" type="datetime1">
              <a:rPr lang="en-US"/>
              <a:t>07/30/26</a:t>
            </a:fld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318680" y="1371600"/>
            <a:ext cx="7648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bbd71"/>
                </a:solidFill>
                <a:uFillTx/>
                <a:latin typeface="Book Antiqua"/>
                <a:ea typeface="Times New Roman"/>
              </a:rPr>
              <a:t>Potestad Tribut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ómo se orig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on qué obje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ómo funci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328-4DC6-40F6-A271-866336E247E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32127-FBF7-4233-8C3C-421BB9B2C869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71120" y="1028520"/>
            <a:ext cx="8744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bbd71"/>
                </a:solidFill>
                <a:uFillTx/>
                <a:latin typeface="Book Antiqua"/>
                <a:ea typeface="Times New Roman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Origina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Abstra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Perman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Indeleg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Irrenunci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Imprescript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Limitaciones territoriales y constituc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C98B-6C19-4B50-BE84-4A08F656BF2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4F2F9-776B-4854-B84E-F149F5C5F0E2}" type="datetime1">
              <a:rPr lang="en-US"/>
              <a:t>07/30/26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14080" y="91404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Tributo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14080" y="2514240"/>
            <a:ext cx="9258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Concep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Aquella prestación obligatoria, comúnmente en dinero, exigida por el Estado en ejercicio de su poder de imperio, en virtud de una ley, para atender sus necesidades y cumplir sus fines públicos, económicos y soci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D4F7-B2BB-402E-A330-EC495CA3B8C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2AC5A-5DD6-471C-A5BD-86C55BD26FA3}" type="datetime1">
              <a:rPr lang="en-US"/>
              <a:t>07/30/26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4080" y="6091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Clasificación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4520" y="1980720"/>
            <a:ext cx="7077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Internos y Extern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irectos e In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Reales y Pers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Fiscales y Municip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Generales y Espe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ermanentes y Transito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oporcionales, progresivos y fi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Retención y de reca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2E11-252F-4A4C-B1A6-0A4D745FC93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35A34-34BE-431B-B649-A028037F2D27}" type="datetime1">
              <a:rPr lang="en-US"/>
              <a:t>07/30/26</a:t>
            </a:fld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333440" y="571680"/>
          <a:ext cx="7543800" cy="5657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571680"/>
                    <a:ext cx="7543800" cy="56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FCB6-2AC8-45E4-A07C-917C09DFEC65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11C31-B0E4-4BDB-8709-615B888ED623}" type="datetime1">
              <a:rPr lang="en-US"/>
              <a:t>07/30/26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09760" y="503280"/>
            <a:ext cx="7467480" cy="585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0951-BB89-415F-9203-5715C86DB627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8A282-5D86-4B36-8358-38ACAFA948DF}" type="datetime1">
              <a:rPr lang="en-US"/>
              <a:t>07/30/26</a:t>
            </a:fld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4080" y="7617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Tipos de Tributo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23600" y="2286000"/>
            <a:ext cx="5239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Impues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Tas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Contribu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Derech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011-8073-426A-B36C-0248B224E61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91775-F393-46E3-9473-B07DCDCE5058}" type="datetime1">
              <a:rPr lang="en-US"/>
              <a:t>07/30/26</a:t>
            </a:fld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11:59:30Z</dcterms:created>
  <dc:creator>dale tincher</dc:creator>
  <dc:description/>
  <dc:language>en-US</dc:language>
  <cp:lastModifiedBy>Rodrigo Rojas P.</cp:lastModifiedBy>
  <cp:lastPrinted>1999-12-01T16:13:34Z</cp:lastPrinted>
  <dcterms:modified xsi:type="dcterms:W3CDTF">2008-03-07T19:29:44Z</dcterms:modified>
  <cp:revision>181</cp:revision>
  <dc:subject/>
  <dc:title>Using PowerPoint - For Lawyers - VA CLE Course by Dale Tincher Consultwebs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etsmartinc.com</vt:lpwstr>
  </property>
  <property fmtid="{D5CDD505-2E9C-101B-9397-08002B2CF9AE}" pid="9" name="LinkColor">
    <vt:r8>16711782</vt:r8>
  </property>
  <property fmtid="{D5CDD505-2E9C-101B-9397-08002B2CF9AE}" pid="10" name="MailAddress">
    <vt:lpwstr>dtincher@netsmartinc.com</vt:lpwstr>
  </property>
  <property fmtid="{D5CDD505-2E9C-101B-9397-08002B2CF9AE}" pid="11" name="NavBtnPos">
    <vt:r8>3</vt:r8>
  </property>
  <property fmtid="{D5CDD505-2E9C-101B-9397-08002B2CF9AE}" pid="12" name="Other">
    <vt:lpwstr>Phone: 919-272-8052</vt:lpwstr>
  </property>
  <property fmtid="{D5CDD505-2E9C-101B-9397-08002B2CF9AE}" pid="13" name="OutputDir">
    <vt:lpwstr>E:\NCBA Presentations - PPT and 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