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B48E0-F457-4923-BD05-AD5E7C131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67351-C7EB-4794-BD75-0C68C4C52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C980F-1D60-4DE6-A7BF-070CEC798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B7C57-C22F-4AB0-8E7D-03F4E7694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FE0E0-298E-456F-B77E-B83579950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56A52-9E43-4C43-956F-D5BB6E429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27D22-2079-47F9-B1A6-2239CD114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29BFE-BE8D-44B6-97E5-E9ABFA90E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48F64-5038-476F-BC14-1953591BF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776FE-6744-4F74-BF51-6DFB6F88B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36C90-DA46-41D5-9490-57B55ACB2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E2263-82FC-466F-B85B-048E956D5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C564A-3222-49B2-A755-65D39E6F89E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720"/>
            <a:ext cx="7775280" cy="201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entury Gothic"/>
              </a:rPr>
              <a:t>IMPUESTO DE SEGUNDA CATEGORÍ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11280" y="458640"/>
            <a:ext cx="7993080" cy="454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Cuando haya invertido en acciones de pago de S.A. </a:t>
            </a:r>
            <a:endParaRPr b="0" lang="en-US" sz="3200" spc="-1" strike="noStrike">
              <a:solidFill>
                <a:srgbClr val="000000"/>
              </a:solidFill>
              <a:latin typeface="Arial"/>
            </a:endParaRPr>
          </a:p>
          <a:p>
            <a:pPr marL="457200" indent="-457200">
              <a:lnSpc>
                <a:spcPct val="100000"/>
              </a:lnSpc>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Cuando tenga el beneficio tributario por la adquisición de viviendas DFL 2 por los dividendos pagados.</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5.</a:t>
            </a:r>
            <a:r>
              <a:rPr b="0" lang="es-ES" sz="3200" spc="-1" strike="noStrike">
                <a:solidFill>
                  <a:srgbClr val="000000"/>
                </a:solidFill>
                <a:latin typeface="Century Gothic"/>
              </a:rPr>
              <a:t>	</a:t>
            </a:r>
            <a:r>
              <a:rPr b="0" lang="es-ES" sz="3200" spc="-1" strike="noStrike">
                <a:solidFill>
                  <a:srgbClr val="000000"/>
                </a:solidFill>
                <a:latin typeface="Century Gothic"/>
              </a:rPr>
              <a:t>Cuando tenga otras tengas rentas no provenientes de su trabaj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404640"/>
            <a:ext cx="777240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entury Gothic"/>
              </a:rPr>
              <a:t>Remuneraciones pagadas con retraso (46)</a:t>
            </a:r>
            <a:endParaRPr b="0" lang="en-US" sz="3200" spc="-1" strike="noStrike">
              <a:solidFill>
                <a:srgbClr val="000000"/>
              </a:solidFill>
              <a:latin typeface="Arial"/>
            </a:endParaRPr>
          </a:p>
        </p:txBody>
      </p:sp>
      <p:sp>
        <p:nvSpPr>
          <p:cNvPr id="57" name="PlaceHolder 2"/>
          <p:cNvSpPr>
            <a:spLocks noGrp="1"/>
          </p:cNvSpPr>
          <p:nvPr>
            <p:ph/>
          </p:nvPr>
        </p:nvSpPr>
        <p:spPr>
          <a:xfrm>
            <a:off x="324000" y="1700280"/>
            <a:ext cx="8534160" cy="4876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Remuneraciones pagadas íntegramente con retraso</a:t>
            </a:r>
            <a:r>
              <a:rPr b="0" lang="es-ES_tradnl" sz="3200" spc="-1" strike="noStrike">
                <a:solidFill>
                  <a:srgbClr val="000000"/>
                </a:solidFill>
                <a:latin typeface="Century Gothic"/>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las se ubicarán en el o los períodos en que se devengaron y el impuesto se liquidará de acuerdo con las normas vigentes durante ellos (46 inciso 1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68360" y="836640"/>
            <a:ext cx="8280360" cy="398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Saldos de remuneraciones; remuneraciones accesorias o complementarias devengadas en más de un período pagadas con retraso.</a:t>
            </a: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Las diferencias o saldos se convertirán en unidades tributarias y se ubicarán en los períodos correspondientes, reliquidándose de acuerdo al valor de la citada unidad en los períodos respectivos (46 inciso 2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55640" y="907920"/>
            <a:ext cx="7848720" cy="33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Remuneraciones voluntarias pagadas:</a:t>
            </a:r>
            <a:endParaRPr b="0" lang="en-US" sz="36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tas se refieren a bonos de productividad o por metas que se pagan en un mes o a fines del período an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95280" y="606600"/>
            <a:ext cx="7993080" cy="56397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Dicha remuneración voluntaria debe ser dividida durante los diferentes meses trabajados, porque es un remuneración que se ha devengado durante un lapso superior al mes en que se paga, sin poder exceder de doce meses, debiendo reliquidarse el impuesto único por la empresa en todos los períodos involucrados (46 inciso final).</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n caso de tratarse de un aguinaldo, este engrosa la base imponible del mes en que se devenga ya que no se asocia con diversos perío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42720"/>
            <a:ext cx="85341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2.- </a:t>
            </a:r>
            <a:r>
              <a:rPr b="1" lang="es-ES_tradnl" sz="3200" spc="-1" strike="noStrike" u="sng">
                <a:solidFill>
                  <a:srgbClr val="000000"/>
                </a:solidFill>
                <a:uFillTx/>
                <a:latin typeface="Century Gothic"/>
              </a:rPr>
              <a:t>Tributación de profesionales liberales o de ocupaciones lucrativas:</a:t>
            </a:r>
            <a:endParaRPr b="0" lang="en-US" sz="3200" spc="-1" strike="noStrike">
              <a:solidFill>
                <a:srgbClr val="000000"/>
              </a:solidFill>
              <a:latin typeface="Arial"/>
            </a:endParaRPr>
          </a:p>
        </p:txBody>
      </p:sp>
      <p:sp>
        <p:nvSpPr>
          <p:cNvPr id="62" name="PlaceHolder 2"/>
          <p:cNvSpPr>
            <a:spLocks noGrp="1"/>
          </p:cNvSpPr>
          <p:nvPr>
            <p:ph/>
          </p:nvPr>
        </p:nvSpPr>
        <p:spPr>
          <a:xfrm>
            <a:off x="685800" y="1830240"/>
            <a:ext cx="7772400" cy="42674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n esta modalidad de la segunda categoría caen todos los ingresos provenientes del ejercicio de profesiones liberales o de ocupaciones lucrativas no comprendidas en el impuesto único o en la primera categoría.</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11280" y="692280"/>
            <a:ext cx="7993080" cy="2286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 </a:t>
            </a:r>
            <a:r>
              <a:rPr b="0" lang="es-ES_tradnl" sz="3200" spc="-1" strike="noStrike">
                <a:solidFill>
                  <a:srgbClr val="000000"/>
                </a:solidFill>
                <a:latin typeface="Century Gothic"/>
              </a:rPr>
              <a:t>Se refiere principalmente a todas aquellas personas naturales que perciben rentas por servicios personales sin mediar contrato de trabajo, es decir, a honorarios (con bole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620640"/>
            <a:ext cx="820728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Base imponible:</a:t>
            </a:r>
            <a:endParaRPr b="0" lang="en-US" sz="3600" spc="-1" strike="noStrike">
              <a:solidFill>
                <a:srgbClr val="000000"/>
              </a:solidFill>
              <a:latin typeface="Arial"/>
            </a:endParaRPr>
          </a:p>
        </p:txBody>
      </p:sp>
      <p:sp>
        <p:nvSpPr>
          <p:cNvPr id="65" name="PlaceHolder 2"/>
          <p:cNvSpPr>
            <a:spLocks noGrp="1"/>
          </p:cNvSpPr>
          <p:nvPr>
            <p:ph/>
          </p:nvPr>
        </p:nvSpPr>
        <p:spPr>
          <a:xfrm>
            <a:off x="250920" y="1699920"/>
            <a:ext cx="8534160" cy="33130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tá constituida por la suma de los ingresos que obtiene el profesional liberal, es decir, la suma de sus boletas de honorarios.</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95280" y="765000"/>
            <a:ext cx="82803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A esta suma será necesario descontarle los gastos en que haya incurrido el profesional para obtenerla. Por ello, la ley da dos alternativas para que este profesional determine la base imponible de su impuesto de segunda categoría:</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Ingresos - Gastos Efectivos (determinados por contabilidad conforme a reglas de 1ª Categoría -50 inciso 1º-)</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Ingresos - Gastos Presuntos (30% de sus ingresos con tope de 15 UTA -50 inciso 3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04640"/>
            <a:ext cx="7772400" cy="579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Gastos deducibles:</a:t>
            </a:r>
            <a:endParaRPr b="0" lang="en-US" sz="3200" spc="-1" strike="noStrike">
              <a:solidFill>
                <a:srgbClr val="000000"/>
              </a:solidFill>
              <a:latin typeface="Arial"/>
            </a:endParaRPr>
          </a:p>
        </p:txBody>
      </p:sp>
      <p:sp>
        <p:nvSpPr>
          <p:cNvPr id="68" name="PlaceHolder 2"/>
          <p:cNvSpPr>
            <a:spLocks noGrp="1"/>
          </p:cNvSpPr>
          <p:nvPr>
            <p:ph/>
          </p:nvPr>
        </p:nvSpPr>
        <p:spPr>
          <a:xfrm>
            <a:off x="239760" y="1125360"/>
            <a:ext cx="8664480" cy="5475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n caso de determinarse la renta conforme a gastos efectivos, procederán las normas pertinentes de la primera categoría y, además, conforme al artículo 50 inciso 2º,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Century Gothic"/>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Century Gothic"/>
              </a:rPr>
              <a:t>	</a:t>
            </a:r>
            <a:r>
              <a:rPr b="0" i="1" lang="es-ES_tradnl" sz="2800" spc="-1" strike="noStrike">
                <a:solidFill>
                  <a:srgbClr val="000000"/>
                </a:solidFill>
                <a:latin typeface="Century Gothic"/>
              </a:rPr>
              <a:t>“</a:t>
            </a:r>
            <a:r>
              <a:rPr b="0" i="1" lang="es-ES" sz="2800" spc="-1" strike="noStrike" u="sng">
                <a:solidFill>
                  <a:srgbClr val="000000"/>
                </a:solidFill>
                <a:uFillTx/>
                <a:latin typeface="Century Gothic"/>
              </a:rPr>
              <a:t>Especialmente, procederá la deducción como gasto</a:t>
            </a:r>
            <a:r>
              <a:rPr b="0" i="1" lang="es-ES" sz="2800" spc="-1" strike="noStrike">
                <a:solidFill>
                  <a:srgbClr val="000000"/>
                </a:solidFill>
                <a:latin typeface="Century Gothic"/>
              </a:rPr>
              <a:t> de las </a:t>
            </a:r>
            <a:r>
              <a:rPr b="1" i="1" lang="es-ES" sz="2800" spc="-1" strike="noStrike">
                <a:solidFill>
                  <a:srgbClr val="000000"/>
                </a:solidFill>
                <a:latin typeface="Century Gothic"/>
              </a:rPr>
              <a:t>imposiciones previsionales de cargo del contribuyente que en forma independiente se haya acogido a un régimen de previ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79640" y="1460520"/>
            <a:ext cx="698472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Impuesto que afecta a los trabajadores dependientes (únic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Impuestos que afectan a los trabajadores independient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Impuestos que afectan a directores y consejeros de S.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47640" y="1484280"/>
            <a:ext cx="7848720" cy="2780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Como las cotizaciones son voluntarias para los profesionales independientes, si la ley no señalara que pueden deducirse como gastos las imposiciones previsionales, no se podrían deducir. Esta es una norma de justicia para igualar los regímenes previsionales de trabajadores dependientes e independi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2028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onsideraciones finales:</a:t>
            </a:r>
            <a:endParaRPr b="0" lang="en-US" sz="3200" spc="-1" strike="noStrike">
              <a:solidFill>
                <a:srgbClr val="000000"/>
              </a:solidFill>
              <a:latin typeface="Arial"/>
            </a:endParaRPr>
          </a:p>
        </p:txBody>
      </p:sp>
      <p:sp>
        <p:nvSpPr>
          <p:cNvPr id="71" name="PlaceHolder 2"/>
          <p:cNvSpPr>
            <a:spLocks noGrp="1"/>
          </p:cNvSpPr>
          <p:nvPr>
            <p:ph/>
          </p:nvPr>
        </p:nvSpPr>
        <p:spPr>
          <a:xfrm>
            <a:off x="971640" y="1699920"/>
            <a:ext cx="7200720" cy="4383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Respecto de la </a:t>
            </a:r>
            <a:r>
              <a:rPr b="1" lang="es-ES_tradnl" sz="2400" spc="-1" strike="noStrike">
                <a:solidFill>
                  <a:srgbClr val="000000"/>
                </a:solidFill>
                <a:latin typeface="Century Gothic"/>
              </a:rPr>
              <a:t>alícuota o tasa</a:t>
            </a:r>
            <a:r>
              <a:rPr b="0" lang="es-ES_tradnl" sz="2400" spc="-1" strike="noStrike">
                <a:solidFill>
                  <a:srgbClr val="000000"/>
                </a:solidFill>
                <a:latin typeface="Century Gothic"/>
              </a:rPr>
              <a:t>, en el caso de los trabajadores independientes (profesionales liberales) esta será la misma del impuesto global complementario.</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El impuesto de estos trabajadores es de declaración y pago anual, sin perjuicio de lo cual los trabajadores están obligados a hacer ciertas deducciones mensuales a título de pago provisional mensual (PPM), a cuenta del impuesto anual, ascendentes al 10% de lo que percib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03280" y="1460520"/>
            <a:ext cx="8136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ste 10% debe ser retenido o pagado mensualmente en base al ingreso mensual.</a:t>
            </a:r>
            <a:endParaRPr b="0"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retenido cuando el servicio se preste a una empresa que lleva contabilidad completa, correspondiendo a esta su pago mensual.</a:t>
            </a:r>
            <a:endParaRPr b="0"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pagado por el propio profesional cuando el servicio se preste a alguien distinto de una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692280"/>
            <a:ext cx="8763120" cy="946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3.- </a:t>
            </a:r>
            <a:r>
              <a:rPr b="1" lang="es-ES_tradnl" sz="2800" spc="-1" strike="noStrike" u="sng">
                <a:solidFill>
                  <a:srgbClr val="000000"/>
                </a:solidFill>
                <a:uFillTx/>
                <a:latin typeface="Century Gothic"/>
              </a:rPr>
              <a:t>Tributación de Directores o </a:t>
            </a:r>
            <a:br>
              <a:rPr sz="2800"/>
            </a:br>
            <a:r>
              <a:rPr b="1" lang="es-ES_tradnl" sz="2800" spc="-1" strike="noStrike" u="sng">
                <a:solidFill>
                  <a:srgbClr val="000000"/>
                </a:solidFill>
                <a:uFillTx/>
                <a:latin typeface="Century Gothic"/>
              </a:rPr>
              <a:t>Consejeros de Sociedades Anónimas:</a:t>
            </a:r>
            <a:endParaRPr b="0" lang="en-US" sz="2800" spc="-1" strike="noStrike">
              <a:solidFill>
                <a:srgbClr val="000000"/>
              </a:solidFill>
              <a:latin typeface="Arial"/>
            </a:endParaRPr>
          </a:p>
        </p:txBody>
      </p:sp>
      <p:sp>
        <p:nvSpPr>
          <p:cNvPr id="74" name="PlaceHolder 2"/>
          <p:cNvSpPr>
            <a:spLocks noGrp="1"/>
          </p:cNvSpPr>
          <p:nvPr>
            <p:ph/>
          </p:nvPr>
        </p:nvSpPr>
        <p:spPr>
          <a:xfrm>
            <a:off x="304920" y="1989000"/>
            <a:ext cx="8534160" cy="31132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as dietas de los directores o consejeros de S.A., si bien están contempladas en las normas de 2ª categoría, no están afectas a las reglas de los impuestos de categoría sino directamente a impuestos finales (global complementario o adicional según corresponda).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47640" y="1268280"/>
            <a:ext cx="7848720" cy="316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Para ellos no es posible tributar bajo el sistema de presunción, es decir las dietas se incorporan sin que sea posible deducir como gastos presuntos el 30% de los ingresos. </a:t>
            </a:r>
            <a:endParaRPr b="0" lang="en-US" sz="2800" spc="-1" strike="noStrike">
              <a:solidFill>
                <a:srgbClr val="000000"/>
              </a:solidFill>
              <a:latin typeface="Arial"/>
            </a:endParaRPr>
          </a:p>
          <a:p>
            <a:pPr>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Si hay gastos vinculados a esas dietas deben deducirse de los ingresos conforme a las reglas de impuestos fin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33280" y="1674720"/>
            <a:ext cx="867744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ste 10% debe ser retenido o pagado mensualmente en base al ingreso mensual.</a:t>
            </a: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retenido cuando el servicio se preste a una empresa que lleva contabilidad completa, correspondiendo a esta su pago mensual.</a:t>
            </a: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pagado por el propio profesional cuando el servicio se preste a alguien distinto de una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49360"/>
            <a:ext cx="814716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I.- </a:t>
            </a:r>
            <a:r>
              <a:rPr b="1" lang="es-ES_tradnl" sz="3200" spc="-1" strike="noStrike" u="sng">
                <a:solidFill>
                  <a:srgbClr val="000000"/>
                </a:solidFill>
                <a:uFillTx/>
                <a:latin typeface="Century Gothic"/>
              </a:rPr>
              <a:t>Impuesto Único a los Trabajadores:</a:t>
            </a:r>
            <a:endParaRPr b="0" lang="en-US" sz="3200" spc="-1" strike="noStrike">
              <a:solidFill>
                <a:srgbClr val="000000"/>
              </a:solidFill>
              <a:latin typeface="Arial"/>
            </a:endParaRPr>
          </a:p>
        </p:txBody>
      </p:sp>
      <p:sp>
        <p:nvSpPr>
          <p:cNvPr id="44" name="PlaceHolder 2"/>
          <p:cNvSpPr>
            <a:spLocks noGrp="1"/>
          </p:cNvSpPr>
          <p:nvPr>
            <p:ph/>
          </p:nvPr>
        </p:nvSpPr>
        <p:spPr>
          <a:xfrm>
            <a:off x="685800" y="1557360"/>
            <a:ext cx="7772400" cy="4014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aracterística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Puede tener características de único</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 un impuesto progresivo</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La progresión se aplica por tramo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 un impuesto de declaración y pago mens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03280" y="907920"/>
            <a:ext cx="8137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Hecho Gravad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entury Gothic"/>
              </a:rPr>
              <a:t>Rentas provenientes del trabajo dependiente</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entury Gothic"/>
              </a:rPr>
              <a:t>Pensiones y montepíos de fuente chilena.</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95280" y="549360"/>
            <a:ext cx="8153280" cy="523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3200" spc="-1" strike="noStrike">
                <a:solidFill>
                  <a:srgbClr val="000000"/>
                </a:solidFill>
                <a:latin typeface="Century Gothic"/>
              </a:rPr>
              <a:t>Base Imponible (42 LIR):</a:t>
            </a:r>
            <a:endParaRPr b="0" lang="en-US" sz="3200" spc="-1" strike="noStrike">
              <a:solidFill>
                <a:srgbClr val="000000"/>
              </a:solidFill>
              <a:latin typeface="Arial"/>
            </a:endParaRPr>
          </a:p>
          <a:p>
            <a:pPr lvl="1" marL="457200">
              <a:lnSpc>
                <a:spcPct val="100000"/>
              </a:lnSpc>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800" spc="-1" strike="noStrike">
                <a:solidFill>
                  <a:srgbClr val="000000"/>
                </a:solidFill>
                <a:latin typeface="Century Gothic"/>
              </a:rPr>
              <a:t>Suma total de las remuneraciones y, en su caso, de las pensiones o montepíos</a:t>
            </a:r>
            <a:r>
              <a:rPr b="0" lang="es-ES_tradnl" sz="2400" spc="-1" strike="noStrike">
                <a:solidFill>
                  <a:srgbClr val="000000"/>
                </a:solidFill>
                <a:latin typeface="Century Gothic"/>
              </a:rPr>
              <a:t>.</a:t>
            </a:r>
            <a:endParaRPr b="0" lang="en-US" sz="2400" spc="-1" strike="noStrike">
              <a:solidFill>
                <a:srgbClr val="000000"/>
              </a:solidFill>
              <a:latin typeface="Arial"/>
            </a:endParaRPr>
          </a:p>
          <a:p>
            <a:pPr lvl="1" marL="457200">
              <a:lnSpc>
                <a:spcPct val="100000"/>
              </a:lnSpc>
              <a:spcBef>
                <a:spcPts val="17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800" spc="-1" strike="noStrike">
                <a:solidFill>
                  <a:srgbClr val="000000"/>
                </a:solidFill>
                <a:latin typeface="Century Gothic"/>
              </a:rPr>
              <a:t>De esta suma debemos deducir: </a:t>
            </a:r>
            <a:endParaRPr b="0" lang="en-US" sz="28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entury Gothic"/>
              </a:rPr>
              <a:t> </a:t>
            </a:r>
            <a:r>
              <a:rPr b="0" lang="es-ES_tradnl" sz="2400" spc="-1" strike="noStrike">
                <a:solidFill>
                  <a:srgbClr val="000000"/>
                </a:solidFill>
                <a:latin typeface="Century Gothic"/>
              </a:rPr>
              <a:t>Cotizaciones previsionales obligatorias.</a:t>
            </a:r>
            <a:endParaRPr b="0" lang="en-US" sz="24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400" spc="-1" strike="noStrike">
                <a:solidFill>
                  <a:srgbClr val="000000"/>
                </a:solidFill>
                <a:latin typeface="Century Gothic"/>
              </a:rPr>
              <a:t>Gastos de representación.</a:t>
            </a:r>
            <a:endParaRPr b="0" lang="en-US" sz="24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400" spc="-1" strike="noStrike">
                <a:solidFill>
                  <a:srgbClr val="000000"/>
                </a:solidFill>
                <a:latin typeface="Century Gothic"/>
              </a:rPr>
              <a:t>Cantidades percibidas que constituyan Ingresos No Renta.</a:t>
            </a:r>
            <a:endParaRPr b="0" lang="en-US" sz="24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400" spc="-1" strike="noStrike">
                <a:solidFill>
                  <a:srgbClr val="000000"/>
                </a:solidFill>
                <a:latin typeface="Century Gothic"/>
              </a:rPr>
              <a:t>Demás descuentos autorizados por leyes espec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260280"/>
            <a:ext cx="7772400" cy="10670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Alícuota: Tramos del impuesto de </a:t>
            </a:r>
            <a:br>
              <a:rPr sz="2800"/>
            </a:br>
            <a:r>
              <a:rPr b="1" lang="es-ES_tradnl" sz="2800" spc="-1" strike="noStrike">
                <a:solidFill>
                  <a:srgbClr val="000000"/>
                </a:solidFill>
                <a:latin typeface="Century Gothic"/>
              </a:rPr>
              <a:t>2ª categoría (43):</a:t>
            </a:r>
            <a:endParaRPr b="0" lang="en-US" sz="2800" spc="-1" strike="noStrike">
              <a:solidFill>
                <a:srgbClr val="000000"/>
              </a:solidFill>
              <a:latin typeface="Arial"/>
            </a:endParaRPr>
          </a:p>
        </p:txBody>
      </p:sp>
      <p:grpSp>
        <p:nvGrpSpPr>
          <p:cNvPr id="48" name=""/>
          <p:cNvGrpSpPr/>
          <p:nvPr/>
        </p:nvGrpSpPr>
        <p:grpSpPr>
          <a:xfrm>
            <a:off x="250920" y="1484280"/>
            <a:ext cx="8664480" cy="5105520"/>
            <a:chOff x="250920" y="1484280"/>
            <a:chExt cx="8664480" cy="5105520"/>
          </a:xfrm>
        </p:grpSpPr>
        <p:pic>
          <p:nvPicPr>
            <p:cNvPr id="49" name="" descr=""/>
            <p:cNvPicPr/>
            <p:nvPr/>
          </p:nvPicPr>
          <p:blipFill>
            <a:blip r:embed="rId1"/>
            <a:stretch/>
          </p:blipFill>
          <p:spPr>
            <a:xfrm>
              <a:off x="250920" y="1484280"/>
              <a:ext cx="8664480" cy="5105520"/>
            </a:xfrm>
            <a:prstGeom prst="rect">
              <a:avLst/>
            </a:prstGeom>
            <a:ln w="0">
              <a:noFill/>
            </a:ln>
          </p:spPr>
        </p:pic>
        <p:sp>
          <p:nvSpPr>
            <p:cNvPr id="50" name=""/>
            <p:cNvSpPr txBox="1"/>
            <p:nvPr/>
          </p:nvSpPr>
          <p:spPr>
            <a:xfrm>
              <a:off x="250920" y="1484280"/>
              <a:ext cx="8664480" cy="5105520"/>
            </a:xfrm>
            <a:prstGeom prst="rect">
              <a:avLst/>
            </a:prstGeom>
            <a:noFill/>
            <a:ln w="0">
              <a:noFill/>
            </a:ln>
          </p:spPr>
          <p:txBody>
            <a:bodyPr lIns="90000" rIns="90000" tIns="46800" bIns="46800"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333360"/>
            <a:ext cx="7772400" cy="64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Century Gothic"/>
              </a:rPr>
              <a:t>Reliquidación del impuesto (47):</a:t>
            </a:r>
            <a:endParaRPr b="0" lang="en-US" sz="3600" spc="-1" strike="noStrike">
              <a:solidFill>
                <a:srgbClr val="000000"/>
              </a:solidFill>
              <a:latin typeface="Arial"/>
            </a:endParaRPr>
          </a:p>
        </p:txBody>
      </p:sp>
      <p:sp>
        <p:nvSpPr>
          <p:cNvPr id="52" name="PlaceHolder 2"/>
          <p:cNvSpPr>
            <a:spLocks noGrp="1"/>
          </p:cNvSpPr>
          <p:nvPr>
            <p:ph/>
          </p:nvPr>
        </p:nvSpPr>
        <p:spPr>
          <a:xfrm>
            <a:off x="228240" y="1628640"/>
            <a:ext cx="8591400" cy="3672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Es necesario sumar las rentas obtenidas de rodos ellos para así aplicar la progresividad que corresponda, en otras palabras, debe reliquidar anualmente el impuesto de 1ª categor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68360" y="549360"/>
            <a:ext cx="806436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Alternativas:</a:t>
            </a: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Puede hacer PPM a cuenta del impuesto anual (65 Nº5).</a:t>
            </a: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Puede reliquidar mensualmente debiendo ingresar la diferencia en arcas fiscales mensualmente (47 inciso final)</a:t>
            </a: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Puede pedir a uno de los empleadores  que retenga las diferencias evitándose así hacer las reliquidaciones mensuales o anua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62120" y="838080"/>
            <a:ext cx="800100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Casos en que el trabajador debe hacer declaración o reliquidaciones:</a:t>
            </a:r>
            <a:endParaRPr b="0" lang="en-US" sz="3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just">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Cuando tiene rentas de más de un empleador.</a:t>
            </a:r>
            <a:endParaRPr b="0" lang="en-US" sz="3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2.</a:t>
            </a:r>
            <a:r>
              <a:rPr b="0" lang="es-ES" sz="3200" spc="-1" strike="noStrike">
                <a:solidFill>
                  <a:srgbClr val="000000"/>
                </a:solidFill>
                <a:latin typeface="Century Gothic"/>
              </a:rPr>
              <a:t>	</a:t>
            </a:r>
            <a:r>
              <a:rPr b="0" lang="es-ES" sz="3200" spc="-1" strike="noStrike">
                <a:solidFill>
                  <a:srgbClr val="000000"/>
                </a:solidFill>
                <a:latin typeface="Century Gothic"/>
              </a:rPr>
              <a:t>Cuando tiene derecho a créditos o cuando genera débitos (art. 57 bis A y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5:54:15Z</dcterms:created>
  <dc:creator>economico</dc:creator>
  <dc:description/>
  <dc:language>en-US</dc:language>
  <cp:lastModifiedBy>Rodrigo Rojas P.</cp:lastModifiedBy>
  <dcterms:modified xsi:type="dcterms:W3CDTF">2008-06-18T21:10:22Z</dcterms:modified>
  <cp:revision>10</cp:revision>
  <dc:subject/>
  <dc:title>IMPUESTO DE SEGUNDA CATEGORÍA</dc:title>
</cp:coreProperties>
</file>