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07720" y="698400"/>
            <a:ext cx="464652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Unicode MS"/>
              </a:rPr>
              <a:t>Click to move the slide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A93B5FE-F7DA-4CF0-BEFC-BA8C6185E29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Acá es importante hacer un rápido repaso de algunos temas de microeconomí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a microeconomía es el estudio de la conducta de los consumidores y productores que operan en los mercados individuales de la economí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33360" y="228600"/>
            <a:ext cx="7010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133720" y="228600"/>
            <a:ext cx="7010280" cy="9144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lvl="1" marL="646200" indent="-24840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lvl="2" marL="994320" indent="-19872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lvl="3" marL="1392120" indent="-19872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lvl="4" marL="1789920" indent="-19872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lvl="5" marL="1789920" indent="-19872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lvl="6" marL="1789920" indent="-19872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848720" y="1143000"/>
            <a:ext cx="1294920" cy="1143000"/>
            <a:chOff x="7848720" y="1143000"/>
            <a:chExt cx="1294920" cy="1143000"/>
          </a:xfrm>
        </p:grpSpPr>
        <p:pic>
          <p:nvPicPr>
            <p:cNvPr id="5" name="" descr=""/>
            <p:cNvPicPr/>
            <p:nvPr/>
          </p:nvPicPr>
          <p:blipFill>
            <a:blip r:embed="rId2"/>
            <a:srcRect l="8334" t="11814" r="39332" b="0"/>
            <a:stretch/>
          </p:blipFill>
          <p:spPr>
            <a:xfrm>
              <a:off x="8519760" y="1550160"/>
              <a:ext cx="623880" cy="7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" descr=""/>
            <p:cNvPicPr/>
            <p:nvPr/>
          </p:nvPicPr>
          <p:blipFill>
            <a:blip r:embed="rId3"/>
            <a:stretch/>
          </p:blipFill>
          <p:spPr>
            <a:xfrm>
              <a:off x="8240040" y="1143000"/>
              <a:ext cx="891000" cy="51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4"/>
            <a:stretch/>
          </p:blipFill>
          <p:spPr>
            <a:xfrm>
              <a:off x="7848720" y="1441440"/>
              <a:ext cx="841320" cy="56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90720" y="1447920"/>
            <a:ext cx="552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3399"/>
                </a:solidFill>
                <a:latin typeface="Tahoma"/>
              </a:rPr>
              <a:t>Fundamentos de la Regulaci</a:t>
            </a:r>
            <a:r>
              <a:rPr b="1" lang="es-CL" sz="4000" spc="-1" strike="noStrike">
                <a:solidFill>
                  <a:srgbClr val="003399"/>
                </a:solidFill>
                <a:latin typeface="Tahoma"/>
              </a:rPr>
              <a:t>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81280" y="4417920"/>
            <a:ext cx="383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Arial Narrow"/>
              </a:rPr>
              <a:t>LORENA PIÑEIRO UGA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Arial Narrow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2360" y="6151680"/>
            <a:ext cx="198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 Narrow"/>
              </a:rPr>
              <a:t>1er semestre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057400" y="228240"/>
            <a:ext cx="70866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429000"/>
            <a:ext cx="731520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6705720" y="-360"/>
            <a:ext cx="1440" cy="396252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Determinación de monto de producción y precio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604836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Eficiencia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576108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COMO RESPONDER AL MONOPOLIO?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Clr>
                <a:srgbClr val="3333cc"/>
              </a:buClr>
              <a:buFont typeface="Arial Unicode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In</a:t>
            </a:r>
            <a:r>
              <a:rPr b="1" lang="es-CL" sz="3600" spc="-1" strike="noStrike">
                <a:solidFill>
                  <a:srgbClr val="3333cc"/>
                </a:solidFill>
                <a:latin typeface="Arial Unicode MS"/>
              </a:rPr>
              <a:t>troducir más</a:t>
            </a: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 competencia (Legislación antimonopolio)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Clr>
                <a:srgbClr val="3333cc"/>
              </a:buClr>
              <a:buFont typeface="Arial Unicode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Regular</a:t>
            </a:r>
            <a:r>
              <a:rPr b="1" lang="es-CL" sz="36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cc"/>
                </a:solidFill>
                <a:latin typeface="Arial Unicode MS"/>
              </a:rPr>
              <a:t>   </a:t>
            </a:r>
            <a:r>
              <a:rPr b="1" lang="es-CL" sz="3600" spc="-1" strike="noStrike">
                <a:solidFill>
                  <a:srgbClr val="3333cc"/>
                </a:solidFill>
                <a:latin typeface="Arial Unicode MS"/>
              </a:rPr>
              <a:t>(fijar precios, calidad, aumentar producción, etc)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MONOPOLIO NATURAL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	</a:t>
            </a:r>
            <a:r>
              <a:rPr b="1" lang="es-CL" sz="3200" spc="-1" strike="noStrike">
                <a:solidFill>
                  <a:srgbClr val="3333cc"/>
                </a:solidFill>
                <a:latin typeface="Arial Narrow"/>
                <a:ea typeface="굴림"/>
              </a:rPr>
              <a:t>La economía de escala disponible en el proceso de  producción es de tal magnitud, que el mercado relevante es cubierto a un menor costo por una firma única</a:t>
            </a:r>
            <a:r>
              <a:rPr b="0" lang="es-ES" sz="3200" spc="-1" strike="noStrike">
                <a:solidFill>
                  <a:srgbClr val="3333cc"/>
                </a:solidFill>
                <a:latin typeface="Arial Narrow"/>
                <a:ea typeface="굴림"/>
              </a:rPr>
              <a:t>.</a:t>
            </a:r>
            <a:endParaRPr b="0" lang="en-US" sz="32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MONOPOLIO NATURAL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Economi</a:t>
            </a: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as</a:t>
            </a:r>
            <a:r>
              <a:rPr b="0" lang="en-GB" sz="2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de escala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: </a:t>
            </a: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 costo marginal disminuye a medida que aumenta la cantidad producida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Fuentes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: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1. </a:t>
            </a: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Costos fijos muy altos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 (</a:t>
            </a: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minas de 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diam</a:t>
            </a: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antes, carreteras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, patent</a:t>
            </a: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e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s)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2. </a:t>
            </a: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Ganancias por coordinaci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ón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 (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integración 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vertical integration &amp; 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redes)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3333cc"/>
                </a:solidFill>
                <a:latin typeface="Arial Narrow"/>
                <a:ea typeface="굴림"/>
              </a:rPr>
              <a:t>-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 Condición de monopolio natural no es permanente 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	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1100"/>
              </a:spcBef>
              <a:spcAft>
                <a:spcPts val="2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- Monopolio 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Natural 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deben ser regulados porque son </a:t>
            </a:r>
            <a:r>
              <a:rPr b="1" lang="es-CL" sz="4400" spc="-1" strike="noStrike">
                <a:solidFill>
                  <a:srgbClr val="3333cc"/>
                </a:solidFill>
                <a:latin typeface="Arial Narrow"/>
                <a:ea typeface="굴림"/>
              </a:rPr>
              <a:t>INEVITABLES</a:t>
            </a:r>
            <a:endParaRPr b="0" lang="en-US" sz="44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1100"/>
              </a:spcBef>
              <a:spcAft>
                <a:spcPts val="2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3333cc"/>
                </a:solidFill>
                <a:latin typeface="Arial Narrow"/>
                <a:ea typeface="굴림"/>
              </a:rPr>
              <a:t>	</a:t>
            </a:r>
            <a:endParaRPr b="0" lang="en-US" sz="44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COMO RESPONDER?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Fijación de precios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Acceso a instalaciones esenciales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Controles de Calidad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EXTERNALIDADES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614680" y="1413000"/>
            <a:ext cx="3914640" cy="491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EXTERNALIDADES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697120" y="1981080"/>
            <a:ext cx="374796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 Unicode MS"/>
              </a:rPr>
              <a:t>EXTERNALIDADES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68360" y="1197000"/>
            <a:ext cx="4608720" cy="512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Orígenes Regulación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0" algn="just">
              <a:lnSpc>
                <a:spcPct val="8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458640" indent="-458640" algn="just">
              <a:lnSpc>
                <a:spcPct val="80000"/>
              </a:lnSpc>
              <a:spcBef>
                <a:spcPts val="901"/>
              </a:spcBef>
              <a:spcAft>
                <a:spcPts val="2251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Unicode MS"/>
                <a:ea typeface="굴림"/>
              </a:rPr>
              <a:t>MOTIVOS O EXPLICACIONES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458640" indent="0" algn="just">
              <a:lnSpc>
                <a:spcPct val="8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458640" indent="-458640" algn="just">
              <a:lnSpc>
                <a:spcPct val="80000"/>
              </a:lnSpc>
              <a:spcBef>
                <a:spcPts val="901"/>
              </a:spcBef>
              <a:spcAft>
                <a:spcPts val="2251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Unicode MS"/>
                <a:ea typeface="굴림"/>
              </a:rPr>
              <a:t>JUSTIFICACIONES T</a:t>
            </a:r>
            <a:r>
              <a:rPr b="1" lang="es-CL" sz="3600" spc="-1" strike="noStrike">
                <a:solidFill>
                  <a:srgbClr val="3333cc"/>
                </a:solidFill>
                <a:latin typeface="Arial Unicode MS"/>
                <a:ea typeface="굴림"/>
              </a:rPr>
              <a:t>E</a:t>
            </a:r>
            <a:r>
              <a:rPr b="1" lang="en-US" sz="3600" spc="-1" strike="noStrike">
                <a:solidFill>
                  <a:srgbClr val="3333cc"/>
                </a:solidFill>
                <a:latin typeface="Arial Unicode MS"/>
                <a:ea typeface="굴림"/>
              </a:rPr>
              <a:t>CNICAS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458640" indent="0" algn="just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marL="458640" indent="0" algn="just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marL="458640" indent="0" algn="just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 Narrow"/>
                <a:ea typeface="굴림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Arial Narrow"/>
                <a:ea typeface="굴림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Arial Narrow"/>
                <a:ea typeface="굴림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Arial Narrow"/>
                <a:ea typeface="굴림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Arial Narrow"/>
                <a:ea typeface="굴림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Arial Narrow"/>
                <a:ea typeface="굴림"/>
              </a:rPr>
              <a:t>	</a:t>
            </a:r>
            <a:endParaRPr b="0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</a:rPr>
              <a:t>EXTERNALIDADES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NEGATIVAS: 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impone un cost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En la producción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En el consum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POSITIVAS: 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crea un beneficio.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En la producción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En el consum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EXTERNALIDADES NEGATIVAS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COSTO PRIVAD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COSTO EXTERN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COSTO MARGINAL SOCIA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EXTERNALIDADES NEGATIVAS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481800" cy="38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EXTERNALIDADES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6551640" cy="39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EXTERNALIDADES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Precio del producto no refleja el costo real 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Quien se apropia del ahorro?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Quien se hace cargo del costo?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INFORMACIÓN INADECUADA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90760" y="1484280"/>
            <a:ext cx="6162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INFORMACIÓN INADECUADA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Unicode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</a:rPr>
              <a:t>Costosa de generar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Unicode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</a:rPr>
              <a:t>No existe incentivo suficiente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Unicode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</a:rPr>
              <a:t>Información insuficiente o inadecuada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Unicode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</a:rPr>
              <a:t>Colusión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CONDUCTAS ANTICOMPETITIVAS 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</a:rPr>
              <a:t>A) Precios predatorios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Objetivo de una firma: eliminar competencia y lograr dominancia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Condiciones: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Resistencia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Barreras de entrada  al mercad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</a:rPr>
              <a:t>B) Colusión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CONTINUIDAD Y DISPONIBILIDAD DE SERVICIO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Clr>
                <a:srgbClr val="3333cc"/>
              </a:buClr>
              <a:buFont typeface="Arial Unicode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Necesidad de evitar el 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cc"/>
                </a:solidFill>
                <a:latin typeface="Arial Unicode MS"/>
              </a:rPr>
              <a:t>-Efectos de demanda cíclica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cc"/>
                </a:solidFill>
                <a:latin typeface="Arial Unicode MS"/>
              </a:rPr>
              <a:t>-</a:t>
            </a: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Descreme del mercado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B.Fundamento de justicia Social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PODER DE NEGOCIACIÓN DESIGUAL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4d4d4d"/>
                </a:solidFill>
                <a:latin typeface="Arial Narrow"/>
                <a:ea typeface="굴림"/>
              </a:rPr>
              <a:t> 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spcAft>
                <a:spcPts val="2251"/>
              </a:spcAft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cc"/>
                </a:solidFill>
                <a:latin typeface="Arial Narrow"/>
                <a:ea typeface="굴림"/>
              </a:rPr>
              <a:t>Impide una asignación justa y eficiente de los recursos.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spcAft>
                <a:spcPts val="2251"/>
              </a:spcAft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cc"/>
                </a:solidFill>
                <a:latin typeface="Arial Narrow"/>
                <a:ea typeface="굴림"/>
              </a:rPr>
              <a:t> </a:t>
            </a:r>
            <a:r>
              <a:rPr b="1" lang="es-CL" sz="3600" spc="-1" strike="noStrike">
                <a:solidFill>
                  <a:srgbClr val="3333cc"/>
                </a:solidFill>
                <a:latin typeface="Arial Narrow"/>
                <a:ea typeface="굴림"/>
              </a:rPr>
              <a:t>Regulación es necesaria para proteger los intereses de  los más desvalidos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FALLAS DE MERCADO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MONOPOLIOS Y MONOPOLIOS NATURALES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EXTERNALIDADES o SPILLOVERS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INFORMACION INADECUADA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CONTINUIDAD Y DISPONIBILIDAD DE SERVICIO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CONDUCTAS ANTICOMPETITIVAS  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WINDFALL PROFITS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ESCASEZ Y RACIONAMIENTO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JUSTICIA DISTRIBUTIVA 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COORDINACIÓN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PLANIFICACIÓN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PODER DE NEGOCIACIÓN DESIGUAL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ffffff"/>
                </a:solidFill>
                <a:latin typeface="Arial Unicode MS"/>
                <a:ea typeface="굴림"/>
              </a:rPr>
              <a:t>ESCASEZ Y RACIONAMIENTO</a:t>
            </a:r>
            <a:endParaRPr b="1" lang="en-US" sz="27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Regulación es usada para asignar o distribuir ciertos bienes</a:t>
            </a:r>
            <a:endParaRPr b="0" lang="en-US" sz="33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825"/>
              </a:spcBef>
              <a:spcAft>
                <a:spcPts val="2064"/>
              </a:spcAft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Espectro radioléctrico</a:t>
            </a:r>
            <a:endParaRPr b="0" lang="en-US" sz="33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825"/>
              </a:spcBef>
              <a:spcAft>
                <a:spcPts val="2064"/>
              </a:spcAft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Petróleo, etc</a:t>
            </a:r>
            <a:endParaRPr b="0" lang="en-US" sz="33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ffffff"/>
                </a:solidFill>
                <a:latin typeface="Arial Unicode MS"/>
                <a:ea typeface="굴림"/>
              </a:rPr>
              <a:t>JUSTICIA</a:t>
            </a:r>
            <a:r>
              <a:rPr b="0" lang="es-CL" sz="2200" spc="-1" strike="noStrike">
                <a:solidFill>
                  <a:srgbClr val="3333cc"/>
                </a:solidFill>
                <a:latin typeface="Arial Unicode MS"/>
              </a:rPr>
              <a:t> </a:t>
            </a:r>
            <a:r>
              <a:rPr b="0" lang="es-CL" sz="2700" spc="-1" strike="noStrike">
                <a:solidFill>
                  <a:srgbClr val="ffffff"/>
                </a:solidFill>
                <a:latin typeface="Arial Unicode MS"/>
                <a:ea typeface="굴림"/>
              </a:rPr>
              <a:t>DISTRIBUTIVA</a:t>
            </a:r>
            <a:endParaRPr b="1" lang="en-US" sz="27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spcAft>
                <a:spcPts val="2064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Eficiencia Económica busca maximizar bienestar social</a:t>
            </a:r>
            <a:endParaRPr b="0" lang="en-US" sz="33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825"/>
              </a:spcBef>
              <a:spcAft>
                <a:spcPts val="2064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Regulación busca una redistribución de la riqueza de manera más equitativa</a:t>
            </a:r>
            <a:endParaRPr b="0" lang="en-US" sz="33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ffffff"/>
                </a:solidFill>
                <a:latin typeface="Arial Unicode MS"/>
                <a:ea typeface="굴림"/>
              </a:rPr>
              <a:t>COORDINACIÓN</a:t>
            </a:r>
            <a:endParaRPr b="1" lang="en-US" sz="27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Necesidad de coordinar a la industria</a:t>
            </a:r>
            <a:endParaRPr b="0" lang="en-US" sz="33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825"/>
              </a:spcBef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Muy costoso</a:t>
            </a:r>
            <a:endParaRPr b="0" lang="en-US" sz="33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825"/>
              </a:spcBef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Regulación</a:t>
            </a:r>
            <a:r>
              <a:rPr b="0" lang="es-CL" sz="2800" spc="-1" strike="noStrike">
                <a:solidFill>
                  <a:srgbClr val="4d4d4d"/>
                </a:solidFill>
                <a:latin typeface="Arial Narrow"/>
              </a:rPr>
              <a:t> </a:t>
            </a: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establece estándares</a:t>
            </a:r>
            <a:endParaRPr b="0" lang="en-US" sz="33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ffffff"/>
                </a:solidFill>
                <a:latin typeface="Arial Unicode MS"/>
                <a:ea typeface="굴림"/>
              </a:rPr>
              <a:t>PLANIFICACIÓN</a:t>
            </a:r>
            <a:br>
              <a:rPr sz="2700"/>
            </a:br>
            <a:endParaRPr b="1" lang="en-US" sz="27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spcAft>
                <a:spcPts val="2064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Cumplir con las demandas de generaciones</a:t>
            </a:r>
            <a:r>
              <a:rPr b="0" lang="es-CL" sz="2800" spc="-1" strike="noStrike">
                <a:solidFill>
                  <a:srgbClr val="4d4d4d"/>
                </a:solidFill>
                <a:latin typeface="Arial Narrow"/>
              </a:rPr>
              <a:t> </a:t>
            </a: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futuras</a:t>
            </a:r>
            <a:endParaRPr b="0" lang="en-US" sz="33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Unicode MS"/>
              </a:rPr>
              <a:t>CONCLUSI</a:t>
            </a: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ÓN 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1" lang="es-ES" sz="3200" spc="-1" strike="noStrike">
                <a:solidFill>
                  <a:srgbClr val="3333cc"/>
                </a:solidFill>
                <a:latin typeface="Arial Narrow"/>
              </a:rPr>
              <a:t>LA REGULACIÓN PUEDE OBEDECER A VARIADAS JUSTIFICACIONES Y TOMAR LA FORMA DE UN MECANISMO O UNA COMBINACIÓN DE ELLOS</a:t>
            </a:r>
            <a:endParaRPr b="0" lang="en-US" sz="32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PRÓXIMA CLASE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1" lang="es-CL" sz="3200" spc="-1" strike="noStrike">
                <a:solidFill>
                  <a:srgbClr val="3333cc"/>
                </a:solidFill>
                <a:latin typeface="Arial Narrow"/>
              </a:rPr>
              <a:t>Traer un ejemplo concreto de medida regulatoria adoptada en Chile o en el exterior de al menos 5 de los 13 fundamentos estudiados.</a:t>
            </a:r>
            <a:endParaRPr b="0" lang="en-US" sz="32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COMPETENCIA PERFECTA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Arial Narrow"/>
              </a:rPr>
              <a:t>GRAN NÚMERO DE COMPRADORES Y VENDEDORES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Arial Narrow"/>
              </a:rPr>
              <a:t>PRODUCTO HOMOGÉNE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Arial Narrow"/>
              </a:rPr>
              <a:t>INFORMACIÓN PERFECTA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Arial Narrow"/>
              </a:rPr>
              <a:t>NO HAY BARRERAS DE INGRESO O SALIDA</a:t>
            </a:r>
            <a:r>
              <a:rPr b="0" lang="es-ES" sz="2800" spc="-1" strike="noStrike">
                <a:solidFill>
                  <a:srgbClr val="4d4d4d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EQUILIBRIO COMPETITIVO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83236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EFICIENCIA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800" y="1980720"/>
            <a:ext cx="7772400" cy="4343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447920" y="1447920"/>
            <a:ext cx="5486400" cy="48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MONOPOLIOS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Factores claves: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Existencia de un único vendedor 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El producto vendido es únic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Existen importantes barreras de entrada al mercado y la salida es difícil.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CONSECUENCIAS DE MONOPOLIO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spcBef>
                <a:spcPts val="1749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Reducción de producción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-533520" algn="just">
              <a:spcBef>
                <a:spcPts val="1749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Aumento de precios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-533520" algn="just">
              <a:spcBef>
                <a:spcPts val="1749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Transferencia de ingresos de parte de los consumidores al monopolista.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 Unicode MS"/>
              </a:rPr>
              <a:t>Demanda e Ingreso Marginal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5904000" cy="4321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9T16:51:25Z</dcterms:created>
  <dc:creator>lorena piñeiro</dc:creator>
  <dc:description/>
  <dc:language>en-US</dc:language>
  <cp:lastModifiedBy>lpineiro</cp:lastModifiedBy>
  <cp:lastPrinted>2004-01-28T11:14:07Z</cp:lastPrinted>
  <dcterms:modified xsi:type="dcterms:W3CDTF">2008-03-18T14:55:15Z</dcterms:modified>
  <cp:revision>217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72305884</vt:r8>
  </property>
  <property fmtid="{D5CDD505-2E9C-101B-9397-08002B2CF9AE}" pid="3" name="_AuthorEmail">
    <vt:lpwstr>lpineiro@subtel.cl</vt:lpwstr>
  </property>
  <property fmtid="{D5CDD505-2E9C-101B-9397-08002B2CF9AE}" pid="4" name="_AuthorEmailDisplayName">
    <vt:lpwstr>Lorena Piñeiro</vt:lpwstr>
  </property>
  <property fmtid="{D5CDD505-2E9C-101B-9397-08002B2CF9AE}" pid="5" name="_EmailSubject">
    <vt:lpwstr>Clase 123</vt:lpwstr>
  </property>
  <property fmtid="{D5CDD505-2E9C-101B-9397-08002B2CF9AE}" pid="6" name="_PreviousAdHocReviewCycleID">
    <vt:r8>-2030208783</vt:r8>
  </property>
  <property fmtid="{D5CDD505-2E9C-101B-9397-08002B2CF9AE}" pid="7" name="_ReviewingToolsShownOnce">
    <vt:lpwstr/>
  </property>
</Properties>
</file>