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341-E0AE-48E1-A0E1-BC6A97A1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499-E112-4A95-A212-F6F36015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7FE-D60D-48E2-AC17-63836648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FE4-7881-434B-9298-97F89F0E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09D1-7A8D-4903-913A-59CEBBAE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0127-8F29-4617-8CBD-2D6235ED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E6D1-687F-490E-93F9-764CFBFB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345A-E4FD-4C58-8F5C-115299F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DC0-8F1A-4CD5-AE8C-BF2A9A72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DFA6-F1F7-4E12-8C29-3D5E3FFC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ECB7-C5CF-4696-B836-7D125C8E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DB9-FC3D-4CDC-B994-1BE40A5D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825B-39D9-4521-A949-B1682825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60F2-6C1B-404C-B435-B10E1B41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6FD0-89AB-45F8-9E2F-833884A1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5530-07F3-454D-9AB8-B27BFAC8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B31F-F867-4049-8A50-C33A154A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86E-10C5-42A2-9282-A81F98D2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C92-D745-440C-9004-76981E08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527-15FF-41A5-881F-818CB71D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936-7C34-46CB-A68A-4CB293B2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1F4-7441-4B1C-ABE5-CB7DF46D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272-AF3D-4A8D-80C6-AFC0D2D9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8DA-D1A1-4739-9F55-4EBC94A7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96BA-CA46-4982-A45B-10A6A40490C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6619-579A-4F5C-A5E8-043CDA3CFEF9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88720"/>
            <a:ext cx="761976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ESAGREGACIÓN DE REDES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     “Facilidades Esencial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Octubre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Jimena Gutiérrez Barbagel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Facultad de Derech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617400"/>
            <a:ext cx="804384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Derecho de Acceso” a las Red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349000"/>
            <a:ext cx="77724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cepto amplio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D° comparado v/s chilen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luye incluso la Interconex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Género: D° de Acceso a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pecie: D° de Interconectar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 confundir c/ Cargo de Acces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 &amp; Sentido Estri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: D° reconocido a un operador de ejercer la actividad económica de las telecomunic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Estricto: </a:t>
            </a:r>
            <a:r>
              <a:rPr b="0" lang="es-CL" sz="3200" spc="-1" strike="noStrike">
                <a:solidFill>
                  <a:srgbClr val="ff0000"/>
                </a:solidFill>
                <a:latin typeface="Tahoma"/>
              </a:rPr>
              <a:t>D° reconocido a un operador de usar la infraestructura del o de los operadores titulares de la mism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Fuentes de la Desagregación de Redes en la Ley N° 18.168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Indirecta Art. 26°, inc. 2°: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 Factibilidad de utilizar </a:t>
            </a:r>
            <a:r>
              <a:rPr b="0" i="1" lang="es-CL" sz="3200" spc="-1" strike="noStrike">
                <a:solidFill>
                  <a:srgbClr val="000000"/>
                </a:solidFill>
                <a:latin typeface="Tahoma"/>
              </a:rPr>
              <a:t>medios de terceros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(Ej. OM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Directa Art. 29°, inc. 2°: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cio de conmutación y/o transmisión de señales provistas como servicio intermedio o como circuitos privados (regulación tarifari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559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    </a:t>
            </a: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Servicios Públicos de Telecomun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(Art. 3 Ley Teleco#; ej: Servicio Público Telef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“a satisfacer las necesidades de telecomunicaciones de la comunidad en genera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Doctrina del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servicio público concedid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Concepción histórica del servicio telefónico, telegráfico, telex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a interconectarse con otros servicios públicos de telecomunicaciones</a:t>
            </a:r>
            <a:r>
              <a:rPr b="0" lang="es-CL" sz="2400" spc="-1" strike="noStrike">
                <a:solidFill>
                  <a:srgbClr val="1c1c1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(como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interoperabilidad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c1c1c"/>
                </a:solidFill>
                <a:latin typeface="Arial Narrow"/>
              </a:rPr>
              <a:t>Dº de acceso a las redes</a:t>
            </a:r>
            <a:r>
              <a:rPr b="0" lang="es-CL" sz="1800" spc="-1" strike="noStrike">
                <a:solidFill>
                  <a:srgbClr val="1c1c1c"/>
                </a:solidFill>
                <a:latin typeface="Arial Narrow"/>
              </a:rPr>
              <a:t> (normativa comparada; Chile: Principios de competencia y de desagregación y/o compartición de redes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¿Entre el mismo tipo de servicios públicos o entre servicios públicos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del mismo tipo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Arial Narrow"/>
              </a:rPr>
              <a:t>Servicio Público Telefónico &amp; Desagregació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550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Loc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Móvil (OMV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de Larga Distancia Nacional e Internacion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99"/>
                </a:solidFill>
                <a:latin typeface="Arial Narrow"/>
              </a:rPr>
              <a:t>La Red Pública Telefónica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s 24 Redes Telefónicas Locales = 24 Zonas Primarias/Paí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Móvil= Redes de las Cías. Telef. Móv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de Larga Distancia= Redes de Portadores, que proveen conmutación o transmisión de LD Є al SPT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Desagregación de redes &amp; Fijación Tarif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Precios y Fijación Tarifaria (Título V Ley Nº 18.16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esupuestos (arts. 24º bis, 25º y 29º inc. 2º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Servicio Regulados: 1) A Público (previa calificación TD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2) Entre Operadores (siemp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incipio de “Empresa Eficien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Desagregación de Red: Circuitos Priv. o Serv. Intermed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Derecho Comparado: “Derecho de Acceso”, “Facilidades Esencial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Chile: Limitación al Dominio derivada de </a:t>
            </a:r>
            <a:r>
              <a:rPr b="0" i="1" lang="es-CL" sz="2000" spc="-1" strike="noStrike">
                <a:solidFill>
                  <a:srgbClr val="000000"/>
                </a:solidFill>
                <a:latin typeface="Arial Narrow"/>
              </a:rPr>
              <a:t>función social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 de las redes pub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93720"/>
            <a:ext cx="5943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Arial Narrow"/>
              </a:rPr>
              <a:t>Tarifas a Públ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.- Regla Gener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LIBERTAD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(art. 29° inc. 1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.- Excep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FIJACIÓN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 (art. 29° inc. 2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elefonía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rga Distancia Nacional e Inter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Narrow"/>
              </a:rPr>
              <a:t>Servicios de Transmisión y/o Conmutación de señales provistos como Circuitos Privados o Servicios Intermedios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844640"/>
            <a:ext cx="8345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I.- Presupuestos Legales de la Fij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1) “Condiciones insuficientes” en el Mercado para garantizar un régimen de libertad tarifaria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genér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No habla de monopolio, dominancia ni incumb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M° Relevante v/s Geográfico (Ej: sustituib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“Desafiabilidad” del M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2) Calificación Expresa del Organo de Defensa de la Competencia en tal sentido (TDLC, antes Comisión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Resolución N° 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515/98</a:t>
            </a: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imer antecedente jurisdiccional respecto de desagregación de re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scripción de Servicios Desagregados a Tarificar en el Caso de C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andato a la Autoridad sectorial de fijar tarifas propendiendo a “la máxima desagregación técnicamente factibl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70572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Doctrina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“Essential Facilities”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;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Presupuesto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1.- Monopolio natural (u oligopolio); </a:t>
            </a:r>
            <a:r>
              <a:rPr b="1" lang="es-CL" sz="2400" spc="-1" strike="noStrike">
                <a:solidFill>
                  <a:srgbClr val="3333cc"/>
                </a:solidFill>
                <a:latin typeface="Tahoma"/>
              </a:rPr>
              <a:t>n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Operador (es) dominante 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egración vert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Ejs: sistemas de transmisión eléctrica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dedicado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; art. 26° inc. 2° Ley Teleco#; servicios de red v/s servicios finales; red &amp; ferrocarriles, et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2.- Infraestructura o activos de difícil  repl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versiones cuantiosas o recursos escas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stos </a:t>
            </a:r>
            <a:r>
              <a:rPr b="0" i="1" lang="es-CL" sz="2400" spc="-1" strike="noStrike">
                <a:solidFill>
                  <a:srgbClr val="000000"/>
                </a:solidFill>
                <a:latin typeface="Tahoma"/>
              </a:rPr>
              <a:t>hund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um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esencial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no meramente conveniente o más económ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Resolución N° 686/2003 </a:t>
            </a:r>
            <a:r>
              <a:rPr b="0" lang="es-ES_tradnl" sz="28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nsidera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n Telefonía Loc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Titularidad de líneas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(CTC: 70%  a nivel regional, excepto X, XI e Isla de Pascua; Entel: 100%  en Isla de Pascua; Telsur: 80%  en X región; Telcoy: 80%  en XI reg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° de “Desafiabilidad” d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Esca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Dens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existencia de Portabilidad del Número (como barrera de entrada y de salid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° de “Sustituibilidad” por otras tecnología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(cable coaxial; WLL; PLC; 3°G móvil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No constituirían competencia potencial, salvo caso Cable Coaxial en el futur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ran concentración de oferta en “zon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ersistencia de riesgo de subsidios cruzados en algunas zon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 Narrow"/>
              </a:rPr>
              <a:t>Desagregación obligatoria para todos los prestadores del servicio, dominantes o no, e independientemente de la tecnología (resuelvo 3°)</a:t>
            </a: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Además de la CTC (calificación específic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Impugnaciones operadores no domin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blemática tecnología inalámbricas (Ej: WL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60280"/>
            <a:ext cx="7792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EJ. Servicios Desagregados</a:t>
            </a:r>
            <a:br>
              <a:rPr sz="4000"/>
            </a:b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n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Telefonía Local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99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Acometida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espacio para equipos (Hou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upervisión Técnica de Visi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Adecuación de Obras Civ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Enlace Punto a punto entre centros de conmu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facilidades para otros servicios en línea de un suscriptor de la concesio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Información de oportunidad y disponibilidad de servicios desagreg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Facilidades para figuración en guía telefónica de información del suscriptor asociado a línea de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línea telefónica analógica o digital para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Oferta de “Facilidad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Oferta Púb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Condiciones de ofrecimiento de los serv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ajo los presupuestos del decreto tarifario (precios, plazos, etc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No discrimin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oper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servicio a ser pr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Arial Narrow"/>
              </a:rPr>
              <a:t>Principios o Directrices Regulatorias de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Neutralidad Tecnológic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Competenci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Acceso Univers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896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Interconexión Obligato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Fundamento: Interoperabilidad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Tipo particular de acceso a las redes (doctrina y D° comparado sobr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Essential Facilities);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Narrow"/>
                <a:ea typeface="바탕"/>
              </a:rPr>
              <a:t>Problemática preexistente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  <a:ea typeface="바탕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Económica (altos costos de inver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Jurídica (denegatoria de contrat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Sentido Lato y Sentido Estricto del D° Acce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desarrollar una actividad económica s/ barreras de entrada y respetando el marco jurídico vig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uso de “infraestructura esencial” del O. incumb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560" y="617040"/>
            <a:ext cx="68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mpet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Subsidios Cruzad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Entre Servicios Regulados y Desregul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Condiciones para integración vertical de servicios (ej: Art. 26° inc. 2°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Tarifas Regula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Desagreg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바탕"/>
              </a:rPr>
              <a:t>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° de Acc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omoción Competencia (incorporación de nuevos acto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vita duplicación innecesaria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avorece el desarrollo de nuevos servici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licaciones tecnológ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Des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Desincentivo a la invers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l titular de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 terc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Ley de Mínimo Esfuer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Menor desarrollo de infraestructura física &amp; tecnológ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ey del Mínimo Esfuerz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637000"/>
            <a:ext cx="819936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3.- Denegación injustificada al uso de la infraestructura por los competi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4.- Factibilidad técnico económica de compartir la infraestructura es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n desmedro de la propia calidad de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0480"/>
            <a:ext cx="7696080" cy="15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Facilidades Esenciales</a:t>
            </a:r>
            <a:br>
              <a:rPr sz="4400"/>
            </a:b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Mercados destacab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d del Servicio Público Telefónico Lo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stema de Transmisión Sector Eléctr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aseoductos Sector del 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lenos Sanitarios Sector Bas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ahías Sector Portu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6849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Herramientas para fomentar la Competencia frente a Integración Vert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gregación o Compartición de Ac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: Desagregación de Redes en Teleco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utonomía en las unidades de nego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paración societaria (filiales abie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abilidad Regul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evitar subsidios cru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7770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Facilidades Esenciales &amp; 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Competencia: Barreras de Entrad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83818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Económica o Natural</a:t>
            </a:r>
            <a:r>
              <a:rPr b="0" lang="es-CL" sz="3600" spc="-1" strike="noStrike">
                <a:solidFill>
                  <a:srgbClr val="3333cc"/>
                </a:solidFill>
                <a:latin typeface="Arial Narrow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Gran Inversión en Infraestructura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“</a:t>
            </a:r>
            <a:r>
              <a:rPr b="1" i="1" lang="es-CL" sz="2400" spc="-1" strike="noStrike">
                <a:solidFill>
                  <a:srgbClr val="000000"/>
                </a:solidFill>
                <a:latin typeface="Arial Narrow"/>
              </a:rPr>
              <a:t>última milla”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Recurso esencial escaso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bahías, espect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Juríd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Negativa a contra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Condiciones de Contratación</a:t>
            </a: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fijación tarifa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37680"/>
            <a:ext cx="724032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 Narrow"/>
              </a:rPr>
              <a:t>Facilidades Esenciales &amp; D°s Constituciona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637000"/>
            <a:ext cx="8610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imitación al derecho de dominio (19° N° 2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Derecho de emprendimiento (19° N° 2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No discriminación arbitraria (19 N° 2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6597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Facilidades Esenciales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Fuen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4704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Art. 29, inc. 2° Ley General de Telecomunicaciones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servicios de conmutación de señales provistos como servicios intermedios o como circuitos priva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D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Ej: Fallo Colbún Endesa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Central Hidroeléctrica Aysé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Facilidades Esenciales &amp;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 Narrow"/>
              </a:rPr>
              <a:t>DESAGREGACIÓN DE RED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9:11Z</dcterms:created>
  <dc:creator>Cristian Wulf..</dc:creator>
  <dc:description/>
  <dc:language>en-US</dc:language>
  <cp:lastModifiedBy>ximena</cp:lastModifiedBy>
  <dcterms:modified xsi:type="dcterms:W3CDTF">2007-10-22T21:01:25Z</dcterms:modified>
  <cp:revision>16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2799495</vt:r8>
  </property>
  <property fmtid="{D5CDD505-2E9C-101B-9397-08002B2CF9AE}" pid="3" name="_AuthorEmail">
    <vt:lpwstr>xgutierrez@subtel.cl</vt:lpwstr>
  </property>
  <property fmtid="{D5CDD505-2E9C-101B-9397-08002B2CF9AE}" pid="4" name="_AuthorEmailDisplayName">
    <vt:lpwstr>Ximena Gutierrez</vt:lpwstr>
  </property>
  <property fmtid="{D5CDD505-2E9C-101B-9397-08002B2CF9AE}" pid="5" name="_EmailSubject">
    <vt:lpwstr>me mandaste la presentación?</vt:lpwstr>
  </property>
</Properties>
</file>