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A6B-A119-4CD3-AF09-5D34D003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FB3-20D3-4E3F-9442-137D0855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17EC-9C2A-4A01-9734-8F6108EA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301B-88AE-4EED-801C-0574EEEB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D91C-0070-4CFC-9E79-02D5D48C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034A-A22C-4ADD-B699-38858B7E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DF5D-F835-42EB-B08D-543D86E9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C4E8-8CCD-4908-9412-A49BF24C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F64A-C1FD-4FB6-A53B-80D97D34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01925-AFF9-46C4-BCB2-4A8BF870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74D9-C131-4E71-90F1-D1196564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CB2-C0EB-4FFF-8D1E-60F1ABB8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6706-E9EB-4E9E-A6E3-73697584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4FCC-CC55-4AC6-A83A-D4636FED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8049-8A35-4C3C-B158-F62CA124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CD30-D1FE-4540-BCC9-43735E5B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16F1-B179-430C-947E-28E01384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DDE-3D1E-492C-BAD6-C182DA11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7F1-D0E9-45D2-B5FA-597718DE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5CD-15C6-4F38-B95C-A5EAE61F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525960"/>
            <a:ext cx="7772400" cy="97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BB0-0C1E-422F-8B75-25CAA069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0CC-E79D-4992-911F-76B92CFF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47A-C709-4019-A214-F98D43AF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4BF9-4D63-4DBF-A5EA-D10A5BA9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34F5-A361-461C-BF88-692FCDA0750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54144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4757-8CA1-4A56-A807-DB84116EE9E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233280"/>
            <a:ext cx="7772400" cy="24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 </a:t>
            </a:r>
            <a:br>
              <a:rPr sz="4400"/>
            </a:br>
            <a:r>
              <a:rPr b="0" lang="es-ES_tradnl" sz="32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MEDIOS AUXILIARES PARA LA DETERMINACION DE LAS REGLAS DE DERECHO INTERNACIONAL</a:t>
            </a:r>
            <a:r>
              <a:rPr b="0" lang="es-ES" sz="4400" spc="-1" strike="noStrike">
                <a:solidFill>
                  <a:srgbClr val="cc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Profesor Alberto Riose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Facultad de Derecho Universidad de Chil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 Black"/>
              </a:rPr>
              <a:t>Derecho Internacional Public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 Opinion Consultiva respecto de la Convencion sobre el genocidio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establecio el principi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que solo proced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reserva siempre que hubiere conformidad con el objeto y fin del trata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LA DOCTRINA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9144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norma del art,38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 refiere a la doctrin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los publicista de mayor competenc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firiéndose solo a individuo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ero hoy tiene especial importancia la  opinión de Asociaciones y Sociedades  especializadas en Derecho Internacional, como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Institut de Droit International,la International Law Association,el Instituto Hispano Luso Americano de Derecho Internacional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Por otra parte , organizaciones internacioinales han creado organos consultivos, como en la ONU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Comision de Derecho Internacional, :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la OEA, el Comite Juridico Interamericano. En el Consejo de Europa, el Comite Europeo de Cooperacion juridica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iene menor importancia que la Jurisprudencia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in embargo  la doctrina fue fundamental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el desarrollo del Derecho de Gentes .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Y posteriorment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los siglos XVIII y. , XIX, en que se citaba  frecuentemente en las sentencias arbítrales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6858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reemos que la doctrina 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n la actualidad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ntribuye a determinar la existencia de la norma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analizarl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sistematizarla y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formular recomendaciones destinadas a mejorarla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6094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art.38 del Estatuto de la C.I.J.,parrafo 1,letra d) establece como medios auxiliares para determinar las normas de Derecho Internacional:  "las decisiones judiciales y las doctrinas de los poblicistas de mayor competencia 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"las decisiones judiciales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s doctrinas de los publicistas de mayor compet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 las distintas naciones"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LA  JURISPRUDENCIA.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s el conjunto de reglas jurídica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que se  desprenden d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s decisiones judiciales" (Pastor Ridruejo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 es propiamente una fuente,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in embargo  tiene un papel fundamental  para demostrar la existencia de una norma, determinar su alcance y aclarar su contenido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demas la jurisprudencia cumple un papel muy importante en la formación y prueba de una norma consuetudinaria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Arial Black"/>
                <a:ea typeface="Times New Roman"/>
              </a:rPr>
              <a:t>Los fallos,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tanto judiciales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o arbítrales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 refieren con frecuencia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la jurisprudencia constant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0"/>
            <a:ext cx="784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A las sentencias de la C I J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 le dio un valor relativo,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o lo dice el  art, 38 del Estatuto: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a decisión de la Corte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 es obligatoria sino para las partes en litigio 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specto del caso que ha sido decidido"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45684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o se siguió el principio de "·stare decisis" de los paises del Common Law,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egún el cual los fallos de los Tribunales Superiores constituyen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un precedente que tiene el valor de fuente de derech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Numerosos principios y normas de derecho internacional han recibido su consagración con motivo de fallos  judicial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-360"/>
            <a:ext cx="7848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jemplos: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de las Pesquerías Anglo Noruegas, que estableció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l principio de las líneas de base rectas para medir la anchura del mar territorial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so Nottebon que formulo el principio de la necesidad de un vinculo real y efectivo de nacionalidad como base para hacer efectiva la proteccion diplomatica. 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21:22:34Z</dcterms:created>
  <dc:creator>profesmp</dc:creator>
  <dc:description/>
  <dc:language>en-US</dc:language>
  <cp:lastModifiedBy>GILDA CICCI SALAZAR</cp:lastModifiedBy>
  <dcterms:modified xsi:type="dcterms:W3CDTF">2007-11-15T02:56:58Z</dcterms:modified>
  <cp:revision>47</cp:revision>
  <dc:subject/>
  <dc:title>  MEDIOS AUXILIARES PARA LA DETERMINACION DE LAS REGLAS DE DERECHO INTERNACIONAL </dc:title>
</cp:coreProperties>
</file>