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EB6-453F-456C-BB62-5E0382EE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11E-E650-4185-97E2-91FADB2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9D7-65E5-4301-B2ED-63071B1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AFC-2006-43A6-BEF6-19BBC48D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12E7C-48E8-44AE-90F9-F9DB18E4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6C45-43E6-4916-B297-B8B8627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CE976-8D8C-4B39-8E0D-6733252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0652A-B297-42A6-B090-FBEA59E8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D6078-EC93-45B4-AFB4-B967C186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FFE25-D018-4CBF-881C-5B5C7274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21A60-C6B2-4EA1-9B4F-5745821B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E9F-B20F-478A-97EB-077AACA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D064F-E61D-4E65-840F-953481AA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6F704-AE53-43E1-B1ED-ACD393E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49DA6-84AD-4899-9A87-49DC977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D2960-92CF-4BDD-AB2D-C6A03543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C3E1-0B18-49D1-8DC3-48788CE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49D-0E81-4E8D-8D04-57937EB3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15A-DD1A-45E8-8216-D4C7107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5AB-0053-4862-A0CA-1A46AC4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12E-EF91-4ED7-A392-1E23B432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AA7-8ABF-400F-A5B5-BE51781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A23-B00B-4FFE-95B5-0DB0B784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680-8D11-476D-A7E6-E6BB017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3699-D538-4B50-8FFF-986B73E7B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6378-1296-401F-8B7D-6467E8346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RECHO INTERNACION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ÚBLICO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720" y="2923920"/>
            <a:ext cx="44020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ora : 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yud.: Miriam Gutiér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nes  21  abril 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Violación grave de un trat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 60, párrafo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ituyen violación grave de un tratad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hazo del tratado no admitido por la conv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iolación de una disposición esencial para la consecución del objeto y fi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tengan buen día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ERMINACION DE LOS TRAT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las circunstancias que determinan el fin de éstos y la cesación de sus efectos jurídicos, extinguiéndose los derechos y obligaciones que emanan de e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afectar a tratados bilaterales o multilaterales, en ese caso se llama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de terminación de los      trata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ausales previstas en el mismo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utuo consent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Causales previstas en el Derecho Internacional Gen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previstas en el propio trat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t. 54 , letra a) de la Convención de Vi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1) Cumplimiento d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2) Cumplimiento de una condición resolut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3) Denu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regla general es que ella no proceda sino cuando los tratados contengan esta cláusula, salvo dos excepcione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conste la intención de las partes de admitir la denuncia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 retir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el derecho de denuncia pueda inferirse de la naturaleza del trata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Mutuo consent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a lugar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“abrogación”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. 54 (CV) señala que ésta podrá tener lugar en cualquier momento por consentimiento de todas las partes después de consultar a los demás Estados contrata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ede ser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xpresa o táci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Art.5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considerará terminado si todas las partes de él celebren ulteriormente un tratado sobre la misma mate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Se desprende del tratado posterior o consta de otro modo que ha sido intención de las partes que la materia se rija por un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disposiciones del tratado posterior son incompatibles, de modo que no pueden aplicarse simultáne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contempladas en el Derecho Internacional Gener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mplimiento total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Imposibilidad de cumplimiento (Art. 6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3. Desaparición total de una de las partes contrat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mbio fundamental de las circunstanc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Convención de Viena a desechado la teoría de la cláusula tácita y ha dado normas de carácter objetivo con el fin de evitar la inestabilidad de los tratados priorizando el pacta sunt serv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xcepcione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haya cambio de circunstancias  que afecten lo esencial del consentimiento de oblig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mbio tenga por efecto modificar radicalmente el alcance de las obligaciones que deban cumplirse en virtud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puede alegarse en casos relativos a fronteras o de una violación a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Surgimiento de una nueva norma imper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64 Conv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emás es causal de nulidad, exime a las partes del cumplimiento existente, sin afectar derecho o situación jurídica creadas por el tratado antes de su ter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1:56:31Z</dcterms:created>
  <dc:creator>Miriam</dc:creator>
  <dc:description/>
  <dc:language>en-US</dc:language>
  <cp:lastModifiedBy>lucarna30</cp:lastModifiedBy>
  <dcterms:modified xsi:type="dcterms:W3CDTF">2008-04-21T13:43:33Z</dcterms:modified>
  <cp:revision>3</cp:revision>
  <dc:subject/>
  <dc:title>DERECHO INTERNACIONAL  PÚBLICO   </dc:title>
</cp:coreProperties>
</file>