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ADA4-D9A8-4D46-A5F7-55E5E96FD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FAF4-923E-4DC9-977B-A26BB49D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453F-2613-480C-A5D4-33FFAF878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1463-768D-4A44-8FAA-7E5EDC5BD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CEB3-A405-4C4F-B7B0-F5A7A237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A99E-93FF-4DAE-9AC1-7E92DC62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6F26-676B-441F-B2A1-2573E5B4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7EDD-4342-41EE-A19C-0711DC27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4E14-C016-4068-87D6-41338ACB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ECBD-DF3E-49E4-9BEE-010AD976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56BA-32F6-4F54-A598-EFCB56C5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C465-AAC0-4A20-9D42-77FF73F5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1D9B-F8F3-46F1-9BD5-0A026B76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196B-12BD-4F90-9831-712EC680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DE55-2B66-4E32-850D-1A369D75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0B5C-1023-4264-9D3F-499923A58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54AD-C645-4702-B5F5-4B92FF249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DDAC-734F-4AC8-AA67-3BB137A4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3576-E90C-4A1C-B84D-5CE99FAD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5532-924A-476B-AE14-968EECB1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8DC0-6957-4FCA-AEFE-9DF60CA6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7E47-D60E-41F7-BFFA-78B17D6F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5117-4E60-43D1-85C6-83FE857A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1300-08A7-434E-913D-D124B9B3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1A59-D4F1-46CA-92C7-E29E3FCCDEE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E612-8274-47E5-900C-72F743927E4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ENMIENDA Y MODIFICACION DE TRATADOS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fesora Gilda Cicci 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MG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NOTIFICAC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E DEBE NOTIFICAR A LOS DEMAS EST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1.- LA INTEN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2.- Y EL CONTENIDO DE LA MODIFIC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LOS DEMAS ESTADOS PUEDEN SEÑALAR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-QUE LA MODIFICACIÓ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1.-AFECTA SUS DERECH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2.-QUE HACE MAS ONEROSAS LAS OBLIG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3.- QUE ATENTA CONTRA EL OBJETO Y FIN DEL TRAT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 OPONEN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 ORIGINA UNA CONTROVERSIA ENTRE LOS ESTADOS QUE PRETENDEN MODIFICAR EL TRAT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-ENTRE ELLOS Y LOS DEMAS  ESTADOS  QUE SOSTIENEN QUE AFECTA SUS DERECH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LTERA  SUS OBLIG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 IMPIDE  EL OBJETO Y FIN DEL TRAT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dbbd71"/>
                </a:solidFill>
                <a:latin typeface="Arial"/>
              </a:rPr>
              <a:t>TEMA  PLANTEADO POR  CDI EN  EL PROYECTO DE ARTS EN LA C. DE VIENA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RT   DEL PROYECTO SEÑALAB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-UN TRATADO PUEDE MODIFICARSE MEDIANTE LA PRÁCTICA ULTERIOR DE LOS ESTADOS PAR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- (SE ANALIZO CONCEPTO DE PRACTICA ULTERIOR  EN LA  INTERPRETACION DE  UN TRATAD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-SE CONSIDERA LA PRACTICA ULTERI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DI :  PARA MODIFICAR UN TRATADO SE PUEDE USAR   LA PRÁCTICA ULTERI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OS ESTADOS SE OPUSIERON —ENTRE ELLOS CH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-PORQUE IMPLICABA MODIFICAR UN TRAT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-SALTÁNDOSE LOS CONTROLES CONSTITUCIONALES DE CADA UNO DE LOS ESTADOS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ntinuació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 MODIFICACIÓN LA REALIZABA EL EJECUTIV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Y LA MODIFICACIÓN PODÍA INCIDIR EN MATERIAS DE L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O SE PODÍA MODIFICAR UN TRATADO POR LA PRÁCTICA ULTERI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 EXCLUYÓ LA NORMA DE LA CONVEN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RGUMENTOS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1.- SE SALTAN  CONTROL CONSTITUCIONAL  AL QUE ESTAN SUJE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OS TRATADOS EN EL ORDEN INTER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2.- PIERDE ESTABILIDAD EL TRATADO COMO INSTRUMEN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QUE REGULA LAS RELACIONES INTERNACION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RQUE SE EMPIEZA A MODIFICAR CON LA PRACTICA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dbbd71"/>
                </a:solidFill>
                <a:latin typeface="Arial"/>
              </a:rPr>
              <a:t>ARGUMENTO CHILENO PARA  OPONERSE</a:t>
            </a:r>
            <a:r>
              <a:rPr b="0" lang="es-ES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es-ES" sz="4000" spc="-1" strike="noStrike">
                <a:solidFill>
                  <a:srgbClr val="dbbd71"/>
                </a:solidFill>
                <a:latin typeface="Arial"/>
              </a:rPr>
              <a:t>A ESA NORMA EN LA CONVENCION DE VIEN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.-PILARES POLITICA EXTERIOR  JURÍDICA CHILEN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.-ES EL PRINCIPIO DE LA INTANGIBILIDAD DE LOS TRAT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3.-FRONTERAS CHILENAS   ESTABLECIDAS POR TRAT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HILE SE OPUSO Y LA NORMA SE EXCLUYÓ DE LA C DE VIE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NVENCIÓN DE VIEN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OS CONCEPT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MIENDA Y MODIFIC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rtículos 39, 40 y 4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NMIEND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mienda: alteración en los términos de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tado con efectos generales para tod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s part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1258920" y="3341160"/>
            <a:ext cx="666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ODIFICACIÓ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MBIO EN EL CONTENIDO DE UN TRAT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NO CON EFECTOS GENERALES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INO CON EFECTOS PARA 2 O MAS ESTADOS QUE DECID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QUE EN SUS RELACIONES RECIPROCAS  UN TRATADO MULTILATERAL SE  APLICA ENTRE ELLOS DE MANERA DIFERENTE AL CONTENIDO DEL TRAT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NORMA GENERA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UANDO  SE RELACIONEN CON CADA  PARTE EN EL TRAT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OLO ENTRE  ELLOS SE ALTERA EL CONTENIDO DEL TRAT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ON ACUERDOS INTER 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FERENCIA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MODIFICACIÓN: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ALTERACIÓN DEL TRAT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-CON EFECTOS PARTICULARES PARA UN GRUPO DE EST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NMIENDA: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MODIFICA EL TRATADO CON EFECTOS GENER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-PARA TODOS LOS ESTADOS PAR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dbbd71"/>
                </a:solidFill>
                <a:latin typeface="Arial"/>
              </a:rPr>
              <a:t>REGLA GENERAL   ENMIENDAS  DE  TRATADOS BILATERALE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NO SE PUEDE ALTERAR  CONTENIDO DE UN TRATADO BILATERAL SIN  EL ACUERDO DE LAS  PAR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RTICULO 40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I UN ESTADO DESEA ALTERAR UNA O MAS A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BE NOTIFICAR  A TODOS LOS EST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ADA  ESTADO NOTIFIC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ARTICIPA EN  NEGOCIACIÓN   DEL ACUERD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N  ONU  POR 2/ 3 Y  MIEMBROS PERMANEN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OBLIGA A TODOS  INCLUSO A LOS QUE RECHAZARON LA ENMIEN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VOTARON EN CONTRA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LTERACION EN LOS TRATADOS MULTILATERALE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DOPTADA POR DOS O MAS EST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N SUS RELACIONES RECIPRO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1.- DEBE ESTAR PERMITIDO EN EL TEXTO DEL TRAT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QUE PUEDAN CELEBRAR ACUERDOS MODIFICATOR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2.- QUE NO ESTE PROHIBIDA LA CELEBRACIÓN DE ESOS ACUER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BEN CONCURRIR DOS REQUISITOS COPULAT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3:59:24Z</dcterms:created>
  <dc:creator>Miriam</dc:creator>
  <dc:description/>
  <dc:language>en-US</dc:language>
  <cp:lastModifiedBy>Miriam</cp:lastModifiedBy>
  <dcterms:modified xsi:type="dcterms:W3CDTF">2008-05-12T11:05:36Z</dcterms:modified>
  <cp:revision>4</cp:revision>
  <dc:subject/>
  <dc:title>ENMIENDA Y MODIFICACION DE TRATADOS</dc:title>
</cp:coreProperties>
</file>