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500-9879-4BB3-802F-FBCAAD8C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9DE-869D-4EB4-BBD1-D75AC184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12DB-1C44-42A9-9883-8DC7DB7F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219-7193-4E0F-AF4D-E308671A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01C67-C352-4D32-A8A9-7F63E5BC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4B9B1-2639-4803-B5B4-A3C6F25C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8A1FB-7CD2-4F7D-A52C-0704C985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BED4F-DE53-4720-A381-0EC69112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03E16-40DA-40B2-B50C-F03CD964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E51A0-B767-433B-8BE5-5DE604D9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F8A3C-9E7B-4201-9DEE-0762930D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4CF-6885-442D-9089-A9B40300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01BBB-48E2-46EF-B13F-FD578627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AF51D-5011-40AA-A44D-91F8E661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0CF8F-7E42-41B4-9527-D3B23A2B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3B8B6-7F01-4CAE-BB93-18E4DB4E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E161D-82AB-40F9-9ACA-A7C0F3F0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F79-B90F-4BAD-AAFF-77EF94D9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018-0C55-4D19-9CAE-70B4C842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2DD-37E3-45E8-8D7D-808E58AE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9FF-D7A0-49EB-A50D-046C7E8E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533-BE43-4FD6-A348-ADA99C3B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763-573F-42C3-9302-D4C34DB6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72C-BEA2-4A71-AB1A-A17D0325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1A60-F6AD-487A-B5FB-4E32424C23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1D1E-6001-4347-AECD-D3782A9876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02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e3e3ff"/>
                </a:solidFill>
                <a:latin typeface="Arial"/>
              </a:rPr>
              <a:t>Eximentes de Ilicitud Internacional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65640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ora: Gilda Cicci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yudante: Miriam Gutiérr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o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3e3ff"/>
                </a:solidFill>
                <a:latin typeface="Arial"/>
              </a:rPr>
              <a:t>Eximentes de ilicitu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USAS QUE EXCLUYEN LA ILICIT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xistencia de un comportamiento contrario a una obligación internacional, permite afirmar la existencia de un comportamiento ilícito; pero puede haber circunstancias que hagan inoperante dicha obligación por lo que no se atenúa ni agrava la responsabilidad, sino que se excluye al no existir ya dicha oblig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Hay 6 circunstancias excluyen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consentimiento de un Estado válidamente prestado a la comisión por otro Estado de un comportamiento contrario a una obligación internacional de éste (sólo se excluye la responsabilidad al Estado al que se ha dado el consentimiento). El límite a esta causa lo da el “ius cogen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 contramedidas, siempre que se trate de actos que, a pesar de ser ilícitos, se consideren legítimos según el Derecho internacional. (Ej.: ruptura de las relaciones diplomátic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   La fuerza mayor y el caso fortuito: casos que impiden al Estado actuar en conformidad a una obligación internacional. (Ej.: impago de una deuda extern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3e3ff"/>
                </a:solidFill>
                <a:latin typeface="Arial"/>
              </a:rPr>
              <a:t>Cont. Circunstancias excluyen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peligro externo vinculado con la protección de las personas confiadas al cuidado del Estado, sean nacionales o no. Consiste en que el Estado no tenga otra alternativa que incumplir una obligación para salvar a esas personas. La condición es que el Estado no haya contribuido con su actitud a generar esa situación de pelig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estado de necesidad. Se puede invocar estado de necesidad si el acto, inicialmente ilícito, ha sido el único medio para salvaguardar el interés esencial del Estado contra un peligro grave e inminente. Condición excluyente: que con ese comportamiento no se afecte de manera grave el interés del Estado con el que se tiene la obligación. Problema básico: saber si cabría el uso de fuerza y en qué med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Legítima defensa. E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tículo 5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l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ta de las Naciones Unid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mpara la respuesta armada ante una agresión en ejercicio de la legítima defensa. Condición: la legítima defensa cesa en el momento en que la Organización, en concreto el Consejo de Seguridad, se hace cargo de la situ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9:16:45Z</dcterms:created>
  <dc:creator>daniel contreras soto</dc:creator>
  <dc:description/>
  <dc:language>en-US</dc:language>
  <cp:lastModifiedBy>daniel contreras soto</cp:lastModifiedBy>
  <dcterms:modified xsi:type="dcterms:W3CDTF">2008-05-19T19:25:59Z</dcterms:modified>
  <cp:revision>2</cp:revision>
  <dc:subject/>
  <dc:title>Eximentes de Ilicitud Internacional</dc:title>
</cp:coreProperties>
</file>