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0A56-6DB4-48E2-9555-35EDA2075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BB3C-5D41-4862-94A5-E395469B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8075-69D2-4FCF-ABE1-9E2E690DC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E734-CFBC-4DEB-B5AD-4A900D323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7609-EA43-472E-9D7B-E6314568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DA8D-A7B4-4CDC-B594-23704AA8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BA2D-89DB-49F2-9497-A856F9D2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C29C-1C1F-4DCC-B70C-30A47700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B092-CE12-4A84-86DE-D28842A7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7B26-9082-43DD-8165-3E5EBC8A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7FB1-205B-42A5-8598-230184BD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6ABD-A529-417C-A0F8-837245BB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413E-A2C4-4950-A351-23D2D5C9D827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000000"/>
                </a:solidFill>
                <a:latin typeface="Calibri"/>
              </a:rPr>
              <a:t>Los tratados y los terceros Estado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alibri"/>
              </a:rPr>
              <a:t>Regla General: Efecto relativo de los tratados</a:t>
            </a:r>
            <a:br>
              <a:rPr sz="2900"/>
            </a:br>
            <a:r>
              <a:rPr b="0" lang="es-CL" sz="2900" spc="-1" strike="noStrike">
                <a:solidFill>
                  <a:srgbClr val="000000"/>
                </a:solidFill>
                <a:latin typeface="Calibri"/>
              </a:rPr>
              <a:t>solo crean derechos y obligaciones entre las partes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Art. 34. Norma general concerniente a terceros Estados.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Un tratado no crea obligaciones ni derechos para un tercer Estado sin su consentimient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Caso de tratados que prevén obligaciones para terceros Estad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35. Tratados en que se prevén obligaciones para terceros Estados.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Una disposición de un tratado dará origen a una obligación para un tercer Estado si las partes en el tratado tienen la intención de que tal disposición sea el medio de crear la obligación y si el tercer Estado acepta expresamente por escrito esa oblig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Requisi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1.-Intencion partes del trat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2.- consentimiento escrito y por expreso del terce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Se forma un acuerdo colate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a obligación  para el tercero- nace del acuerdo colater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Que es un tratado bilateral que se forma p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Intención partes tratado 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onsentimiento del terce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Caso de los derech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700" spc="-1" strike="noStrike">
                <a:solidFill>
                  <a:srgbClr val="000000"/>
                </a:solidFill>
                <a:latin typeface="Calibri"/>
              </a:rPr>
              <a:t>Art.-36. Tratados en que se prevén derechos para terceros Estados.</a:t>
            </a:r>
            <a:r>
              <a:rPr b="0" lang="es-CL" sz="2700" spc="-1" strike="noStrike">
                <a:solidFill>
                  <a:srgbClr val="000000"/>
                </a:solidFill>
                <a:latin typeface="Calibri"/>
              </a:rPr>
              <a:t> 1. Una disposición de un tratado dará origen a un derecho para un tercer Estado si con ella las partes en el tratado tienen la intención de conferir ese derecho al tercer Estado o a un grupo de Estados al cual pertenezca, o bien a todos los Estados y si el tercer Estado asiente a ello. Su asentimiento se presumirá mientras no haya indicación en contrario, salvo que el tratado disponga otra cosa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alibri"/>
              </a:rPr>
              <a:t>2. Un Estado que ejerza un derecho con arreglo al párrafo I deberá cumplir las condiciones que para su ejercicio estén prescritas en el tratado o se establezcan conforme a ést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78552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Requisi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1,. Intención partes conferir a un tercero- un grupo de terceros o a todos los terceros Esta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2.- Asentimiento del tercer Est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j. Tratado bilateral Chile Argentina 1881 en su art 5° establece un derecho para todos los terceros Estad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ibertad de navegación para los barcos de todos los terceros Estados por el Estrecho de Magall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Revocación o modificación de obligaciones o de derechos de terceros Estado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876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Art 37--1. Cuando de conformidad con el artículo 35 se haya originado una obligación para un tercer Estado, tal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obligación no podrá ser revocada ni modificada 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sino con el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consentimiento de las partes en el tratado y del tercer Estado, 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a menos que conste que habían convenido otra cosa al respecto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2. Cuando de conformidad con el artículo 36 se haya originado un derecho para un tercer Estado, tal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derecho no podrá ser revocado ni modificado por las partes 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si consta que se tuvo la intención de que el derecho no fuera revocable ni modificable sin el consentimiento del tercer Estado 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Relación: tratado  costumb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fecto generador- desarrollo progresivo del D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Misión: Asamblea general ONU Art 13Carta O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odificar y desarrollar progresivamente el DIP por CDI Comisión Derecho Internac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Art.  38.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Normas de un tratado que lleguen a ser obligatorias para terceros Estados en virtud de una costumbre internacional. 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o dispuesto en los artículos 34 a 37 no impedirá que una norma enunciada en un tratado llegue a ser obligatoria para un tercer Estado como norma consuetudinaria de derecho internacional reconocida como ta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03:45:37Z</dcterms:created>
  <dc:creator>Gilda</dc:creator>
  <dc:description/>
  <dc:language>en-US</dc:language>
  <cp:lastModifiedBy>Gilda</cp:lastModifiedBy>
  <dcterms:modified xsi:type="dcterms:W3CDTF">2008-07-01T19:39:06Z</dcterms:modified>
  <cp:revision>12</cp:revision>
  <dc:subject/>
  <dc:title>Los tratados y los terceros Estados.</dc:title>
</cp:coreProperties>
</file>