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2BA-66B2-41E9-83CA-4B182879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EAB-6DC5-4345-AAB9-E2D4927C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3F4-E2E5-4E96-B753-BC4E74DE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DC6-9C1D-4FCD-AEF6-DC20B3DD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B9C-9E33-44AA-8FE9-3A81E161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0A8-F7C9-4529-A312-CC0B7F1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D9F6-95C4-45F1-9F12-03EB4E5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CECD-A2C6-4AFB-BEA7-986460E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C544-A94A-4555-AE39-F5A4516B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DAA-0BC9-4D4C-AC54-182FF00F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B21-A4AD-465F-8424-92D8AAD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AD4-2A6A-4295-889A-CCCECAA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7AB-CC0E-4F72-BEFE-6892AF8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ED7-C65D-42E7-B30D-2496136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EA0A-F511-4F00-9FA1-FC1E37CB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83A5-ABDD-47BB-9A7B-53C68CBD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31F-AEE5-4C1F-B8E6-57A2744A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604-2901-46CA-B053-4D3B40E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6E4-8A3A-4261-AE01-25577B9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BC7-F26F-41C8-B330-90D1243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E5D-3B53-463A-A88B-395B041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293-D7DC-44CB-AC39-0802931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34D-247F-474E-9F26-D43B3E1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054-CF52-4D45-9ADE-78CEBEC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2FFE-0997-41E5-AC46-13C825240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13AE-162B-4448-B10F-00E21D051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he-IL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fesor: Alberto Rioseco 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La calidad de insurrectos, de beligerantes,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uevos estados y gobiern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Derechos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Situaciones territorial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Pretensión de un tercer estado sobre extensión del Mar territorial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 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- 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.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.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.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.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ailandia) respecto al trasado de la frontera Siam - 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.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.  (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. 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.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( 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he-I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-Actos estatales 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-Actos de organizaciones internacionales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an la manifestación de voluntad de un solo estad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.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. Ejemplo:  La reserva, la adhesión, l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. 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) Que tengan en derecho significación de carácter internacional (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).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. 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.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.- 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.H.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  La notificación que Chile hizo del Decreto que delimitaba sus lineas de base rec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:    Otorgar certeza leg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Facultativa, ejemplos:  Ruptura delas relaciones diplomáticas ;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Obligatoria (aunque los ejemplosque van a continuación pueden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)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Minas submarinas- la Haya-1907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bloqueo;declaración de Londres -1909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- art. 36 est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- 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..-7 - 1959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.- 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Que se efectue publicamente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Con la intención de obligarse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: 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 estado que las hizo en las condiciones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.- 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.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) Expresa: Hecha en términos explícitos y formales(ej. not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)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) Tácita:  Se desprende de actos o conductas inequivocas.  Ejemplo mantención  de agentes diplomáticos frente a un nuevo gobiern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Héctor Escobar</cp:lastModifiedBy>
  <dcterms:modified xsi:type="dcterms:W3CDTF">2004-03-29T12:30:37Z</dcterms:modified>
  <cp:revision>1</cp:revision>
  <dc:subject/>
  <dc:title>FUENTES NO CONTENIDAS EN EL  ARTICULO 38 </dc:title>
</cp:coreProperties>
</file>