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F4C-76C2-4DC2-9A1F-AF6EA949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E56-A170-4573-9C35-082002FB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397-9704-4B18-9B4D-1AAA11C5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195-70DE-4B6A-9B45-0D0E250B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F82-D9F1-450A-93DF-396BEAEB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94A-598A-4931-96B7-AF17E5A7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CF8F-EF26-43E3-9BE2-CDAFCEFB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E76C-15BB-4AE1-BF9E-CA747DA4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66A-0D00-4B2C-BF3E-9E6AF3F4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A47-A7ED-4A82-ACE0-0778BEAC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309-4B50-4AE4-AABE-E1E90321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099-2E35-4EED-BCF7-B31C0873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625A-F4EE-44E6-8882-B3D0CFC06060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000000"/>
                </a:solidFill>
                <a:latin typeface="Calibri"/>
              </a:rPr>
              <a:t>Los tratados y los terceros Estad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Regla General: Efecto relativo de los tratados</a:t>
            </a:r>
            <a:br>
              <a:rPr sz="2900"/>
            </a:b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solo crean derechos y obligaciones entre las part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Art. 34. Norma general concerniente 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 tratado no crea obligaciones ni derechos para un tercer Estado sin su consentimient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aso de tratados que prevén obligaciones para terceros Estad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35. Tratados en que se prevén obligaciones par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a disposición de un tratado dará origen a una obligación para un tercer Estado si las partes en el tratado tienen la intención de que tal disposición sea el medio de crear la obligación y si el tercer Estado acepta expresamente por escrito esa oblig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.-Intencion partes del tra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consentimiento escrito y por expres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 forma un acuerdo colat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obligación  para el tercero- nace del acuerdo colate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Que es un tratado bilateral que se forma 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ención partes tratado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sentimient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aso de los derech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Calibri"/>
              </a:rPr>
              <a:t>Art.-36. Tratados en que se prevén derechos para terceros Estados.</a:t>
            </a: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 1. Una disposición de un tratado dará origen a un derecho para un tercer Estado si con ella las partes en el tratado tienen la intención de conferir ese derecho al tercer Estado o a un grupo de Estados al cual pertenezca, o bien a todos los Estados y si el tercer Estado asiente a ello. Su asentimiento se presumirá mientras no haya indicación en contrario, salvo que el tratado disponga otra cos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2. Un Estado que ejerza un derecho con arreglo al párrafo I deberá cumplir las condiciones que para su ejercicio estén prescritas en el tratado o se establezcan conforme a ést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,. Intención partes conferir a un tercero- un grupo de terceros o a todos los terceros Est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Asentimiento del tercer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j. Tratado bilateral Chile Argentina 1881 en su art 5° establece un derecho para todos los terceros Est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ibertad de navegación para los barcos de todos los terceros Estados por el Estrecho de Magal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Revocación o modificación de obligaciones o de derechos de terceros Esta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rt 37--1. Cuando de conformidad con el artículo 35 se haya originado una obligación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obligación no podrá ser revocada ni modificada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no con e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consentimiento de las partes en el tratado y del tercer Estado,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 menos que conste que habían convenido otra cosa al respec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2. Cuando de conformidad con el artículo 36 se haya originado un derecho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erecho no podrá ser revocado ni modificado por las partes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 consta que se tuvo la intención de que el derecho no fuera revocable ni modificable sin el consentimiento del tercer Estado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lación: tratado  costum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fecto generador- desarrollo progresivo del D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isión: Asamblea general ONU Art 13Carta 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dificar y desarrollar progresivamente el DIP por CDI Comisión Derecho Inter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 38.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rmas de un tratado que lleguen a ser obligatorias para terceros Estados en virtud de una costumbre internacional.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 dispuesto en los artículos 34 a 37 no impedirá que una norma enunciada en un tratado llegue a ser obligatoria para un tercer Estado como norma consuetudinaria de derecho internacional reconocida como 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3:45:37Z</dcterms:created>
  <dc:creator>Gilda</dc:creator>
  <dc:description/>
  <dc:language>en-US</dc:language>
  <cp:lastModifiedBy>Gilda</cp:lastModifiedBy>
  <dcterms:modified xsi:type="dcterms:W3CDTF">2008-07-01T19:39:06Z</dcterms:modified>
  <cp:revision>12</cp:revision>
  <dc:subject/>
  <dc:title>Los tratados y los terceros Estados.</dc:title>
</cp:coreProperties>
</file>