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A97-513D-4CF2-9A50-AF68CB7C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4F3-758D-4C3A-A64D-E06C5767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C0A-17FD-4852-BC72-E5FABB5B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5B0-3F50-443F-9FFA-F75B70D5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D55-18F3-489A-8ACF-F532AD1C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CFB3-4D40-45D9-8ED0-6CF12338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6BC1-B8E7-4C5C-B885-2A7A2CC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098-34EB-45F0-B6D1-6D16554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37DE-6DD2-4821-9F53-2ECE8A05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CB46-970F-45AE-9AA6-236BA0F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0D12-884A-4A7F-98CF-1093868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35E-C68A-4FAA-8B35-0AC8575F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DA5E-D325-49EB-8656-0FCE435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3260-C351-42EB-8058-E16692C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A04-242F-44F4-BDCC-7385BE92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6B71-CFEC-4886-85BA-C2F6BDD9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93C0-4804-4744-A5ED-33C02488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8F3-D705-4712-98FB-D6455E32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113-82BE-466E-85C2-2663AF3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877-EDF7-4918-8955-827FB1C5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CBB-58EA-4821-B558-3F2E529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231-9C30-448A-8B1A-455116E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8C3-B131-4008-9DFB-AF39C4C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033-4D68-48C7-97C3-CB8D9BDA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28EC-0E0F-4B02-9A0C-5BC499A4D1D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FA77-BDF0-4154-A44E-C609956A44D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 u="sng">
                <a:solidFill>
                  <a:srgbClr val="ffcc66"/>
                </a:solidFill>
                <a:uFillTx/>
                <a:latin typeface="Book Antiqua"/>
              </a:rPr>
              <a:t>G</a:t>
            </a:r>
            <a:r>
              <a:rPr b="1" lang="es-ES" sz="3600" spc="-1" strike="noStrike" u="sng">
                <a:solidFill>
                  <a:srgbClr val="ffcc66"/>
                </a:solidFill>
                <a:uFillTx/>
                <a:latin typeface="Book Antiqua"/>
              </a:rPr>
              <a:t>RAFICO  RELACIONES  ENTRE EL DIP Y EL DERECHO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 PROBLEM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RELACIONES ENTRE EL DIP  Y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ERON OBJETO DE UN DEB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FRENTÓ A  DOS  ESCU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UA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 EL 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UALISMO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        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Y  EL  MONISMO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TA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 UNA EXPL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S CONFLICTOS  Y REL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EL  DIP  Y  EL  DERECHO  INTERN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L DIP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S MONISTA NI DUAL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ESTADOS LOS QUE OP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ORMA COMO LOS ESTADOS INCORPORAN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TEMA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ORÍA  DUALISTA  SOSTEN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L DIP  Y E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AN DOS SISTEMAS  JURÍD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PA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1.-  CON SUJETOS  DISTIN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-DIP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OS-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2.-    CON FUENTES DISTINT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-ART 38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O-LEY-CONSTITUCION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APLICA A LAS RELACIONES ENTRE LOS ESTAD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Y EL DERECHO INTERN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N SISTEMAS JURÍDICOS DIFEREN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E SUPERPON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MBOS  OBLIGAN DENTRO DEL ORDEN JURÍDICO AL QUE PERTENECE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PUEDE HABER CONFLICTO ENTRE AMBOS DER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SUPERPONIAN  POR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IMPLICA LA ACTIVIDAD DE DOS O 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L DERECHO INTERNO IMP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ACTIVIDAD DE UN SOLO SUJ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LA  CONSTITUCIÓN—LA LEY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S SUJETOS A LOS QUE SE DIRIGE EL DIP SON LO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RECHO INTERNO SE DIRIGE A LOS P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CONSECUENCI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 PRODUCEN CONFLICTOS  ENT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-PARA QUE UNA NORMA DEL DIP SE APLIQUE EN E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A EXISTIR UN PROCESO DE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INTERNACIONAL DE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SER TRANSFORMADA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A TRAVES DE SU RE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EN UN REGLAMENTO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O CONTRARIO NO PODIA SER APLICAD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IBUNALES INTERNOS A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 TANTO SOLO EL DERECHO INTERN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RQUE APLICAN LA NORMA INTERNACIONAL SI HA SIDO TRANSFORMADA PREVIAMENTE EN NORMA INTER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1.-  COMO  SE INCORPORA  EN EL ORDEN INTERNO</a:t>
            </a:r>
            <a:br>
              <a:rPr sz="36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-</a:t>
            </a:r>
            <a:r>
              <a:rPr b="0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  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  TRATADOS  O DERECHO CONVENCIONAL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  O DERECHO CONSUETUDINARI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REALIDAD NO ES ASI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UNA NORMA INTERNACIONAL SE APLICA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TANDO UN ACTO DE RECEPCIÓN COMO ES EL CASO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ORDENA  CUMPLIR 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LEY DE LA REPUBL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E INCORPORA EL TRATAD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 TRANSFORMA EN NORMA INTER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UE SIENDO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HA TRANSFOR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L TRATADO  EN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IGUE  SIENDO 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 PARA  MODIFIC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DEBE CONTAR CON EL ACUER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LOS DEMA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PARA TERMINAR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 DEBE SO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 LAS DISPOSICIONES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LO QUE NO OCURRI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-SI SE TRANSFORMA EN  NORMA  INTERN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Arial"/>
              </a:rPr>
              <a:t>MON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PRIMACÍA DEL DERECHO INTERNACIONAL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KELSEN ELABORA TEORIA MONISTA PRESIDIDA POR EL DERECHO INTERNA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GÚN TEORIA MONIS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NORMA DE DERECHO INTERNACIONAL ES APLICABLE  EN FORMA AUTOMÁTICA 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 SER PREVIAMENTE TRANSFORMADA EN NORMA INTER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EL MONISMO  POSTULABA QUE EXISTÍ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OLO GRAN SISTEMA JURÍDICO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TRO DEL CUAL SE DABAN DOS SUBSISTE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SUSBSISTE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BSISTEMAS NA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S RELACIONES ENTRE AM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REGULABAN POR UNA DETERMINACIÓN DE JERARQU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DENTRO DEL MONISM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TENDENCIA PREDOMINA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ABA PREEMINENCIA AL DIP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ELS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NORMA SUPERIOR ERA L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DEMAS SE CONFORMABAN A 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000" spc="-1" strike="noStrike">
                <a:solidFill>
                  <a:srgbClr val="ffcc66"/>
                </a:solidFill>
                <a:latin typeface="Arial"/>
              </a:rPr>
              <a:t>MONISMO CON PRIMACÍA DEL D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ERECHO INTERNO  DERIVA DEL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DIP ES CONCEBIDO COMO UN ORDEN JURÍDICO JERÁRQUICAMENTE SUPERI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ISTEN 2 ORDENAMIENTOS  JURÍDICOS, UNO EL DIP ES SUPERIOR Y EL OTROELDERECHO INTERNO SE SUBORDINA  AL PRIMER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CASO DE CHI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-ANALIZAREMOS    DOS  PROBLEMAS FUNDAMEN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  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OS TRATADOS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ONSTITUCIÓN NO HAY NINGUNA NORMA QUE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SE INCORPORAN EN EL ORDEN INTERNO CHIL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N LOS TRATADO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ONS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PRUDENCIA Y LA PRACTICA   AF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TRATADOS SE INCORPORAN 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RANGO DE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INCORPORAN POR UN ACTO DE RECEPCIÓN FORMAL    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DECRETO PROMULGATORIO QUE DICTA EL PRESIDENTE DE LA REPU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NO  SE TRANSFORMA   L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NORMA INTER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7724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E ORDENA PUBLIC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TRATAD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DE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ARIO   O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SEGÚN LA LEY 18.15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ERMITE HACER UNA PUBLICACIÓN ULTRA FI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SON TRATADOS DE GRAN EXTEN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DEPOSITA UNA COPIA AUTENTICADA DEL TRA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ANCILLE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OTRA EN LA CONTRALOR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-6861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2.-  CON QUE JERARQUÍA SE INCORPORAN   AL ORDEN INTER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LOS TRATA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STUMBRE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T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PROCEDIMIENTO DE INCORPORACIÓN DE LOS TRATADOS AL DERECHO INTERNO NO SE  REGULA EN UN TEXTO LEGAL SINO QU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ÁCTICA CONSTITUCIONAL Y LEGAL Y LA JURISPRUDENCIA DE LOS TRIBUNALES ASIMIL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 EL TRATADO A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Y SE APLICABAN LOS ARTÍCULOS 6° Y 7° DEL CÓDIGO CIVIL( PROMULGACIÓN Y PUBLICACIÓN  LEY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UN ACTO FORMAL  DE  INCORPO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SIGUE  EL CRITERIO DUALISTA DE LA TRANSFORM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Y TAMPOCO  SIGUE AL MON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PECTO A QUE UNA NORMA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PUEDE APLICAR AUTOMÁTICA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A VEZ QUE EL TRA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INCORPORA    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UEDE SER APLICADO 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OS ORGANOS DEL ESTADO - TRIBU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Y PUEDE SER INVO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POR LOS PARTICUL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NO SE PUEDE  APLICAR  NI INVO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JEMPLO-CASTILLO  VELASC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PROMULGADO EN 1976,  Y PUBLICADO  EN  ABRIL DE 198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J  CASO  EXPULSIÓN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JAIME CASTILLO VELASCO  EN 19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VOCAN EN UN RECURSO DE AMPA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PACTO DE DERECHOS CIVILES Y POLÍTICOS  DE 19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RTE DE APELACIONES DE STGO SEÑA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I  BIEN ESTE PACTO OBLIGA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HABIA SIDO RATIFICADO GOB PRESIDENTE ALL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Ó EN VIGENCIA EN  GOBIERNO MILI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CTO OBLIGA  A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ERO NO ESTA INCORPÓRADO  EN EL ORDEN 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QUE NO HABIS SIDO  PROMULGADO --- NI PUBL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R LO TANTO  NO LO AP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BLEMA DE LA INCORPORACIÓN DEL D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ESTADO QUE NO INCORPORA  EL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ORDEN INTERNO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 NO LO PUE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 INCURRIENDO EN UN HECHO ILICITO ART 27  C DE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 SE PUEDE INVOCAR  UNA SITUACIÓN DE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DEJAR DE CUMPLIR UN TRA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TA  TAMBIEN PRESENTE EL PRINCIPIO DE LA BUENA FE ART 26 C DE  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IMPLICA LA OBLIG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ADOPTAR TODAS  LAS NORMAS INTERNAS NECESA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ARA EL PLENO Y CABAL CUMPLIMIENTO DE UN TRATADO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 TRAT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MULGADOS Y PUBLICADOS, FORMAN PARTE DEL ORDEN JURÍDICO INTERNO Y PRIMAN SOBRE LAS LEY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CONVENCIÓN DE VIENA  DERECHO DE LOS TRATADOS EN SU ART 27 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IMAC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OS TRA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OR SOBRE EL ORDENAMIENTO INTERNO ART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UNA PARTE NO PODRÁ INVOCAR LAS DISPOSICIONES DE SU DERECHO INTERNO COMO JUSTIFICACIÓN DEL INCUMPLIMIENTO DE UN TRATADO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RATADO PREVAL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BRE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PUEDE SER DEROGADO POR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FORMA CONSTITUCIONAL  2005 ART 54:ART 54   INC 5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   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LAS DISPOSICIONES DE UN TRATADO SÓLO PODRÁN SER DEROGADAS, MODIFICADAS O SUSPENDIDAS EN LA FORMA PREVISTA EN LOS PROPIOS TRATADOS O DE ACUERDO A LAS NORMAS GENERALES DE DERECHO INTERNACIONAL”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N TRATADO SÓLO PUEDE DEROGAR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ÚN LO FORMA PREVISTO EN EL PROPIO TRATADO;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EGUN LAS NORMAS GENERALES DE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JURISPRUDENCIA Y LA PRA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ERMITEN AFIRM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QUE LOS TRATADOS SE INCORPO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N EL ORDEN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CON RANGO DE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PERJUICIO DE LOS TRATADOS QUE SE REFIEREN A DDHH  EN  ART 5º  DE LA CONSTITUCIÓN INCISO  2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REFORMADO  AÑO  1989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A  EFICACIA  DEL  DI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ENDE  DE LA FORMA COMO  LOS 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EN  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O APLIQUEN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66"/>
                </a:solidFill>
                <a:latin typeface="Arial"/>
              </a:rPr>
              <a:t>TRATADOS DERECHOS HUMAN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°  CONSTITUCION OTORG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ANGO CONSTITUCIONAL A LOS TRATADOS  DE DERECHOS HUM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 5º INCISO 2º  CONSTITUCIÓN POLÍTICA  1980: “EL EJERCICIO DE LA SOBERANÍA RECONOCE COMO LIMITACIÓN EL RESPETO A LOS DERECHOS ESENCIALES QUE EMANAN DE LA NATURALEZA HUMANA. ES DEBER DE LOS ÓRGANOS DEL ESTADO RESPETAR Y PROMOVER TALES DERECHOS GARANTIZADOS POR ESTA CONSTITUCIÓN, ASÍ COMO POR LOS TRATADOS INTERNACIONALES RATIFICADOS POR CHILE Y QUE SE ENCUENTREN VIGEN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LIC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JERARQUÍA SOBRE LOS DEMÁS TRATADO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CORPORACIÓN DEL DERECHO CONSUETUDIN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HILE NO TIENE UNA NORMA CONSTITU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LA INCORPORACION DE LA COSTUMRE  EN EL DERECHO INTERNO 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UNA NORMA QUE SE INTENTÓ INCLU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LAS  REFORMAS CONSTITUCIONALES  DE 1989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EL DERECHO CONSUETUDINARIO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ENTIENDE  INCORPORADO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AUTOMATICA Y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EL DERECHO INTERNO  CHIL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NORMA DE ESTE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SE CONTIENE EN LA CON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DE LA EX REPUBLICA  ALEMAN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ERECHO INTERNACIONAL GENERAL SE ENTEN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GLOBAL Y AUTOMÁTICAMENTE  INCORPO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L DERECHO FEDERAL ALE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 MISMO  TIENEN LAS CONSTITU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LOS PAISES BAJOS—ITALIA—GRE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HILE NO TIENE  UNA NORMA DE ESTA NATURAL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TO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COMO SE PUEDE APLIC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OBLIGA A CHILE EN EL ORDEN INTERNO.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NO HAY UNA NORMA QUE SEÑA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E EL DERECHO CONSUETUDINARIO SE ENTIE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GLOBAL Y AUTOMÁTICAMENTE INCORPO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ETRNO CHIL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HAY VARIAS MODALIDADES  EN EL SISTEMA 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VIRTUD DE LAS CUALES UN JUEZ PU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.--PRIMERA MOD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L CASO EN QUE UNA LEY INTERNA SE REM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A UNA NORMA DE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CUANDO UNA LEY INTERNA  SEÑALA AL JU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PUEDE APLICAR EL DERECHO INTERNACIONAL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  ART 1.- CPP  QUE EXPRE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TRIBUNALES DE LA RE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JERCEN JURISDICCIÓN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HILENOS Y SOBRE LOS EXTRANJ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EFE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 JUZGAR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QUE SE COMETE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L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LOS CASOS EXCEPTUADO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POR LEYES ESPECI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TRATADOS  O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QUE CHILE ES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 POR LAS REGLAS GENERALMENTE RECONOCIDAS DEL DERECHO INTER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ESE ES EL DERECHO CONSUETUDINARIO 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EXISTE  UN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REMITE  AL JUEZ  AL DERECHO CONSUETUDINARIO 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CONSECUENCIA LOS TRIBUNALES CHIL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O HAN TENIDO NINGUNA DIFICULT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APLICAR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UANDO LA LEY LOS HA REMIT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ESTE DERECHO CONSUETUDINARIO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-  SEGUNDA HIPÓTESIS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PASA CUANDO  EL 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UEDE RESOLVER  UNA CONTROV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NDO UNA NORMA DE DERECHO INTERNACIONAL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NO HAY NING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QUE LO REMITA COMO CAS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PRACTICA DOMINANTE INDICA QUE EL JUEZ HA APLICADO-EN LA PRACTICA EL DERECHO INTERNACIONAL GENER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LGUNOS   HAN SOSTENIDO EN SENTENCIAS AISL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QUE NO HABIENDO UNA REMISIÓN DE LA LEY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JUEZ NO PODRÍA APLICAR UNA NORMA CONSUETUDINARIA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EDOMINA LA JURISPRUDENCIA EN EL SENTIDO OPUES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 QUE EL JUEZ PUEDE APLICAR UNA NORMA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ÚN A FALTA  DE MANDATO LEGAL.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 NO TIENE ORGANOS PROPI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         QUE VELEN POR EL CUMPLIMIENTO  DEL 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ENES DAN CUMPLIMIENTO A 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O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EN EL ORDEN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-SE PLANTEA UNA TERCERA HIPÓT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UANDO EXISTE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PLICABLE  A  UN  CA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ERO EXISTE TAMBIEN AL MISMO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LEGAL INTERNA  CONTR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CONTENIDO DE LA NORMA  CONSUETUD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ESTA CASO LOS TRIBUNALES MAYORITARIAMENTE HAN OP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POR  LA  LEY 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JANDO DE APLICAR UNA NORMA CONSUETUDINARIA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JUECES SON CONSIDERADOS ORGANOS DE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DEBEN RESPON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 LA JERARQUÍ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Y ESTRUCTURA DE 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ORDENAMIENTO ESTA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ER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AL   PROCEDER DE ESA MAN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SOS JUECES ESTAN HACIENDO INCURRIR AL 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EN RESPONSABILIDAD  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PORQUE HAN PREFER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- LA LEY POR SOBRE UNA NORMA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ISTE UN PRINCIPIO BAS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E SOST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QUE NINGUN ESTADO PUEDE INVO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NORMA ALGUNA DE SU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COMO PRETEXTO PARA DEJAR DE CUMPL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UNA OBLIGACIÓN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O CUALQUIER NORMA INTERNACIONAL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QUÍ  SE PRODUCE EL CASO DEL CAPITULO DE LA RESPONSABILIDAD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VIRTUD DEL CUAL UN ACTO PERFEC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JUSTADO A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PUEDE SER PERFECTAMENTE ILI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DE EL PUNTO DE VISTA DEL DERECHO INTERN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LA RESPONSABILIDAD INTERNACIONAL SE MIDE COTEJA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LOS COMPORTAMIENTOS FRENTE AL D 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Y NO FRENTE AL DERECHO INT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INCORPORACION COSTUMB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 EXISTE EN NUESTRA CONSTITUCION UNA NORMA QUE ESTABLEZ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 INCORPORACION DE LA COSTUMBRE EN EL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MO EXISTE EN OTRAS  CONSTITU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NCORPORACIÓN GLOBAL Y AUTOMÁTICA DEL DERECHO INTERNACIONAL COMÚN O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.- UNA LEY INTERNA SE REMITE A EL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2.- ANTE SILENCIO LEY JUEZ OPTA POR APLICAR DERECHO INTE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MODALIDADES EN EL SISTEMA INTERN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ANTE LAS CUA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JUEZ PUEDE APLICAR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 CASO QUE ESTE CONOCI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PRIMERA MODALIDAD: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ORMA INTERNA SE REMITE A UNA NORMA CONSUETUDIN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LEY INTERNA SEÑ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EL JU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 APLICAR    EL DERECHO INTERNACIONAL 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J ART 1.- DEL CPP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TRIBUNALES     EJERCEN JURISDICCION  SO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CHILENOS Y EXTRANJEROS PARA JUZGAR  LOS DEL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COMETAN EN SU TERRITO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CÓDIGO DE PROCEDIMIENTO PE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T. 1º : "LOS TRIBUNALES DE LA REPÚBLICA EJERCEN JURISDICCIÓN SOBRE LOS CHILENOS Y SOBRE LOS EXTRANJEROS PARA EL EFECTO DE JUZGAR LOS DELITOS QUE SE COMETEN EN SU TERRITORIO, SALVO LOS CASOS EXCEPTUADOS POR LAS LEYES GENERALMENTE RECONOCIDAS DEL DERECHO INTERNACIONA1.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SALVO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LOS CASOS EXCEPTUADOS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EYES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O CONVEN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OR LAS REGLAS  GENERALM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NOCIDAS DEL -  DERECHO INTER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QUIENES CUMP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S NORMAS INTERNAC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CADA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SON LOS ORGANOS DEL ESTA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ER JUDICIAL- PODER LEGISLATIVO- PODER EJECU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CONSECUENCIA PAR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S IMPORTANTE COMO SE CUMPLE Y SE APLICA EL D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-EN EL ORDEN INTERNO DE LOS EST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COMO SE INCORPORA  EL DERECHO CONSUETUDINARIO</a:t>
            </a:r>
            <a:br>
              <a:rPr sz="3600"/>
            </a:br>
            <a:r>
              <a:rPr b="1" lang="es-ES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N EL ORDEN INTERNO CHILENO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E NO TIENE UNA NORMA CO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NTIENDE  AUTOMATICA Y GLOB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RPORADO EN EL DERECHO INTERNO CHILEN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TABLEZCA QUE EL DERECHO CONSUETUDIN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ESTADOS LEGISLAN EN EL PLANO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 TRAVES DE TRATADOS—COSTUMB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L MISMO TIEMPO LOS ESTADOS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EGIS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A TRAVES DE SU PODER LEGISL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DE SUS MECANISMOS DE CREACIÓN DE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S  COMO  ESTA LEGISLACIÓN PARAL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DIP  Y EL DERECHO INT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COMO SE VINCU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-QUE OCURRE CUANDO HAY CONFLICTO EN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UNA NORMA INTER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Y UNA NORMA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CON QUE JERARQUÍ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SE APLICA  EL D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-EN EL ORDEN INTERNO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5:19:24Z</dcterms:created>
  <dc:creator>GILDA CICCI SALAZAR</dc:creator>
  <dc:description/>
  <dc:language>en-US</dc:language>
  <cp:lastModifiedBy>Gilda</cp:lastModifiedBy>
  <dcterms:modified xsi:type="dcterms:W3CDTF">2008-07-01T02:11:43Z</dcterms:modified>
  <cp:revision>132</cp:revision>
  <dc:subject/>
  <dc:title> GRAFICO  RELACIONES  ENTRE EL DIP Y EL DERECHO INTERNO </dc:title>
</cp:coreProperties>
</file>