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7A8-E206-429E-A8D9-9C541B8B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37A-7C50-419F-9517-305154C6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B21-CD19-4663-91C2-E901BFAC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6A2-19E3-4B3E-9929-B191475E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F730-F6BD-4593-82D5-E8466D81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C402-5077-4EB1-8ED3-A914FB30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E296-BC1B-4E22-BFCE-3A4CBABB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61C9-9E4C-4BE0-B8EE-7EBB8415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5579-DEF0-4C6E-A0F8-65C3FA54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21D9-A3ED-45AB-ACBA-8AB4146D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1A01-88B1-47C1-800B-36C723C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8EDC-789A-4F45-814D-5E41E759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C0BA-E1BE-478B-9099-86550702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EE7C-849E-40D6-8D7F-CF1F6247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A80C-F49E-429E-9BF9-BA4ECFD1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50C7-95AF-4186-8A5D-4C8CBCE2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A640-DFFC-4EAD-A646-058F5931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646-3033-4909-8220-4A5BA953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999-4CF9-4911-B8ED-85554F24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A67-11D5-4C5D-B601-9C74DEA8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B2E-0EEE-45B3-881A-B329F636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0EF-760E-4FB3-93B5-D87321EA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423F-67C3-4127-9735-33A893D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886B-B4E9-4112-8A45-E58FEB8A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611F-435D-4F4A-9112-F6242FC0E4C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E8F1-C866-4C4F-9AF0-2CC72BCF84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canismos de entendimiento intercultural: proceso necesario e inminente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Santiago, Octubre 15  de 200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ablo Rubio Almu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Ayud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diación Intercultural: Caso chilen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xiste sólo en ámbito redu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ey indígena art. 39 literal d) y h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servado a conflictos dentro de las comun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terés por implementarla: fase de estu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eritaje antropológico: Una forma privilegiada de aproximación al pluralismo jurídic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Conflicto de interlegalidad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xiste un conflicto de interlegalidad ante “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la existencia de una multiplicidad de ordenes normativos susceptibles de reivindicar la calificación de jurídicos y de aplicarse a simultáneamente al comportamiento de un individuo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Tahoma"/>
              </a:rPr>
              <a:t>Jacques Vanderlinden,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Vers une nouvelle conception du pluralisme juridique », </a:t>
            </a:r>
            <a:r>
              <a:rPr b="0" i="1" lang="es-ES" sz="1400" spc="-1" strike="noStrike">
                <a:solidFill>
                  <a:srgbClr val="ffffff"/>
                </a:solidFill>
                <a:latin typeface="Tahoma"/>
              </a:rPr>
              <a:t>Revue de la Recherche Juridique - Droit prospectif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, XVIII, 1993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Posibles conflicto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versus indígena. (salida al sistema ordi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versus occiden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o relevante en principio no es el sujeto, sino el Derecho en que basa sus pretens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roblemas de comunicabilidad </a:t>
            </a:r>
            <a:r>
              <a:rPr b="1" i="1" lang="es-CR" sz="4000" spc="-1" strike="noStrike">
                <a:solidFill>
                  <a:srgbClr val="ffffcc"/>
                </a:solidFill>
                <a:latin typeface="Tahoma"/>
              </a:rPr>
              <a:t>del 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Derecho Propi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aracterísticas del derecho indíge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Rechaza sanciones autónom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Rechaza la uniform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Conocido de pocos (carácter místico/religios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rincipialismo, indeterminación relativ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enguaje de formul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inamis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oble ciudadanía (indígena/nacion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La prueba perici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onsiste en la opinión emitida en un </a:t>
            </a:r>
            <a:r>
              <a:rPr b="1" i="1" lang="es-CR" sz="3200" spc="-1" strike="noStrike">
                <a:solidFill>
                  <a:srgbClr val="ffffff"/>
                </a:solidFill>
                <a:latin typeface="Tahoma"/>
              </a:rPr>
              <a:t>proceso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, por una persona que posee conocimientos especiales en una ciencia o arte, acerca de una circunstancia o hecho relevante para la adecuada revisión de un asunt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Un enfoque desde la antropología juríd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s la disciplina que por el análisis de los discursos (orales o escritos), practicas y representaciones, estudia los procesos de juridización propios de cada sociedad y se aboca a descubrir las lógicas que los comanda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rbert Rouland, Anthropologie Juridique, PUF, 198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Ventajas del enfoque desde la antropología juríd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ermite superar el juridismo o 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juridisme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una especie de finalismo que es sin duda la más difundida de todas las teorías espontáneas de la practica y que consiste en hacer como si las practicas tuvieran por principio la obediencia conciente a reglas consientemente elaboradas y sancionada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CR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aul Bordieu, </a:t>
            </a:r>
            <a:r>
              <a:rPr b="0" i="1" lang="es-CR" sz="2400" spc="-1" strike="noStrike">
                <a:solidFill>
                  <a:srgbClr val="ffffff"/>
                </a:solidFill>
                <a:latin typeface="Tahoma"/>
              </a:rPr>
              <a:t>Le sens practique</a:t>
            </a: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,198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imita los efectos nocivos del etnocentrismo (reconoce existencia de otros órdenes normativ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juridismo que amenaza al antropólogo corresponde al riesgo del etnocentrismo que pesa sobre el jurist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tienne Le Roy,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Le jeu des lois, une anthropologie ‘dynamique’ du droit, 199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Objetivo de la prueba pericial antropológic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Busca explicar al tribunal el significado que un determinado hecho tiene en la integralidad de un cultura que le es ajena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Esther Sánchez Botero, El peritaje antropológico: una forma de conocimiento 199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Antecedent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ovimientos soc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conocimiento de la multiculturalidad (pueblos/etnias/nacion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cepción constitucional del pluralismo juríd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roblemas que enfrenta el derecho propio en su recepción judicial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Etnocentris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lativa parcialidad del tribu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imitado conoci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Conjunto normativo y cultura juríd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038480" y="4648320"/>
            <a:ext cx="1143000" cy="761760"/>
          </a:xfrm>
          <a:custGeom>
            <a:avLst/>
            <a:gdLst>
              <a:gd name="textAreaLeft" fmla="*/ 0 w 1143000"/>
              <a:gd name="textAreaRight" fmla="*/ 1143360 w 11430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352680"/>
            <a:ext cx="213336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Per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Antropólogo Juríd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579132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Signif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105520"/>
            <a:ext cx="1676160" cy="1523880"/>
          </a:xfrm>
          <a:prstGeom prst="roundRect">
            <a:avLst>
              <a:gd name="adj" fmla="val 225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5334120"/>
            <a:ext cx="1447920" cy="1295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457200"/>
            <a:ext cx="1676520" cy="1676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7320" y="1295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Ju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7800" y="571500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Dº Occid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7360" y="563868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Dº Propio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costumb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5562720"/>
            <a:ext cx="1523880" cy="106668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638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Tahoma"/>
              </a:rPr>
              <a:t>Hecho con relevancia juríd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2209320" y="5714640"/>
            <a:ext cx="1295640" cy="692280"/>
          </a:xfrm>
          <a:prstGeom prst="rightArrow">
            <a:avLst>
              <a:gd name="adj1" fmla="val 50000"/>
              <a:gd name="adj2" fmla="val 4678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836400">
            <a:off x="6629400" y="2590560"/>
            <a:ext cx="762120" cy="2438280"/>
          </a:xfrm>
          <a:prstGeom prst="upArrow">
            <a:avLst>
              <a:gd name="adj1" fmla="val 50000"/>
              <a:gd name="adj2" fmla="val 7998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629800">
            <a:off x="2133360" y="2438280"/>
            <a:ext cx="761760" cy="2438640"/>
          </a:xfrm>
          <a:prstGeom prst="upArrow">
            <a:avLst>
              <a:gd name="adj1" fmla="val 50000"/>
              <a:gd name="adj2" fmla="val 8003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762120"/>
            <a:ext cx="2438280" cy="1218960"/>
          </a:xfrm>
          <a:prstGeom prst="wedgeRectCallout">
            <a:avLst>
              <a:gd name="adj1" fmla="val -83592"/>
              <a:gd name="adj2" fmla="val 1002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609480"/>
            <a:ext cx="2514600" cy="1219320"/>
          </a:xfrm>
          <a:prstGeom prst="wedgeRectCallout">
            <a:avLst>
              <a:gd name="adj1" fmla="val 81060"/>
              <a:gd name="adj2" fmla="val 1627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83808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conocimiento limit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pertenece a una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determin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879000">
            <a:off x="1688040" y="35722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709000">
            <a:off x="6411600" y="36489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58672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Signific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8680" y="861840"/>
            <a:ext cx="180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Etnocentrism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-Juego normativ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876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2438280"/>
            <a:ext cx="1371600" cy="757440"/>
          </a:xfrm>
          <a:custGeom>
            <a:avLst/>
            <a:gdLst>
              <a:gd name="textAreaLeft" fmla="*/ 0 w 1371600"/>
              <a:gd name="textAreaRight" fmla="*/ 1371960 w 1371600"/>
              <a:gd name="textAreaTop" fmla="*/ 189360 h 757440"/>
              <a:gd name="textAreaBottom" fmla="*/ 568080 h 75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9560" y="26668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ff"/>
                </a:solidFill>
                <a:latin typeface="Arial"/>
              </a:rPr>
              <a:t>Tra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847600">
            <a:off x="6667560" y="1866960"/>
            <a:ext cx="914400" cy="1447920"/>
          </a:xfrm>
          <a:prstGeom prst="wedgeEllipseCallout">
            <a:avLst>
              <a:gd name="adj1" fmla="val -30981"/>
              <a:gd name="adj2" fmla="val 11630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847600">
            <a:off x="1797120" y="1784160"/>
            <a:ext cx="982440" cy="1681200"/>
          </a:xfrm>
          <a:prstGeom prst="wedgeEllipseCallout">
            <a:avLst>
              <a:gd name="adj1" fmla="val -68023"/>
              <a:gd name="adj2" fmla="val -758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228600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Equidad proce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86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ffffff"/>
                </a:solidFill>
                <a:latin typeface="Arial"/>
              </a:rPr>
              <a:t>Conocimiento ple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3581280"/>
            <a:ext cx="2361960" cy="9144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Arial"/>
              </a:rPr>
              <a:t>Resolver libr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Ejes epistemológicos para la aproximación a los derechos indígena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Ver que no vem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Los sistemas autorregulados son sistemas cerrados desde el punto de vista de la inform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Conocimiento empírico y/o conocimiento en construcción?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Son? o ¿Son indígenas en devenir?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¿Relativismo y universalismo en conflic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Lo que encaja sobrev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Salvadores mor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  <a:ea typeface="宋体"/>
              </a:rPr>
              <a:t>Pluralismo y diversidad, empresa  intelectual e impulso pol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  <a:ea typeface="宋体"/>
              </a:rPr>
              <a:t>Esther Sánchez Botero,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宋体"/>
              </a:rPr>
              <a:t>Construcciones epistemológicas para el conocimiento de los sistemas d derecho propio y de las justicias indígenas, 1997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Ventajas y desventajas del peritaje antropológico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Ventajas.</a:t>
            </a: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la democratización de la aplicación del derec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al juez un espectro mayor de posibilidades de resolución de un confli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Facilita el dialogo cultural/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rmite superar el juridismo y el etnocentris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sventaj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 es autónom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uede confundirse con la defensa de interés indíge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No es obligatorio (puede ser decretado de oficio o a petición de par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Regulación en Chile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No existe norma expresa, se aplican las reglas generales en materia probato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misión a la costumbre, lo hace procedente. (articulo 54, Ley 1925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roceso civil y penal: situación actual y proyec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Algunos casos relevant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aso Juana Catrilaf año 195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Primer referente en Ch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Palabras clav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Asesinato, brujería, machi, fuerza mayor, incultura y debilidad men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Result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Exculp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arido golpeador es procesado por la ronda y sancionado en públ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rocedimiento y sanción atentatorios a la dignidad del sujeto indígena que recurre a a la justicia ordina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Peritaje: explica/contextualiza los procedimientos y los declara pertinentes culturalm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sultado: absolución a los ronde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Rondas campesinas del Perú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Indígena tenía amante dentro de su comunidad, sancionado primariamente viola la resolución y reinc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iña entre la esposa y la amante, resultado de muer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¿a quien sancionar? y ¿cóm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Poner fuego en dos corazones”. Caso de un guambiano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Concepciones de debido proceso.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Sentencia 189/96, 349/96 TC de Colombia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Indigenas sancionados conforme a procedimientos internos recurren invocando violacion al debido proceso, con el objeto de incumplir la sa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R" sz="2800" spc="-1" strike="noStrike">
                <a:solidFill>
                  <a:srgbClr val="ffffff"/>
                </a:solidFill>
                <a:latin typeface="Tahoma"/>
              </a:rPr>
              <a:t>De exigir la vigencia de normas rigurosamente idénticas y equivalentes a las nuestras, se seguiría una completa distorsión de lo que el legislador se propuso al erigir el pluralismo jurídico como un principio básico del sistem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Facilitadores Interculturales.</a:t>
            </a: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Facilitar las relaciones entre sujetos pertenecientes a grupos culturales distintos, poniendo de manifiesto las diversas expresiones culturales, aunque </a:t>
            </a:r>
            <a:r>
              <a:rPr b="0" i="1" lang="es-CR" sz="3200" spc="-1" strike="noStrike">
                <a:solidFill>
                  <a:srgbClr val="ffffff"/>
                </a:solidFill>
                <a:latin typeface="Tahoma"/>
              </a:rPr>
              <a:t>sin asignar al sujeto facilitador una función activa en el proceso al cuál accede</a:t>
            </a: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Facilitadores interculturale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¿Quiénes cumplen esta función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ersonas indígenas (urbanizado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Personas no indígenas con manejo cultu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Característic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Se espera el manejo de la lengua pertin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Se espera buen grado de relaciones intra-comunitar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Ámbito de aplicación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educativo (educación intercultural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de negociación entre particul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Tahoma"/>
              </a:rPr>
              <a:t>Ámbito judicial/post-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Facilitadores interculturales: ámbito judicial/prejudicial/post-judicial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Ha cobrado mucha relevancia en Chile, sobretodo en material Pe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Relación con la reforma al sistema Procesal Penal (acuerdos reparatorios, suspensiones condicionales del procedimient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Ha operado como un remedio a la inexistencia de mecanismos pluralis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Muy limitado en sus posibi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Facilitadores interculturales:</a:t>
            </a:r>
            <a:br>
              <a:rPr sz="4000"/>
            </a:b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Algunos Casos relevante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aso de los gitan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ondena por robo a reclusión noctur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Gitanos pueblo nómada, la rea es madre de niños pequeñ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Se argumenta la variable cultural para modificar la medida de cumplimiento alternativa de la p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800" spc="-1" strike="noStrike">
                <a:solidFill>
                  <a:srgbClr val="ffffff"/>
                </a:solidFill>
                <a:latin typeface="Tahoma"/>
              </a:rPr>
              <a:t>Se entiende que la carpa es el domicilio válido para cumplir la pena de reclusión nocturna domicilia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Se entiende como un recurso profesionalizado que pretende contribuir a una mejor comunicación relación e integración entre personas o grupos presentes en un territorio y pertenecientes a una o varias culturas, mediante la acción de un tercero que colabora para que las partes en conflicto adopten una solución propuesta por ellos mismos”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900" spc="-1" strike="noStrike">
                <a:solidFill>
                  <a:srgbClr val="ffffff"/>
                </a:solidFill>
                <a:latin typeface="Tahoma"/>
              </a:rPr>
              <a:t>(Desenvolupament Comunitari y Andalucía Acoge, 2002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Venta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Solución surgida de las partes en confli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Mayores posibilidades de concreción del acuer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Restablece las relaciones entre las partes de modo durad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scomprime el sistema judic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ffcc"/>
                </a:solidFill>
                <a:latin typeface="Tahoma"/>
              </a:rPr>
              <a:t>Mediación Intercultural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Desventa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Campos de aplicación limi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epende de la voluntad de las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El mediador no es completamente neu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Se trabaja desde determinados lineami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ferencia05</cp:lastModifiedBy>
  <dcterms:modified xsi:type="dcterms:W3CDTF">2008-10-15T16:51:5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