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7B8-025D-4F88-AD85-5E20E642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70296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4C8E-CAB2-4726-ABC2-80E9FDF9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949-E1FA-4DF9-8135-62F7C5E1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7524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70296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5C0-CA85-4061-9936-E48D3FA9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BEE-BCAD-4D16-BF66-9C175B5C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B31-F59B-4188-B0DD-F5C1BD6F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FC77-9FFD-426C-8463-FC7BE48E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6E0-A9D8-4083-864C-6FA53989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53316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76A-AEFA-4F0C-80FA-C7B0B3BE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5AC-4225-4AF3-A64F-CEDF2193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70296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13A6-8DB5-4C88-A81A-85E17FCA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7524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70296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902-3CB4-40F6-A362-E5BE60E8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019560"/>
            <a:ext cx="1905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01956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F604-DCC4-400F-B0A5-D2E09087BB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DEMNIZACIÓN DE PERJUICIOS, CUMPLIMIENTO POR EQUIVAL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MPLIMIENTO NO ES PO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EXCEP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JURÍD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UEV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ISMA OBLIGACIÓN QUE CAMBIA DE OBJETO, ART. 1555 CC (TODA OBLIGACIÓN DE NO HACER “SE RESUELVE” EN LA DE REPARAR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CFA-15DB-4FD0-A946-BB92797973AB}" type="slidenum">
              <a:t>1</a:t>
            </a:fld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 MOR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EP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R QUE SUFRE UNA PERSONA COMO CONSECUENCIA DEL INCUMPLIMIENTO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IOLACIÓN DE DERECHOS DE LA PERSON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CEDENCIA EN MATERIA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2329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7B2-DB7C-47CF-A9E1-E9DA69D4EE3E}" type="slidenum">
              <a:t>10</a:t>
            </a:fld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 MOR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TRATOS QUE INVOLUCRAN DERECHOS DE LA PERSONALIDAD (CONTRATO DE TRANSPOR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ALQUIER TIPO DE CONTR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80A3-71C9-4FB9-AFAF-034407B3C4DA}" type="slidenum">
              <a:t>11</a:t>
            </a:fld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-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SENCIA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QUISITO INDEPEND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 O FUERZA MAY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8A0-BDDC-4F5A-A66F-CADF13A6DF93}" type="slidenum">
              <a:t>12</a:t>
            </a:fld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DEFIN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45 CC, EL IMPREVISTO A QUE NO ES POSIBLE RESISTIR, COMO UN NAUFRAGIO, UN TERREMOTO, EL APRESAMIENTO DE ENEMIGOS, LOS ACTOS DE AUTORIDAD EJERCIDOS POR UN FUNCIONARIO PÚBLICO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USA EXTRAÑA AL DEUDOR, ART. 154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REVISIBILIDAD DEL HECHO (CONCEPTO RELATIVO, CÁLCULO DE PROBABILIDADES, CASO CONCRET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ECHO IRRESIST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685-59F3-4A0A-98B4-276D198576A9}" type="slidenum">
              <a:t>13</a:t>
            </a:fld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 DEUDOR NO ES RESPONSABLE DEL CASO FORTUITO, ARTS. 1547 Y 1670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RANSITORIO. EXIME INDEMNIZACION MORATORIA, ART. 1558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CUERDO DE LAS PARTES, OBLIGACIONES DE GARANTÍA, ART. 1547 CC INCISO FINAL, ART. 1673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EY (ART. 1676 C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SO FORTUITO SOBREVIENE POR CULPA DEL DEUDOR. CULPA QUE MOTIVA EL CASO FORTUITO NO EL INCUMPLI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SO FORTUITIO SOBREVIENEN DURANTE LA MORA DEL DEU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C19-CD53-4001-BC7A-A99936E8E7BA}" type="slidenum">
              <a:t>14</a:t>
            </a:fld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SO FORTUITO, PRUE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BE PROBAR EL CASO FORTUITO QUIEN LO ALE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S. 1547, 1671, 1674, 1698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679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EL HECHO O CULPA DEL DEUDOR SE COMPRENDE EL HECHO O CULPA DE LAS PERSONAS POR QUIENES FUERE RESPON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OS CASOS, CASO FORTU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ER ART. 167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DE3-FEE0-4D97-9D76-1488B97FD7E0}" type="slidenum">
              <a:t>15</a:t>
            </a:fld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ORÍA DE LA IMPREV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USENCIA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EN MATERIA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ALTA DE DILIGENCIA O CUIDADO QUE DEBE EMPLEARSE EN EL CUMPLIMIENTO DE UN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CUIDO, IMPRUDENCIA, NEGLIG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VISI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POR OMI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APRECIA EN ABSTRACTO, ART. 44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CAEF-B293-4341-A760-1DF58CE12D6E}" type="slidenum">
              <a:t>16</a:t>
            </a:fld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LASIFICACIÓN TRIPARTITA DE LA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O CULPA L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CAUCIONES MÁS ELEM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IVALE AL DO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GRAVE, NEGLIGENCIA LEVE, CULPA LATA, ES LA QUE CONSISTE EN NO MANEJAR LOS NEGOCIOS AJENOS CON AQUEL CUIDADO QUE AÚN LAS PERSONAS NEGLIGENTES Y DE POCA PRUDENCIA SUELEN EMPLEAR EN SUS NEGOCIOS PROPIOS. ESTA CULPA EN MATERIAS CIVILES EQUIVALE AL DO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D75-2BEE-4B2E-9168-2AF9584F8755}" type="slidenum">
              <a:t>17</a:t>
            </a:fld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RADO DE DILIGENCIA ME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E, DESCUIDO LEVE, DESCUIDO LIGERO, ES LA FALTA DE AQUELLA DILIGENCIA Y CUIDADO QUE LOS HOMBRES EMPLEAN ORDINARIAMENTE EN SUS NEGOCIOS PROPIOS. CULPA O DESCUIDO, SIN OTRA CALIFICACIÓN, SIGNIFICA CULPA O DESCUIDO LEVE. ESTA ESPECIE DE CULPA SE OPONE A LA DILIGENCIA O CUIDADO ORDINARIO O MEDI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QUE DEBE ADMINISTRAR UN NEGOCIO COMO UN BUEN PADRE DE FAMILIA ES RESPONSABLE DE ESTA ESPECIE DE CUL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8E1-9D83-4C34-A678-E57E6D57F3F7}" type="slidenum">
              <a:t>18</a:t>
            </a:fld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LEVÍS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TRAORDINARIA PRUD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O DESCUIDO LEVÍSIMO ES LA FALTA DE AQUELLA ESMERADA DILIGENCIA QUE UN HOMBRE JUICIOSO EMPLEA EN LA ADMINISTRACIÓN DE SUS NEGOCIOS IMPORTANTES. ESTA ESPECIE DE CULPA SE OPONE A LA SUMA DILIGENCIA O CUIDA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EPTO JURÍDICO INDETERMIN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47 CC, QUIÉN REPORTA UT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5DEF-2EF6-4FD9-9221-24E918ECB455}" type="slidenum">
              <a:t>19</a:t>
            </a:fld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ÍMITE: MONTO DE LOS PERJU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ATURALEZA COMPENSATO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STITUYE UNA OBLIGACIÓN DE DIN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XCEPCIÓN, CLÁUSULA PENAL (ART. 1535 C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SI LA EJECUCIÓN FORZADA NO ES PO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CEP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EDEE-11A9-463D-9A16-C229E41CBF07}" type="slidenum">
              <a:t>2</a:t>
            </a:fld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ÓLO SON ÚTILES PARA EL ACREEDOR, CULPA GR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ÓLO SON ÚTILES PARA EL DEUDOR, CULPA LEVÍS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TOS QUE SON ÚTILES PARA AMBAS PARTES, CULPA LE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IMA AUTONOMÍA DE LA VOLUNTAD, ART. 1547 INC. FINAL. CULPA GRAVE FUTURA NO PUEDE CONDON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ULPA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AAE-C6AC-4D3E-B02A-BA62549D23E4}" type="slidenum">
              <a:t>20</a:t>
            </a:fld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NCIONALIDAD: DAÑO Y PROVE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DAÑO ES PREVISTO Y QUER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ICIO DEL CONSENTIMIENTO, REQUISITO DE LA RESPOSABILIDAD EXTRACONTRACTUAL, AGRAVANTE DE LA RESPONSABILIDAD CONTRACT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, 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S PREVISTOS E IMPREVI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OLO FUTURO NO PUEDE CONDONA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UTONOMÍA DE LA VOLUNT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203-57E2-4CC0-8F0A-71487C9B66DE}" type="slidenum">
              <a:t>21</a:t>
            </a:fld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MPUTABILIDA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EQUIVALE AL DO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S PREVISTOS E IMPREVI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LPA GRAVE FUTURA NO PUEDE CONDONA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PARACIÓN NO ES TO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OLO DEBE PROBARSE, EXCEPCIONES, ART. 1459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ULPA GRAVE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BA0-3B3D-46A9-847B-504344474F1D}" type="slidenum">
              <a:t>22</a:t>
            </a:fld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57 CC, SE DEBE LA INDEMNIZACIÓN DE PERJUICIOS DESDE QUE EL DEUDOR SE HA CONSTITUIDO EN M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38 CC, HÁYASE O NO ESTIPULADO UN TÉRMINO DENTRO DEL CUAL DEBA CUMPLIRSE LA OBLIGACIÓN PRINCIPAL, EL DEUDOR NO INCURRE EN LA PENA SINO CUANDO SE HA CONSTITUIDO EN M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DEMNIZACIÓN MORATORIA Y COMPENSAT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CC7-6DAE-44FD-BD24-7F3E024C30F4}" type="slidenum">
              <a:t>23</a:t>
            </a:fld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O APLICA EN LAS OBLIGACIONES DE NO HAC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DEU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IGIBILIDAD DE LA OBLIGACIÓN NO ES SIEMPRE SUFIC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IMPUTABLE EN EL CUMPLIMIENTO DE UNA OBLIGACIÓN UNIDO A LA INTERPELACIÓN DEL ACRE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CIERTA, VENCIDA Y LÍQU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EN EL CUMPL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TARDO IMPUTABLE, ART. 1558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85B-297C-468E-8938-6B2942232166}" type="slidenum">
              <a:t>24</a:t>
            </a:fld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RPELACIÓN DEL ACREEDOR, ART. 1551 Nº3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JUDICIAL, ART. 1551 Nº3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CONVENCIÓN JUDICIAL (DEMANDA DE CUMPLIMIENTO, RESOLUCIÓN, INDEMNIZACIÓN DE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DE NOTIFICACIÓN DEMAN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GLA GE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B72-FB6C-4554-A75B-F170C9D7B787}" type="slidenum">
              <a:t>25</a:t>
            </a:fld>
          </a:p>
        </p:txBody>
      </p:sp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CONTRACTUAL, TÉRMINO ESTIPULADO, ART. 1556 Nº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UERDO DE LAS PAR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TOS JURÍDICOS BILAT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EXCLUYE CONDI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CEPCIONES, ART. 1538 CC (CLÁUSULA PENAL), ART. 1977 CC (ARRENDAMIENT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ELACIÓN CONTRACTUAL, PLAZO TÁCITO, ART. 1556 Nº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7350-8A2A-4E64-97F2-E876EE83ABDB}" type="slidenum">
              <a:t>26</a:t>
            </a:fld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DEUDOR,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 LUGAR A LA INDEMNIZACIÓN DE PERJUIC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ACE RESPONSABLE AL DEUDOR DEL CASO FORTUITO ACAECIDO DURANTE LA MORA, SALVO QUE EL CASO FORTUITO HUBIERE SOBREVENIDO ESTANDO LA COSA EN PODER DEL ACREEDOR, ARTS. 1547 Y 1672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0 CC. RIESGO ES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CEDE EXCEPCIÓN DE CONTRATO NO CUMPL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7B4-DD32-40D9-8DBD-196F7294E89B}" type="slidenum">
              <a:t>27</a:t>
            </a:fld>
          </a:p>
        </p:txBody>
      </p:sp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O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L ACRE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ISPOSICIONES AIS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48 CC, ART. 1552 CC, ART. 1680 CC, ART. 182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GO POR CONSIGNACIÓN (ARTS. 1598 Y 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RA DE AMBAS PAR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DB8-2325-4989-9E24-32438F2B1DEF}" type="slidenum">
              <a:t>28</a:t>
            </a:fld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NO HACER, ART. 1555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D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UERZA OBLIGATORIA DEL CONTR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69 CC (EL PAGO SE HARÁ BAJO TODOS RESPECTOS EN CONFORMIDAD AL TENOR DE LA OBLIG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DESCARTA OBLIGACIÓN ALTERNATIVA (CUMPLIMIENTO O INDEMNIZACIÓN A ELECCIÓN DEL ACREED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7E90-CF2F-4265-938E-1D35021B8722}" type="slidenum">
              <a:t>3</a:t>
            </a:fld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ATURALEZA SUBSIDIARIA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ONES DE HACER, ART. 1553 CC, “A ELECCIÒN SUY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DICIÓN RESOLUTORIA TÁCITA EN CONTRATOS BILATERALES (RESOLUCIÓN CON INDEMNIZACIÓN DE PERJUICI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LÁUSULA PENAL, ART. 1537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CUMPLIMIENTO ES EXCESIVAMENTE ONEROSO? BUENA FE, ART. 110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OCTRINAS QUE ADMITEN CUMPLIMIENTO DEL DEUDOR EN CASO DE RESOLUCIÓN DEL ART. 1489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D92-E4D2-4F25-89C3-AD1A5FB99A07}" type="slidenum">
              <a:t>4</a:t>
            </a:fld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SPONSABILIDAD CONTRACTU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JECUCIÓN FORZADA ES PO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DAR UNA ESPECIE O CUERPO CIERTO QUE SUBSISTE EN PODER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DAR COSAS GENÉR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HACER QUE PUEDE SER EJECUTADA POR EL DEUDOR O TERC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BLIGACIÓN DE NO HACER Y PUEDE DESTRUIRSE LO HE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S Y PERJU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 EMERGENTE Y LUCRO CES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T. 1556 C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71B-DAF0-4293-83D8-54BBC1CBEEF3}" type="slidenum">
              <a:t>5</a:t>
            </a:fld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QUISIT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QUISITOS RESPONSABILIDAD CONTR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UMPLIMIENTO DE UN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OSIBILIDAD DE EJECUCIÓN FORZADA (EXCEPCIO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 ENTRE EL INCUMPLIMIENTO Y EL D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UMPLIMIENTO IMPU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RA DEL DEU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MANDANTE DEBE HABER CUMPLIDO O ESTAR LLANO A CUMPL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NO CONCURRA UNA CAUSAL DE EXON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AE4-5575-4DBF-A6FD-0015912A917B}" type="slidenum">
              <a:t>6</a:t>
            </a:fld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INCUMPLIMIENT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LASES DE INCUMPL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EJECUCIÓN DE LA OBL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MPLIMIENTO PA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MPLIMIENTO TARDÍ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A INDEMNIZACIÓN DE PERJUICIOS COMPRENDE EL DAÑO EMERGENTE Y LUCRO CESANTE, YA PROVENGAN DE NO HABERSE CUMPLIDO LA OBLIGACIÓN, O DE HABERSE CUMPLIDO IMPERFECTAMENTE, O DE HABERSE RETARDADO EL CUMPLIMIENTO, ART. 1556 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UEBA DEL INCUMPLIMIENTO, PRESUNCIÓ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797A-59AF-4577-84CD-FCE14120E433}" type="slidenum">
              <a:t>7</a:t>
            </a:fld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T. 1556 CC, DAÑO EMERGENTE Y LUCRO CES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 DEBE SER CONSECUENCIA INMEDIATA O DIRECTA DE NO HABERSE CUMPLIDO LA OBLIGACIÓN O DE HABERSE DEMORADO SU CUMPLIMIENTO, ART. 155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LACIÓN DE CAUS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SE INDEMNIZAN LOS DAÑOS DIREC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 DEBE SER PROBADO. NO SE PRES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313-1FD7-41E3-9F97-57DEE5C88500}" type="slidenum">
              <a:t>8</a:t>
            </a:fld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AÑ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UEBA DEL DAÑO, EXCEP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LÁUSULA PE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LAS OBLIGACIONES DE PAGAR UNA CANTIDAD DE DINERO, CUANDO SE COBRAN SOLAMENTE INTERE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RT. 1559 CC: “EL ACREEDOR NO TIENE NECESIDAD DE JUSTIFICAR PERJUICIOS CUANDO SÓLO COBRA INTERESES; BASTA EL HECHO DEL RETA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AÑO EVIDENTE (NO PAGO DE RENT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AÑOS PATRIMONIALES Y DAÑOS EXTRAPATRIMON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E77E-AE42-447A-8019-846630420D09}" type="slidenum">
              <a:t>9</a:t>
            </a:fld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6:32:59Z</dcterms:created>
  <dc:creator>ASTRID SCHUDECK</dc:creator>
  <dc:description/>
  <dc:language>en-US</dc:language>
  <cp:lastModifiedBy>ASTRID SCHUDECK</cp:lastModifiedBy>
  <dcterms:modified xsi:type="dcterms:W3CDTF">2008-11-05T01:03:47Z</dcterms:modified>
  <cp:revision>53</cp:revision>
  <dc:subject/>
  <dc:title>RESPONSABILIDAD CONTRACTUAL</dc:title>
</cp:coreProperties>
</file>