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8CB-DC4E-4F78-BAEE-847ED846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428-5560-4A66-956F-3B78FB1F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62F0-FDF8-4B7A-896D-E5D82351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FEF-F6C9-4E0C-98DE-7C89501A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AA2-314F-4C7F-8ED6-17AF205D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EF5F-8185-46C6-A1C6-D8054E23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8DCC-E4DC-4700-BBA6-7AC57A04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5236-8EB6-49A2-8F39-833CF7B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F25-F0F4-4A8B-97BF-FC1CD000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8A7-A90D-4301-9299-9E9BF9C3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999-5CE2-4A8D-B983-43B4FA27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9C5-4709-4525-92B4-3B5DC4D6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9A40-6E24-4319-BE22-66F5CFA0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6AE-584C-45A0-9F2D-D9FAB5E6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F55-A97D-4922-B65E-27C080F4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3EE4-0208-4B64-AFB3-C113AFF5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3DEC-ED8B-4FCB-897E-9C297866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089-7E52-405A-8DC9-AE505867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C96-86DF-44AE-9119-784E7069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5DB-B97A-4DA6-BCA3-094FAF1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CA2-FF57-4A6A-92E3-35BF54C9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6BD-D896-49A1-95AE-8128F4A3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4E7-DDE8-4750-8531-1CD598D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049-C8E1-4AE4-AF9B-04560CE2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681F-7295-4B0D-9490-44A2FCD52EA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442A-C369-442D-9E62-1EA23B8422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SQUEMA GENERAL DEL DERECHO ADMINISTRATIVO COMO DISCIPLIN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31780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ma de Est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Na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sona Juríd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Actividad Administrativ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glamen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cret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lt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ces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citacio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0" y="2420640"/>
            <a:ext cx="40384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JURIDICIDAD 7 LEGA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s. 6 y 7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DERECHOS SUBJETIV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t. 19 Nº 26 CP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83a04"/>
                </a:solidFill>
                <a:latin typeface="Verdan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osterior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170028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1700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314172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56536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19640" y="422100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ESQUEMA GENERAL DEL ACTO ADMINISTRATIVO</a:t>
            </a:r>
            <a:br>
              <a:rPr sz="20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“PARTICULARIDADES”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341360"/>
          <a:ext cx="8569080" cy="5448240"/>
        </p:xfrm>
        <a:graphic>
          <a:graphicData uri="http://schemas.openxmlformats.org/drawingml/2006/table">
            <a:tbl>
              <a:tblPr/>
              <a:tblGrid>
                <a:gridCol w="1573200"/>
                <a:gridCol w="2774880"/>
                <a:gridCol w="1628640"/>
                <a:gridCol w="2592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RECHO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s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vid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ib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TEORÍA DEL ÓRGA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VOLUNTAD SIN VIC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D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hac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DA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   Actividad de  fo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ven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ubsid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don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est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der – Deb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NO HACE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: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ólo por l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ponsabilidad del Estad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OBJETO LÍC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cc"/>
                        </a:buClr>
                        <a:buSzPct val="6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íci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ticausalis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EL INTERÉS PÚBL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CAUSA LÍC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83a04"/>
                          </a:solidFill>
                          <a:latin typeface="Verdana"/>
                        </a:rPr>
                        <a:t>PRINCIPIO DE JURIC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50920" y="907920"/>
          <a:ext cx="8569080" cy="395280"/>
        </p:xfrm>
        <a:graphic>
          <a:graphicData uri="http://schemas.openxmlformats.org/drawingml/2006/table">
            <a:tbl>
              <a:tblPr/>
              <a:tblGrid>
                <a:gridCol w="4321080"/>
                <a:gridCol w="4248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IST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LIDE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3:41:10Z</dcterms:created>
  <dc:creator>Fac. Derecho</dc:creator>
  <dc:description/>
  <dc:language>en-US</dc:language>
  <cp:lastModifiedBy>Fac. Derecho</cp:lastModifiedBy>
  <dcterms:modified xsi:type="dcterms:W3CDTF">2008-08-06T14:32:46Z</dcterms:modified>
  <cp:revision>3</cp:revision>
  <dc:subject/>
  <dc:title>ESQUEMA GENERAL DEL DERECHO ADMINISTRATIVO COMO DISCIPLINA</dc:title>
</cp:coreProperties>
</file>