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C10-E12F-41A5-947C-F40943B8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1C00-7D89-44E1-A37C-CC40A822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765-0177-4089-A700-82CEC6B7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080-953E-4F23-8FF1-0E5B2C44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3844-AED6-4B79-8726-DFAE5858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C824-33E9-48FE-A3D9-65B7821A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94D5-FD23-4AFC-8A1F-568B5F33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97C1-B957-4EEB-AEFD-C476E548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64ED-0E48-4E44-94C9-7E71E479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FA1B-1083-450E-987B-B6A0F23E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F365-1A32-428A-819E-85C2F145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A41-819D-4F2A-8513-A1BC9051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0947-03F8-4EFC-AC89-29F1A1F3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BD8B-30B8-4E73-B4F0-851501BF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3622-ACC5-4243-970B-2AFA01BB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ECFF-D8B2-4A94-9970-82BAEB4F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62D9-62DD-4659-B9E1-7FBB5047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144-E56D-45A1-B768-B30F1EFB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3C1-8CE2-4049-B3E2-BEC85B74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BE4-AE96-4924-ACD9-3A65CC90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C6B-5E09-4EF2-86B5-9B8B062C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1DB-9B7D-4024-B5EC-46856B1A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B69-A594-4FD5-8DC8-9D0F82C9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5179-489A-4E37-AE7D-5FE70D69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947E-DF46-4F78-8E0E-268A00081A5B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10F0-8F5C-4269-B37F-93575A6C039A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Participación criminal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omplicidad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0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Cómplice: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quien coopera dolosamente a la ejecución del hecho de otro mediante actos anteriores o simultáneo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Cooperación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cualquier aportación o contribución a la ejecución del hecho, que sea utilizada por el autor: fórmula legal genéri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Puede ser material o intelectua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os actos de cooperación deben ser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anteriores o simultáneos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 a la consumación del delito. Si son posteriores: encubrimient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aso de delitos permanentes (</a:t>
            </a:r>
            <a:r>
              <a:rPr b="0" i="1" lang="es-CL" sz="2100" spc="-1" strike="noStrike">
                <a:solidFill>
                  <a:srgbClr val="000099"/>
                </a:solidFill>
                <a:latin typeface="Arial"/>
              </a:rPr>
              <a:t>simultáneos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a contribución debe ser aprovechada por el aut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0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ómplice debe obrar con dolo de consumación: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no hay complicidad impruden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No es indispensable que el autor tenga conocimiento de la colaboración del cómplice: no es necesario acuerdo de voluntades (dominio funcional del hecho) de la coautorí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aso aman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Tratamiento normativ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1052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I. Asimilación a autores (15 N° 3 CP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a)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Los que, </a:t>
            </a:r>
            <a:r>
              <a:rPr b="1" i="1" lang="es-CL" sz="2200" spc="-1" strike="noStrike">
                <a:solidFill>
                  <a:srgbClr val="006666"/>
                </a:solidFill>
                <a:latin typeface="Arial"/>
              </a:rPr>
              <a:t>concertados para su ejecución,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 facilitan los medios con que se lleva a efecto el hecho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-73656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Requisito esencial: </a:t>
            </a:r>
            <a:r>
              <a:rPr b="1" lang="es-CL" sz="2200" spc="-1" strike="noStrike" u="sng">
                <a:solidFill>
                  <a:srgbClr val="ff0000"/>
                </a:solidFill>
                <a:uFillTx/>
                <a:latin typeface="Arial"/>
              </a:rPr>
              <a:t>concierto previo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acuerdo expreso de voluntades.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planificación previa a la ejecució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Importante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  el medio facilitado debe ser empleado en la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jecución del delito o, al menos, en el principio de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jecució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992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b) 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“(los que, concertados para su ejecución) 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lo presencian sin tomar parte inmediata en él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Concierto previo es, también, indispens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Ratio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la mera presencia, cuando existe concierto previo, importa una facilitación o reforzamiento de la ejecución del deli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aso violació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7228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ómplices propiamente tales (no asimilados a autore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Artículo 16 CP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Son cómplices los que, no hallándose comprendidos en el artículo anterior, cooperan a la ejecución del hecho por actos anteriores o simultáneos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Hipótesis de excepcional ocurrencia: sin concierto prev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Encubrimient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7228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Art. 17 CP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Son encubridores los que con conocimiento de la perpetración de un crimen o de simple delito o de los actos ejecutados para llevarlo a cabo, sin haber tenido participación en él como autores ni como cómplices,</a:t>
            </a:r>
            <a:r>
              <a:rPr b="0" i="1" lang="es-CL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intervienen, con posterioridad a su ejecución, de alguno de los modos siguient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1° Aprovechándose por sí mismos o facilitando a los delincuentes medios para que se aprovechen de los efectos del crimen o simple deli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2° Ocultando o inutilizando el cuerpo, los efectos o instrumentos del crimen o simple delito para impedir su descubrimient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3° Albergando, ocultando o proporcionando la fuga del culpabl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4° Acogiendo, receptando o protegiendo habitualmente a los malhechores, sabiendo que lo son, aun sin conocimiento de los crímenes o simples delitos determinados que hayan cometido, o facilitándoles los medios de reunirse u ocultar sus armas o efectos, o suministrándoles auxilio o noticias para que se guarden, precavan o salve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quisit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1439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A. Intervención posterior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 la ejecución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del ilíci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No a la consumación, sino que a la “ejecución” de la conducta típ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rítica político criminal respecto a punibilida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B. Subsidiarieda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láusula expresa: resolución de concurso aparente de normas penales: subsidiarieda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. Conocimiento de 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la perpetración de un crimen o simple delito </a:t>
            </a:r>
            <a:r>
              <a:rPr b="1" i="1" lang="es-CL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 de los actos ejecutados para llevarlo a cab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ólo se exige respecto de 1, 2 y 3 art. 17 CP (4: exime expresamente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Crimen o simple delit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”: excluye fal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Actos ejecutados para llevarlo a cab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”: se refiere a tentativa y frustració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Concep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Es partícipe el que interviene dolosamente en un hecho ajeno sin concurrir a la ejecución de la conducta típica ni contar con el dominio de ella, realizando ciertos actos descritos en forma expresa por la ley y que de ordinario revisten un carácter preparatorio o de colaboración ulterior a la consumación” (Cury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992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onocimiento debe abarcar crímenes o simples delitos </a:t>
            </a:r>
            <a:r>
              <a:rPr b="1" lang="es-CL" sz="2100" spc="-1" strike="noStrike">
                <a:solidFill>
                  <a:srgbClr val="000099"/>
                </a:solidFill>
                <a:latin typeface="Arial"/>
              </a:rPr>
              <a:t>determinados 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(exigencia a contrario sensu N° 4): basta dolo eventual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99"/>
                </a:solidFill>
                <a:latin typeface="Arial"/>
              </a:rPr>
              <a:t>Quien compra objetos procedentes –en su representación- de un hurto, no es encubridor de robo con homicidio (origen real), salvo representación como posible (dolo eventual)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onocimiento se refiere a ejecución conducta típica, no es menester que abarque producción de resultad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Arial"/>
              </a:rPr>
              <a:t>Formas de encubrimien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Aprovechamient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(1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Real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(2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Favorecimient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Ocasional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(3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                                       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Perso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Habitual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(4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 flipV="1">
            <a:off x="3203640" y="3357720"/>
            <a:ext cx="5763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3276720" y="4149720"/>
            <a:ext cx="574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 flipV="1">
            <a:off x="5364000" y="4508280"/>
            <a:ext cx="648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364000" y="501336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provechamiento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quien se aprovecha por sí mismo o facilita a los delincuentes medios para que se aprovechen de los efectos del crimen o simple delito (17 N° 1 CP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provechar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obtención de una ganancia económi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¿De qué?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efectos del ilícito: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objeto materi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Facilitación de medios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debe ser directa y de importancia (sesión 127 comisión redactora CP): se excluyen consejos vago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Favorecimiento real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importa ocultar o inutilizar 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el cuerpo, los efectos o instrumentos del crimen o simple delito para impedir su descubrimient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Real”: hecho delictivo y no persona del hecho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Cuerpo del delit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alude a objeto material: persona o cosa sobre la que recae la conducta típi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Efectos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Idem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Instrumentos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medios para la ejecución del ilícit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Favorecimiento personal ocasional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implica albergar, ocultar o proporcionar la fuga al culpable (17 N° 3 CP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Albergar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hospedar (no sólo en morada propia, sino también ajena                   alquile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Ocultar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esconder en sentido amplio (todo tipo de conductas destinadas a impedir la identificación del hechor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S, 13/9/2001: “ocultaron” quienes, luego del homicidio, arrastraron el cadáver hasta un camino público para generar impresión de atropello y desviar la atención hacia otras person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Proporcionar la fuga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dar auxilio o facilitar el alejamiento del lugar del delito a fin de eludir la acción de la justici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30592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Favorecimiento personal habitual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importa acoger, receptar o proteger habitualmente a malhechores, sabiendo que lo son, aun sin conocimiento de ilícitos determinados cometidos, o facilitarles los medios para reunirse u ocultar sus armas o efectos, o suministrar auxilios o noticias para que se guarden, precavan o salven (17 N° 4 CP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rítica político criminal: !!punibilidad a título de partícipes sin siquiera conocimiento del ilícito determinado cometido¡¡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Requisito inherente: habitualidad: más de dos ve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Encubrimiento de parient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rt. 17 inciso final: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Están exentos de las penas impuestas a los encubridores los que lo sean de su cónyuge o de sus parientes legítimos por consanguinidad o afinidad en toda la línea recta y en la colateral hasta el segundo grado inclusive, de sus padres o hijos naturales o ilegítimos reconocidos, con sólo la excepción de los que se hallaren comprendidos en el número 1° de este artícul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Problemas de jurisprudencia de Garantía: interpretación analógica vs legalid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xcepción:  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Aprovechándose por sí mismos o facilitando a los delincuentes medios para que se aprovechen de los efectos del crimen o simple delito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360" y="985680"/>
            <a:ext cx="7205760" cy="330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Principios regulatorios entre autoría y participación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281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La participación criminal es 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subsidiari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a la autoría (sólo es partícipe quien no es autor del ilícito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Art. 16 CP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Son cómplices los que, </a:t>
            </a:r>
            <a:r>
              <a:rPr b="1" i="1" lang="es-CL" sz="2400" spc="-1" strike="noStrike">
                <a:solidFill>
                  <a:srgbClr val="ff0000"/>
                </a:solidFill>
                <a:latin typeface="Arial"/>
              </a:rPr>
              <a:t>no hallándose comprendidos en el artículo anterior,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 cooperan a la ejecución del hecho por actos anteriores o simultáneos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Art. 17 CP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Son encubridores los que con conocimiento de la perpetración de un crimen o de simple delito o de los actos ejecutados para llevarlo a cabo, </a:t>
            </a:r>
            <a:r>
              <a:rPr b="1" i="1" lang="es-CL" sz="2400" spc="-1" strike="noStrike">
                <a:solidFill>
                  <a:srgbClr val="ff0000"/>
                </a:solidFill>
                <a:latin typeface="Arial"/>
              </a:rPr>
              <a:t>sin haber tenido participación en él como autores ni como cómplices,</a:t>
            </a: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intervienen, con posterioridad a su ejecución, de alguno de los modos siguientes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La participación criminal importa la intervención en un hecho ajeno, que se encuentra bajo el dominio de otro: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el partícipe no cuenta con el dominio del hech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Sólo existe participación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dolo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Basta el dolo eventual (tesis mayoritaria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Quien interviene imprudentemente en el hecho ilícito de otro: autor del ilícito imprud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Formas de participación crimina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Instigación (ojo: art. 15 N° 2 CP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omplic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Encubrimient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Instigació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439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Inducción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“es la causación objetiva y subjetivamente imputable, mediante un influjo síquico en otro, de la resolución y realización por parte de éste de un tipo de autoría doloso” (Mir Puig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Fundamento normativ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Artículo 15 N° 2 CP: “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Se consideran autor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2° Los que fuerzan o </a:t>
            </a:r>
            <a:r>
              <a:rPr b="1" i="1" lang="es-CL" sz="2400" spc="-1" strike="noStrike">
                <a:solidFill>
                  <a:srgbClr val="ff0000"/>
                </a:solidFill>
                <a:latin typeface="Arial"/>
              </a:rPr>
              <a:t>inducen directamente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 a otro a ejecutarlo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El inductor </a:t>
            </a:r>
            <a:r>
              <a:rPr b="0" lang="es-CL" sz="2300" spc="-1" strike="noStrike">
                <a:solidFill>
                  <a:srgbClr val="ff0000"/>
                </a:solidFill>
                <a:latin typeface="Arial"/>
              </a:rPr>
              <a:t>debe formar en el inducido la voluntad de cometer un delito</a:t>
            </a: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: de actuar en el sentido del tipo leg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El inducido mantiene la decisión delictiva, mantiene el dominio de la acció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El inductor debe obrar de una </a:t>
            </a:r>
            <a:r>
              <a:rPr b="1" lang="es-CL" sz="2300" spc="-1" strike="noStrike" u="sng">
                <a:solidFill>
                  <a:srgbClr val="ff0000"/>
                </a:solidFill>
                <a:uFillTx/>
                <a:latin typeface="Arial"/>
              </a:rPr>
              <a:t>manera directa</a:t>
            </a: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 en la formación de la voluntad delictiva del inducido (exigencia art. 15 N° 2 CP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Directa: mediante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actos positivos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Por ello: no hay posibilidad normativa de instigación por omisió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a instigación debe ser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dolosa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 (se excluye la inducción imprudent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a inducción directa puede ser expresa o tácita: lo importante es que sea mediante actos positiv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La inducción se verifica mediante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influjo síquic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s posible (15 N° 2 CP) que se verifique mediante coacción siempre que ésta no anule la voluntad del autor: autoría mediata (Cury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s indispensable que la voluntad de delinquir del inducido se exteriorice, al menos, en un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principio de ejecución (tentativa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nducción no aceptada es imp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l dolo del inductor debe ser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dolo de consum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nducción a la tentativa es imp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mportancia práctica en investigación policial: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agentes provocador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Formación de voluntad delictiva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Reafirmar voluntad existente: imp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Formación de voluntad abandonada: indu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99"/>
                </a:solidFill>
                <a:uFillTx/>
                <a:latin typeface="Arial"/>
              </a:rPr>
              <a:t>Marco punitivo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Instigadores son asimilados a los autores para los efectos de la penalidad                  Art. 15 N° 2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rítica político criminal (dominio del hech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on todo: son partícipes              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principios de participación.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21164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2700360" y="4076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9:29:19Z</dcterms:created>
  <dc:creator>Martín</dc:creator>
  <dc:description/>
  <dc:language>en-US</dc:language>
  <cp:lastModifiedBy>Rodrigo Zegers</cp:lastModifiedBy>
  <dcterms:modified xsi:type="dcterms:W3CDTF">2008-11-06T23:56:24Z</dcterms:modified>
  <cp:revision>28</cp:revision>
  <dc:subject/>
  <dc:title>Participación criminal</dc:title>
</cp:coreProperties>
</file>