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F8D-927D-4A6B-A2F7-E5BF6185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204-E48A-4887-955B-62A4EF8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BB8-047A-4A2C-BC23-44C17FF0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8AE-B58E-412A-9668-BFA6DC2B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CF0-AA64-4047-8EC3-299BBD76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A1F2-6E7A-4928-BEC8-22B06CD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A5DE-B295-4E49-A853-EFC8181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1211-830A-4BDD-A4E6-A5A684F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EC48-A4FC-4E82-AFC0-DAA88B18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3DE6-A3D4-4DA4-BC19-4D8AB8B3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ECAB-FBD6-447D-B12A-DA7D90A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A52-9EBE-4086-9080-542B21A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776D-E7AA-48E6-AB27-6A0B8B8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1274-395C-4847-AF6A-AE17B8A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0D06-53D8-4945-A6A8-443775A3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7BB9-A6ED-4D9A-8175-0368E27A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7C7C-210C-4DDD-A55C-51BA308A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E6F-CE93-4FCC-89FA-4F92A428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4C5-F45A-42C6-9E4E-E654246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C4E-522A-47F4-955E-EC21A2E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259-ED33-4D6A-BF19-E9571F5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213-797C-45F8-8B71-E35B581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A5F-3311-4493-B57E-DB94EC8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100-510D-4A12-86D7-329C89BE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59F3-9028-4795-9005-9AA7388D1E37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EE45-CBB0-4635-8B4D-747E975DAE0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articipación crimin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omplicida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ómplice: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quien coopera dolosamente a la ejecución del hecho de otro mediante actos anteriores o simultáne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Cooperación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cualquier aportación o contribución a la ejecución del hecho, que sea utilizada por el autor: fórmula legal genér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uede ser material o intelectu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os actos de cooperación deben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nteriores o 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a la consumación del delito. Si son posteriores: encubrimi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aso de delitos permanentes (</a:t>
            </a:r>
            <a:r>
              <a:rPr b="0" i="1" lang="es-CL" sz="2100" spc="-1" strike="noStrike">
                <a:solidFill>
                  <a:srgbClr val="000099"/>
                </a:solidFill>
                <a:latin typeface="Arial"/>
              </a:rPr>
              <a:t>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contribución debe ser aprovechada por el aut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 debe obrar con dolo de consumación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no hay complicidad imprud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No es indispensable que el autor tenga conocimiento de la colaboración del cómplice: no es necesario acuerdo de voluntades (dominio funcional del hecho) de la coautorí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aso am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Tratamiento norma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0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I. Asimilación a autores (15 N° 3 C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)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s que, </a:t>
            </a:r>
            <a:r>
              <a:rPr b="1" i="1" lang="es-CL" sz="2200" spc="-1" strike="noStrike">
                <a:solidFill>
                  <a:srgbClr val="006666"/>
                </a:solidFill>
                <a:latin typeface="Arial"/>
              </a:rPr>
              <a:t>concertados para su ejecución,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 facilitan los medios con que se lleva a efecto el hecho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esencial: </a:t>
            </a:r>
            <a:r>
              <a:rPr b="1" lang="es-CL" sz="2200" spc="-1" strike="noStrike" u="sng">
                <a:solidFill>
                  <a:srgbClr val="ff0000"/>
                </a:solidFill>
                <a:uFillTx/>
                <a:latin typeface="Arial"/>
              </a:rPr>
              <a:t>concierto previo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acuerdo expreso de voluntades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planificación previa a la 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Importante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el medio facilitado debe ser empleado en la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 del delito o, al menos, en el principio de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b) 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(los que, concertados para su ejecución) 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 presencian sin tomar parte inmediata en él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Concierto previo es, también, indispens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Rati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la mera presencia, cuando existe concierto previo, importa una facilitación o reforzamiento de la ejecución del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aso viola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72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s propiamente tales (no asimilados a autor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rtículo 16 CP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Son cómplices los que, no hallándose comprendidos en el artículo anterior, cooperan a la ejecución del hecho por actos anteriores o simultáneos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Hipótesis de excepcional ocurrencia: sin concierto prev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Encubrimien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72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rt. 17 C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sin haber tenido participación en él como autores ni como cómplices,</a:t>
            </a:r>
            <a:r>
              <a:rPr b="0" i="1" lang="es-C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1° Aprovechándose por sí mismos o facilitando a los delincuentes medios para que se aprovechen de los efectos del crimen o simple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2° Ocultando o inutilizando el cuerpo, los efectos o instrumentos del crimen o simple delito para impedir su descubrimien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3° Albergando, ocultando o proporcionando la fuga del culpab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4° Acogiendo, receptando o protegiendo habitualmente a los malhechores, sabiendo que lo son, aun sin conocimiento de los crímenes o simples delitos determinados que hayan cometido, o facilitándoles los medios de reunirse u ocultar sus armas o efectos, o suministrándoles auxilio o noticias para que se guarden, precavan o salv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. Intervención posterior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 la ejecución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del ilíc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No a la consumación, sino que a la “ejecución” de la conducta típ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rítica político criminal respecto a punibili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B. Subsidiarie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láusula expresa: resolución de concurso aparente de normas penales: subsidiarie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. Conocimiento de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la perpetración de un crimen o simple delito </a:t>
            </a:r>
            <a:r>
              <a:rPr b="1" i="1" lang="es-CL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 de los actos ejecutados para llevarlo a cab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ólo se exige respecto de 1, 2 y 3 art. 17 CP (4: exime expresamen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Crimen o simple delit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excluye fa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ctos ejecutados para llevarlo a cab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se refiere a tentativa y frust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Es partícipe el que interviene dolosamente en un hecho ajeno sin concurrir a la ejecución de la conducta típica ni contar con el dominio de ella, realizando ciertos actos descritos en forma expresa por la ley y que de ordinario revisten un carácter preparatorio o de colaboración ulterior a la consumación” (Cu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debe abarcar crímenes o simples delitos </a:t>
            </a:r>
            <a:r>
              <a:rPr b="1" lang="es-CL" sz="2100" spc="-1" strike="noStrike">
                <a:solidFill>
                  <a:srgbClr val="000099"/>
                </a:solidFill>
                <a:latin typeface="Arial"/>
              </a:rPr>
              <a:t>determinados 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(exigencia a contrario sensu N° 4): basta dolo eventua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99"/>
                </a:solidFill>
                <a:latin typeface="Arial"/>
              </a:rPr>
              <a:t>Quien compra objetos procedentes –en su representación- de un hurto, no es encubridor de robo con homicidio (origen real), salvo representación como posible (dolo eventual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se refiere a ejecución conducta típica, no es menester que abarque producción de resulta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Formas de encubrimi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provecha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1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Real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2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Favorec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Ocasion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3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Habitu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4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3203640" y="3357720"/>
            <a:ext cx="57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276720" y="414972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364000" y="450828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36400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mient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quien se aprovecha por sí mismo o facilita a los delincuentes medios para que se aprovechen de los efectos del crimen o simple delito (17 N° 1 CP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r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obtención de una ganancia económ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¿De qué?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efectos del ilícito: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objeto mate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Facilitación de medi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ebe ser directa y de importancia (sesión 127 comisión redactora CP): se excluyen consejos vag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re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ocultar o inutilizar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l cuerpo, los efectos o instrumentos del crimen o simple delito para impedir su descubri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al”: hecho delictivo y no persona del hech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Cuerpo del deli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alude a objeto material: persona o cosa sobre la que recae la conducta típ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Ide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strumen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medios para la ejecución del ilíci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ocasion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lica albergar, ocultar o proporcionar la fuga al culpable (17 N° 3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Alberg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hospedar (no sólo en morada propia, sino también ajena                   alquil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Ocult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esconder en sentido amplio (todo tipo de conductas destinadas a impedir la identificación del hecho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S, 13/9/2001: “ocultaron” quienes, luego del homicidio, arrastraron el cadáver hasta un camino público para generar impresión de atropello y desviar la atención hacia otras perso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Proporcionar la fuga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ar auxilio o facilitar el alejamiento del lugar del delito a fin de eludir la acción de la justici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0592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habitu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acoger, receptar o proteger habitualmente a malhechores, sabiendo que lo son, aun sin conocimiento de ilícitos determinados cometidos, o facilitarles los medios para reunirse u ocultar sus armas o efectos, o suministrar auxilios o noticias para que se guarden, precavan o salven (17 N° 4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: !!punibilidad a título de partícipes sin siquiera conocimiento del ilícito determinado cometido¡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inherente: habitualidad: más de dos v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Encubrimiento de parie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rt. 17 inciso final: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stán exentos de las penas impuestas a los encubridores los que lo sean de su cónyuge o de sus parientes legítimos por consanguinidad o afinidad en toda la línea recta y en la colateral hasta el segundo grado inclusive, de sus padres o hijos naturales o ilegítimos reconocidos, con sólo la excepción de los que se hallaren comprendidos en el número 1° de este artícul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Problemas de jurisprudencia de Garantía: interpretación analógica vs leg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xcepción: 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provechándose por sí mismos o facilitando a los delincuentes medios para que se aprovechen de los efectos del crimen o simple delit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985680"/>
            <a:ext cx="7205760" cy="33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rincipios regulatorios entre autoría y participación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La participación criminal es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subsidiari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a la autoría (sólo es partícipe quien no es autor del ilícit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6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cómplices los que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no hallándose comprendidos en el artículo anterior,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cooperan a la ejecución del hecho por actos anteriores o simultáneo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7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sin haber tenido participación en él como autores ni como cómplices,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participación criminal importa la intervención en un hecho ajeno, que se encuentra bajo el dominio de otro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el partícipe no cuenta con el dominio del hech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Sólo existe participació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Basta el dolo eventual (tesis mayoritari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Quien interviene imprudentemente en el hecho ilícito de otro: autor del ilícito imprud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s de participación crimin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Instigación (ojo: art. 15 N° 2 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mplic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ncubrimient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Instigació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43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Inducción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es la causación objetiva y subjetivamente imputable, mediante un influjo síquico en otro, de la resolución y realización por parte de éste de un tipo de autoría doloso” (Mir Pui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Fundamento norma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Artículo 15 N° 2 CP: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e consideran auto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2° Los que fuerzan o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inducen directamente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a otro a ejecutarlo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</a:rPr>
              <a:t>debe formar en el inducido la voluntad de cometer un delito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: de actuar en el sentido del tipo leg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l inducido mantiene la decisión delictiva, mantiene el dominio de la acc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debe obrar de una </a:t>
            </a:r>
            <a:r>
              <a:rPr b="1" lang="es-CL" sz="2300" spc="-1" strike="noStrike" u="sng">
                <a:solidFill>
                  <a:srgbClr val="ff0000"/>
                </a:solidFill>
                <a:uFillTx/>
                <a:latin typeface="Arial"/>
              </a:rPr>
              <a:t>manera directa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en la formación de la voluntad delictiva del inducido (exigencia art. 15 N° 2 CP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Directa: mediante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ctos positiv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or ello: no hay posibilidad normativa de instigación por omis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stigación debe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dolosa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(se excluye la inducción imprude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ducción directa puede ser expresa o tácita: lo importante es que sea mediante actos positiv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inducción se verifica mediante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influjo síqu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 posible (15 N° 2 CP) que se verifique mediante coacción siempre que ésta no anule la voluntad del autor: autoría mediata (Cur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s indispensable que la voluntad de delinquir del inducido se exteriorice, al menos, en u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 de ejecución (tentativ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no aceptad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l dolo del inductor debe ser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 de consum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a la tentativ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cia práctica en investigación policial: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agentes provocad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ción de voluntad delictiva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Reafirmar voluntad existente: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ormación de voluntad abandonada: in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99"/>
                </a:solidFill>
                <a:uFillTx/>
                <a:latin typeface="Arial"/>
              </a:rPr>
              <a:t>Marco punitivo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Instigadores son asimilados a los autores para los efectos de la penalidad                  Art. 15 N°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 (dominio del hech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on todo: son partícipes              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s de participación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21164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700360" y="40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29:19Z</dcterms:created>
  <dc:creator>Martín</dc:creator>
  <dc:description/>
  <dc:language>en-US</dc:language>
  <cp:lastModifiedBy>Rodrigo Zegers</cp:lastModifiedBy>
  <dcterms:modified xsi:type="dcterms:W3CDTF">2008-11-06T23:56:24Z</dcterms:modified>
  <cp:revision>28</cp:revision>
  <dc:subject/>
  <dc:title>Participación criminal</dc:title>
</cp:coreProperties>
</file>