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A35-B17F-48FD-BC1B-1D8088E6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CA2-A4EC-4CBA-8640-3A52C0B9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455-B351-44C5-9955-2DB08852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769-960D-4F80-A7B2-D4E5C752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A2DE-A9B0-45A0-8434-8615CDD2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1F2A-26C1-42E2-AB16-0B0BE707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229B-01BB-4018-96C3-42AAB429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B5F8-AE2F-4697-8950-9E6A3D97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C032-711C-4D6D-BA77-940069C0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8C0C-C0F0-4F93-B904-67314433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765B-EA08-4F8C-ADFA-CFED0257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5E1-11B2-4D88-902F-59D43DF6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3517-192A-444D-9672-FB0B3FAC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192E-1F35-400F-858F-9722370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7BC9-56A7-4F00-9838-C76FBA36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2873-DE3A-497E-AA91-1606B3CA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CFB3-7D9C-4E8E-9751-3D931FA5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9FF-59F0-44F6-9A74-64DE13E1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512-47B4-4958-A80E-A21BA5FE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05F-77B3-4905-9BEA-9F8D6AEF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959-C2DB-44F5-BBD7-1210CAC3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29E-343F-48E3-9D02-0A95048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33C-8E60-4853-AD7E-04B824B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DA7-6F82-4A72-BB4E-33D6FF3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CBC-98A5-4C33-9A0B-12D84263674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5407-8060-4244-948C-A6D9A3014EE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La Democracia Industri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. Cristóbal Gutiérrez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c) Derecho de propiedad vs/ derecho al proceso democrá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nderación de derechos: ¿cuál tiene mayor peso? (en el caso del proceso democrático dentro de la empr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al: para garantizar otros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recho moral, connatural al homb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poca de discusión constitucional: Convenciones constitucionales de 1820 (en nuestro país 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bas facciones coinciden en una amplia distribución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justificación rápidamente pasa a explicar el derecho de propiedad de las sociedades de capitales, pero es radicalmente distinto, debido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ol de la igualdad en el sistema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inguna justificación del derecho de propiedad justifica la marginalización total del derecho al proceso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) Un nuevo sistema democrático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garantizarse el derecho al proceso democr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ser justo en el sentido de justicia distributiva de tanto recursos económicos como polí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mover la respons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bertad de adquisición d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UDADANOS DEMOCRÁTICOS A TRAVÉS DE UNA DEMOCRACIA PARTICIP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5013360"/>
            <a:ext cx="1440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3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557000"/>
            <a:ext cx="7772400" cy="453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2637000"/>
            <a:ext cx="1827360" cy="99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diciones técnicas y económ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645000"/>
            <a:ext cx="1827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valores culturales y predisposiciones ideológ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941720"/>
            <a:ext cx="17560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o político y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97120" y="2492280"/>
            <a:ext cx="18748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es estratégicas en los pactos institucionales para la  consolidación de la democrac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2997360"/>
            <a:ext cx="122400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er de los actore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2744640"/>
            <a:ext cx="16560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s y procesos organizacionales a nivel de l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0" y="3206880"/>
            <a:ext cx="12240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844640"/>
            <a:ext cx="18986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ciones grav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derecho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fundamento leg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siones especia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tés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nsejos de vigilanc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ommon law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E.U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contractual, por minimalismo legal, estudio sociológic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articipación directa en el establecimiento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estructuración de empl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de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n Scal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de participación en países de derecho consuetudi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ámbito de establecimiento de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ticipación directa a través de represen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Inform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Garantías de invers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ités conjunt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presentación en la Junta directiv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pra de acc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4. Críticas al concepto de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uraleza de la representación de los trabajadores y representantes polí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mocracia política más “permeable a los ciudadanos” que la democracia indust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realidad como dijimos la democracia industrial (que es una plasmación de la política) tiene una dinamicidad propia y distinta  a la democracia polít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 la igual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a democracia industrial no existe igualdad jurídica entre las partes (empleador- trabajador), ni con los trabajadores en s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iudadanía laboral es permanente por que deriva de la ciudadanía política y entienden en la persona del trabajador como un sujeto de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la significación social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os teóricos de la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íticas al concepto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ituciones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1. El Concepto de participación de los trabajadores en las decisiones de la empresa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erecho del Trabajo como fenómen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odo es una decisión filosófica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erecho es una manifestación en sí de la polít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Una técnica instrumental de organización social establecida para la integración, institucionalización o juridificación de los conflictos social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alomeque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canismo de solución de conflictos, de una sociedad más bien compleja que busca soluciones distintas a la autotut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El Derecho del Trabajo como fenómeno polí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 Derecho del Trabajo, como toda rama del Derecho, tiene un contenido normativo propio: Artículo 7º del Códig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rgimiento histórico del Derecho del trabajo: Revolución Industrial, la economía requería de grandes masas de trabajadores. Se establece el conflicto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structural laboral o socio- labo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. Do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brero asalari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rio o emplea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el Derecho del Trabajo representa el “equilibrio estructural”: de una parte un estatuto tutelar, pero de otra una legitimación del “sistema capitalista de produc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¿Cómo se explica hoy en día la participación de los trabajadores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odelar 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lfare stat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la medida de las exigencias de la flexibilidad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Tres razones fundamental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rmida, Durá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uevas condiciones económ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interés por el mercado intern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imitación del poder estatal para gobernar las variantes económ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ejuicio ideológico contra el factor trabaj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blemas de emple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mbios en las organizaciones sindic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Estado en las relaciones 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ción: No convivir con las desigualdades sino buscar proteger a la persona como ciudadano, es decir como sujeto de derech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cepto de particip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ribución efectiva de las relaciones de poder dentro de la empresa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ayl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entalización democrática de las relaciones de p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democraci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ui generi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der y contrapoder permanecen fijos. El contrapoder no puede sustituirl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mbitos que no se abarcan dentro del concepto de particip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 donde el dominio es de los trabaj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cipación en los benefic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ción sindical ord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205000"/>
            <a:ext cx="8632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2. 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mocracia industri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smación política d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emocracia industrial presupone 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iudadano. Raz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orizontalidad de los derechos fundamentale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tivización de los derechos fundamentales por el poder de mando del empleado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IUDADANÍA LABO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5229360"/>
            <a:ext cx="1368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El rol de la Igualdad en la tesis contractual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ocqueville: Libertad se opone a la igualdad. Debe preferirse a la prim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wls- Dworkin: No existe derecho a la libertad, principio princip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hl: Debe existir un mínimo de igualdad para que la democracia sea viable (recursos económicos implican recursos polític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El derecho al proceso democr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undamento: “Velo de ignoranci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derecho de propiedad en el principio de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rean desigualdades de facto entre ciudadan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arginan del derecho al proceso democrático dentro de la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l derecho al proceso democrático.</a:t>
            </a:r>
            <a:r>
              <a:rPr b="0" lang="es-ES_tradnl" sz="2000" spc="-1" strike="noStrike">
                <a:solidFill>
                  <a:srgbClr val="330033"/>
                </a:solidFill>
                <a:latin typeface="Times New Roman"/>
              </a:rPr>
              <a:t> (Dahl)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upo de personas necesita tomar decisiones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etapas: se establece agenda, se toma decisiones sobre é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ben ser tomadas por quienes están sujetos a e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merece igual consid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es libre de establecer sus propios inter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grupo debe decidir qué decisiones requieren ser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dad en la repartición de los recurs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to igual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pación efe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ón ilust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 de la agenda por 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sividad: Todos los miembros adultos, salvo los en tránsito o perturbados pueden ejercer el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ser necesario para la democracia concebida en términos modern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BE ENTENDER COMO UN NO SÓLO UN DERECHO FUNDAMENTAL, SINO UNO DE LOS MÁ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1:22:11Z</dcterms:created>
  <dc:creator>Ricardo Gutierrez</dc:creator>
  <dc:description/>
  <dc:language>en-US</dc:language>
  <cp:lastModifiedBy>María Cristina Gajardo</cp:lastModifiedBy>
  <dcterms:modified xsi:type="dcterms:W3CDTF">2008-10-23T13:08:55Z</dcterms:modified>
  <cp:revision>10</cp:revision>
  <dc:subject/>
  <dc:title>La Democracia Industrial</dc:title>
</cp:coreProperties>
</file>