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DFD-5EA8-4AA5-87B5-39B2B353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D93-FF5F-4243-908E-6750A93E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8A8-23C1-44E2-A7B4-E74A5D31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DBB-B876-4EC8-AAF4-FAEFAD07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AD2B-BB86-49C8-B274-072E53A4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9823-67EE-40BC-A1C6-E26BC457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9F1E-B509-4C88-9F6E-677B5346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0EF8-64C3-42A1-A428-99548D4E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40E0-A2AB-4394-A4ED-9759821E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6D3F-699B-4083-810B-1A79202B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3790-9FDD-40A7-B886-19F045CC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F1C-9253-4C34-B39D-5BC4B53B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7361-CC13-400C-958F-4C862FBB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D609-6E88-4EE6-9356-C9BA4721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5665-DDC4-4EF6-AE92-B1BBBD68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4DC7-B36D-4CB0-A9E0-618CC617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AB05-4ED0-4D4B-BCB9-2E7E32B1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8AA-B33E-4187-8DEA-A45E3B03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021-573C-4317-91F6-6AA021FB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D3D-26ED-4035-A4E3-0A424118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653-0972-4D16-B6F9-2ED999EF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652-CC95-41CF-9C86-F8B8C542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6A1-4A3A-444A-A47E-AF4CEACA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AA6-3420-4E88-9B67-886A3925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EA01-F78A-4C1E-AA18-20373D320CE5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15D1-1893-47D8-B298-C012B642095B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276640"/>
            <a:ext cx="6697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ahoma"/>
              </a:rPr>
              <a:t>Antecedent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cecff"/>
                </a:solidFill>
                <a:uFillTx/>
                <a:latin typeface="Tahoma"/>
              </a:rPr>
              <a:t>Leyes que la contienen</a:t>
            </a:r>
            <a:r>
              <a:rPr b="1" lang="es-ES_tradnl" sz="2800" spc="-1" strike="noStrike">
                <a:solidFill>
                  <a:srgbClr val="ccec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022 (D. Oficial 30.05.200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023 (D. Oficial 31.05.200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087 (D. Oficial 3.01.2006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5640" y="105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981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781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646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4510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5373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28544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78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4726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99ff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54468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1173240"/>
            <a:ext cx="1067040" cy="6094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Plaz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1096920"/>
            <a:ext cx="3429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60 días desde vulner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o separ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2011320"/>
            <a:ext cx="3352680" cy="28954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Normas especiales par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a acción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e suspende por reclam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ante la I.T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i no prospera acción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tutela, puede intentar la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acción de despi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Injustificado, en subsidio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4983120"/>
            <a:ext cx="2448000" cy="8668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Tiene prefer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respecto de la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demás causa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4983120"/>
            <a:ext cx="2448000" cy="106668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a I.T. puede emiti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un informe sobre lo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hechos, si el tribun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lo requie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83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765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2565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3430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429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5229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6384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573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4510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302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957240"/>
            <a:ext cx="464832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Se rige de acuerdo al proced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Ordinario, salvo que exista una norm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procesal especial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1917720"/>
            <a:ext cx="4967280" cy="208764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Juez tiene mayores facultade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cautelares, puede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suspender el ac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impugnado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O bien, si se trata de lesiones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de especial gravedad o si con posterioridad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no pueda dejarse sin efectos pue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condenarse al pago de multa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Es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resolución no se puede recurrir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forma algun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081320"/>
            <a:ext cx="4800600" cy="137160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Una vez que existen “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indicio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”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vulneración de DDFF, empleador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debe probar que actuó correctament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5640" y="909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836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6370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3502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436572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229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270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57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465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5302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952560"/>
            <a:ext cx="5105520" cy="25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Contenido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claración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Existencia o no de lesiones 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rechos fundamental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Cese de conducta, bajo pena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Aplicación de medidas concretas d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reparación, bajo apercibimient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de 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695760"/>
            <a:ext cx="5105520" cy="228600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ones si hubo despido: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ón por años de servici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más sustitutiva.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dicional entre 6 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11 meses de remuneracion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626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Si éste es discriminatorio y “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grave</a:t>
            </a: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”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reincorporación</a:t>
            </a: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 o pago 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indemnizaciones de, a elección de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a6262"/>
                </a:solidFill>
                <a:latin typeface="Verdana"/>
              </a:rPr>
              <a:t>trabajador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766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693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2494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33591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4222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50864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5671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71640" y="35020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438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1595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885960"/>
            <a:ext cx="4572000" cy="60948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umenta </a:t>
            </a: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multas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 por reincid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1571760"/>
            <a:ext cx="4647960" cy="205740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Práctica antisindical que involuc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despido de un trabajador con fuero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la primera resolución prevé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Reincorporación, bajo pena de mul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Debe acreditarse reincorporación y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pago de multa. Si no se puede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umentar la multa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705120"/>
            <a:ext cx="4724280" cy="205740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Práctica antisindical que involucr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despido de un trabajador sin fuero,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ffff00"/>
                </a:solidFill>
                <a:uFillTx/>
                <a:latin typeface="Verdana"/>
              </a:rPr>
              <a:t>la primera resolución prevé</a:t>
            </a: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Nulidad del despido, trabajador opt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entre reincorporación e indemnización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Además de indemnización especi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6600"/>
                </a:solidFill>
                <a:latin typeface="Verdana"/>
              </a:rPr>
              <a:t>entre 6 y 11 meses de remuneraciones</a:t>
            </a:r>
            <a:r>
              <a:rPr b="0" lang="es-CL" sz="1800" spc="-1" strike="noStrike">
                <a:solidFill>
                  <a:srgbClr val="99cc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276640"/>
            <a:ext cx="6697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164 (D. Oficial 14.02.2007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252 (D. Oficial 15.02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ahoma"/>
              </a:rPr>
              <a:t>Ley N°20.260 (D. Oficial 29.03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Ley N°20.287 (D. Oficial 17.09.2008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1844640"/>
            <a:ext cx="6697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438480" indent="-438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ncipios formativos del procedimiento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ral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oncentra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elerida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mpulso procesal de ofici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Inmediació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uena f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Gratuidad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38480" indent="-4384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Bilateralidad de la audiencia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060640"/>
            <a:ext cx="7705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Tahoma"/>
              </a:rPr>
              <a:t>Vigencia progresiva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1 de marzo 2008: Regiones III y XI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31 de octubre 2008: Regiones I, IV, V, XI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0 de abril 2009: Regiones II, VI, VII, VI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31 de agosto 2009: RM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2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ecff"/>
                </a:solidFill>
                <a:latin typeface="Tahoma"/>
              </a:rPr>
              <a:t>30 de octubre 2009: IX, X, XI, X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eforma a la Justicia Labora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1628640"/>
            <a:ext cx="7705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450720" indent="-450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ccecff"/>
                </a:solidFill>
                <a:uFillTx/>
                <a:latin typeface="Tahoma"/>
              </a:rPr>
              <a:t>Procedimiento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De aplicación gener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ecff"/>
                </a:solidFill>
                <a:latin typeface="Tahoma"/>
              </a:rPr>
              <a:t>De cumplimiento de sentencia y ejecución de títulos ejecutivo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De tutela labora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ecff"/>
                </a:solidFill>
                <a:latin typeface="Tahoma"/>
              </a:rPr>
              <a:t>Monitorio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</a:rPr>
              <a:t>Reclamación de multas y demás resoluciones administrativa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</a:rPr>
              <a:t>Procedimiento de tutela labor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2808000" cy="934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341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26352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5733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508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44356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635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4724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516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Verdana"/>
              </a:rPr>
              <a:t>Prácticas 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5640" y="981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9079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637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357336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437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5300640"/>
            <a:ext cx="2232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8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7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65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537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1339920"/>
            <a:ext cx="12240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98100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90792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Verdana"/>
              </a:rPr>
              <a:t>Derecho a la vida y la integridad psíquica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638440"/>
            <a:ext cx="2232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Respeto a la vid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privada, la honra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y la de su famili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133992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306864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76640"/>
            <a:ext cx="2232000" cy="100800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Inviolabilidad de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toda forma de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comunicación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privad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4653000"/>
            <a:ext cx="730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1125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052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852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71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581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4450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2925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5518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1125360"/>
            <a:ext cx="2521080" cy="86364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concienci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y religiosa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7080" y="2133720"/>
            <a:ext cx="2519280" cy="93492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opinión,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de información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y de expresió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213000"/>
            <a:ext cx="2521080" cy="86364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Libertad de trabajo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No discriminación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</a:rPr>
              <a:t>Libertad Sindical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292640"/>
            <a:ext cx="48006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Incompatible con: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Recurso de protección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Acciones que NO tengan el mismo procedimiento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5640" y="83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76500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Garantías constitucionales involucradas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78280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3718080"/>
            <a:ext cx="2448000" cy="790560"/>
          </a:xfrm>
          <a:prstGeom prst="flowChartAlternateProcess">
            <a:avLst/>
          </a:prstGeom>
          <a:noFill/>
          <a:ln w="1908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581360"/>
            <a:ext cx="2448000" cy="790920"/>
          </a:xfrm>
          <a:prstGeom prst="flowChartAlternateProcess">
            <a:avLst/>
          </a:prstGeom>
          <a:noFill/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5516640"/>
            <a:ext cx="2448000" cy="790560"/>
          </a:xfrm>
          <a:prstGeom prst="flowChartAlternateProcess">
            <a:avLst/>
          </a:prstGeom>
          <a:noFill/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2781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29414"/>
                </a:solidFill>
                <a:latin typeface="Verdana"/>
              </a:rPr>
              <a:t>Legitimación para actua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86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Tramit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479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6262"/>
                </a:solidFill>
                <a:latin typeface="Verdana"/>
              </a:rPr>
              <a:t>Sentenc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5589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Prácticas</a:t>
            </a:r>
            <a:r>
              <a:rPr b="0" lang="es-ES" sz="18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ff6600"/>
                </a:solidFill>
                <a:latin typeface="Verdana"/>
              </a:rPr>
              <a:t>antisindica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608200"/>
            <a:ext cx="1905120" cy="60984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cción gener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1413000"/>
            <a:ext cx="2667240" cy="152388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Cualquier trabajado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o dirigente sindica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con derecho o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interés legítim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4589640"/>
            <a:ext cx="1905120" cy="60948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Acción por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Verdana"/>
              </a:rPr>
              <a:t>despi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3141720"/>
            <a:ext cx="259092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La Inspección del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Trabajo, previ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mediación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21804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29414"/>
                </a:solidFill>
                <a:latin typeface="Verdana"/>
              </a:rPr>
              <a:t>Aplicable estando vigente la relación laboral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122800"/>
            <a:ext cx="213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29414"/>
                </a:solidFill>
                <a:latin typeface="Verdana"/>
              </a:rPr>
              <a:t>Aplicable una vez terminada la relación laboral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4513320"/>
            <a:ext cx="2590920" cy="790560"/>
          </a:xfrm>
          <a:prstGeom prst="flowChartAlternateProcess">
            <a:avLst/>
          </a:prstGeom>
          <a:noFill/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29414"/>
                </a:solidFill>
                <a:latin typeface="Verdana"/>
              </a:rPr>
              <a:t>Trabajador afectado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5T17:10:17Z</dcterms:created>
  <dc:creator>M. Cristina Gajardo</dc:creator>
  <dc:description/>
  <dc:language>en-US</dc:language>
  <cp:lastModifiedBy>María Cristina Gajardo</cp:lastModifiedBy>
  <cp:lastPrinted>1999-08-04T15:31:28Z</cp:lastPrinted>
  <dcterms:modified xsi:type="dcterms:W3CDTF">2008-10-27T13:54:56Z</dcterms:modified>
  <cp:revision>223</cp:revision>
  <dc:subject/>
  <dc:title>Reforma a la Justicia Laboral</dc:title>
</cp:coreProperties>
</file>