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B2CD-6F96-49CF-9D48-71D2F635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E5A7-D0F4-4397-BC31-5B2ECA93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D4D0-BF1A-4568-A42A-13F1207B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66F4-2B6E-458F-A802-6993FE61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B766-8F7B-4874-BAED-D7FE9734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B118-334F-4AD5-B647-6595005A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E60F-57B5-42EB-ABAD-55291FBE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1C05-B753-44A3-B5E4-12E6F6E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E92B-5822-432C-B81F-D36070B0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2648-D0E5-440A-ACE4-549C495C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4BA5-E433-4A8F-A6D9-CC594FF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EDFA-A111-432A-A923-E321687C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E361-506C-44BB-8E80-4C61CF32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EA5D-1E2B-4984-B9E1-26B87062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A23-6286-4F54-A03D-21A69E11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AE37-F3A1-47EF-A64F-F74FAE99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C27B-6DA5-4829-AE65-B17B022F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B5C8-8771-4548-875A-3B0FB9F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085F-8A1B-4092-962B-73060217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C055-1B9C-4EDE-8EF4-CD289F3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5EE7-6A24-468F-86B5-BDF19B65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3828-D4B0-4329-85E2-B716235D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FA2F-C92C-41D1-97AD-5C0775E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444E-3D3E-4C9D-9D5E-260C750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39A5-4C17-40C2-AAE3-5117ACD037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84F-B98E-4956-8735-D54899A342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ff00"/>
                </a:solidFill>
                <a:uFillTx/>
                <a:latin typeface="Times New Roman"/>
              </a:rPr>
              <a:t>Ley N°19.886. Compras Públicas en Chil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JULIO PALLAVICINI 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ivisión Juríd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loría General de la Repúbl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viembre 5, 20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irección de Compras y Contratación Públ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88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 del Proyec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formalism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publicidad y transpare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gual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doneidad del contrata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preeminencia de la Administ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cont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Ámbito de aplicación de la le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os a título oneroso para el suministro de bienes muebles y de servicios que se requieran para el desarrollo de sus fun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ministración del Estado. Excluye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empresas públicas creadas por le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os demás casos que señale la ley (pero están obligados a suministrar la “información básica”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cepto de “contratos de suministro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tratos excluidos de la l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 inscr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Ofer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i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B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administrativ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técnic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previstos en la 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venios marc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úblic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riva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to o contratación direc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Mecanismos previstos en la l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Convenios mar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No hay una “adjudicación” propiamente 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on obligatori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alvo “condiciones más ventajosas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bje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emostr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ustanciales para la entid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ben informarse a la Direc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“individual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50920" y="1484280"/>
            <a:ext cx="208908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941720"/>
            <a:ext cx="5616720" cy="1368720"/>
          </a:xfrm>
          <a:prstGeom prst="wedgeRoundRectCallout">
            <a:avLst>
              <a:gd name="adj1" fmla="val -55680"/>
              <a:gd name="adj2" fmla="val -174939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rocedimiento administrativo de carácter concu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659640" y="170028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306864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1628640"/>
            <a:ext cx="5616720" cy="4824720"/>
          </a:xfrm>
          <a:prstGeom prst="wedgeRoundRectCallout">
            <a:avLst>
              <a:gd name="adj1" fmla="val -61759"/>
              <a:gd name="adj2" fmla="val -11106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g) Naturaleza de la negociación + “criterios y casos” d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jetivos de un sistema d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volución de la normativa sobr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incipales aspectos de la Ley N° 19.886 y de su reglamento (decreto N° 250/04, Min. Hacienda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Se cumplen los objetivos de un sistema de adquisicion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areas pendi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659640" y="2781360"/>
            <a:ext cx="223200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340000" y="436572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341360"/>
            <a:ext cx="5616360" cy="2664000"/>
          </a:xfrm>
          <a:prstGeom prst="wedgeRoundRectCallout">
            <a:avLst>
              <a:gd name="adj1" fmla="val -33805"/>
              <a:gd name="adj2" fmla="val 6555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340000" y="522936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1844640"/>
            <a:ext cx="5148360" cy="2016000"/>
          </a:xfrm>
          <a:prstGeom prst="wedgeRoundRectCallout">
            <a:avLst>
              <a:gd name="adj1" fmla="val -40782"/>
              <a:gd name="adj2" fmla="val 127717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g) Naturaleza de la negociación + criterios y casos” del regl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ligación 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tiz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ici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sarrollar todos los procesos de adquisición y contratación de bi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Utilizando solamente los sistemas electrónicos o digitales” que establezca la Direc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24 horas después de publicad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¿Compatibilidad con la ley N°19.880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Garantías: “deben ser fijadas en un monto tal que sin desmedrar su finalidad, no desincentiven la participación de los oferent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seriedad de la ofer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fiel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or el antici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Situación de normativas especi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Prestación de servicios personales por personas juríd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Acciones de apoy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bases no pueden establecer diferencias arbitrarias entre los proponentes (art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las licitaciones públicas “cualquier persona podrá presentar ofertas (art. 7 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cción ante el Tribunal por todo el que “tenga un interés actualmente comprometido” (art. 2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ibre acceso al registro de contratistas (art. 1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hibición de fragmentar las contrataciones (art. 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Obligación de utilizar los sistemas: bases, consultas, aclaraciones, modificaciones, adjudicaciones, etc. (art. 18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ublicidad del Sistema (art. 19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gistro público de contratistas (art. 1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sibilidad de recurrir al Tribunal por la inscripción (art. 16, inc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deben propender a alcanzar “la combinación más ventajosa”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seleccionará la oferta “más conveniente” (art. 7 a) y 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no pueden atender sólo al preci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propender a la eficacia, eficiencia y ahorr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desierta cuando las ofertas “no resulten convenientes a sus intereses” (art. 9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l adjudicatario es el que haga “la propuesta más ventajosa” (art. 10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garantías no deben desincentivar la participación (art. 11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Reglamento para las Fuerzas Armadas (ley N°18.928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onstitución del Tribunal de Contratación Públ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rata a todos los proveedores de la misma manera” (equ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cuerdo con el mérito de la propuesta” (integr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 la oferta más conveniente” (economía y eficiencia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El propósito de las leyes que disponen la adjudicación de los contratos a la oferta más baja es asegurar a todas las personas la igualdad de derechos para competir por los contratos gubernamentales, prevenir los favoritismos injustos, la colusión y el fraude en la adjudicación de los contratos y garantizar a la Administración los beneficios de una competencia libre y no restringida” (US Supreme Court, 1940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Las compras públicas “constituyen …un auténtico tema de política de Estado, en que se juegan valores tan importantes como la transparencia, la eficiencia y la probidad” (Mensaje Presidencial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asta fines de 199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: Obligatoriedad de la propuesta públ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I: Obligatoriedad de adjudicar al más bara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: estricta sujeción a las bases, igualdad de los oferentes y cautela del patrimonio públ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Contraloría como solucionador de conflic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65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stablece la propuesta pública como regla general para celebrar contratos administra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licitación privada procede previa resolución fund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l trato directo procede sólo por la naturaleza de la negoci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3:28:02Z</dcterms:created>
  <dc:creator>jpallavi</dc:creator>
  <dc:description/>
  <dc:language>en-US</dc:language>
  <cp:lastModifiedBy>jsjara</cp:lastModifiedBy>
  <dcterms:modified xsi:type="dcterms:W3CDTF">2005-01-20T19:10:38Z</dcterms:modified>
  <cp:revision>47</cp:revision>
  <dc:subject/>
  <dc:title>Ley N°19.886. Compras Públicas en Chile:</dc:title>
</cp:coreProperties>
</file>