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2160" rIns="9216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6911378-3274-4014-B774-116D5D8FD94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39D11B5-DDA4-481E-8AD2-74EAC63D7DF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87" name="PlaceHolder 1"/>
          <p:cNvSpPr>
            <a:spLocks noGrp="1"/>
          </p:cNvSpPr>
          <p:nvPr>
            <p:ph type="sldImg"/>
          </p:nvPr>
        </p:nvSpPr>
        <p:spPr>
          <a:xfrm>
            <a:off x="1104840" y="696960"/>
            <a:ext cx="4648320" cy="3486240"/>
          </a:xfrm>
          <a:prstGeom prst="rect">
            <a:avLst/>
          </a:prstGeom>
          <a:ln w="0">
            <a:noFill/>
          </a:ln>
        </p:spPr>
      </p:sp>
      <p:sp>
        <p:nvSpPr>
          <p:cNvPr id="88" name="PlaceHolder 2"/>
          <p:cNvSpPr>
            <a:spLocks noGrp="1"/>
          </p:cNvSpPr>
          <p:nvPr>
            <p:ph type="body"/>
          </p:nvPr>
        </p:nvSpPr>
        <p:spPr>
          <a:xfrm>
            <a:off x="685800" y="4416480"/>
            <a:ext cx="5486400" cy="4697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DF534A1-751A-4850-A176-D77B949513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04840" y="696960"/>
            <a:ext cx="4648320" cy="3486240"/>
          </a:xfrm>
          <a:prstGeom prst="rect">
            <a:avLst/>
          </a:prstGeom>
          <a:ln w="0">
            <a:noFill/>
          </a:ln>
        </p:spPr>
      </p:sp>
      <p:sp>
        <p:nvSpPr>
          <p:cNvPr id="115" name="PlaceHolder 2"/>
          <p:cNvSpPr>
            <a:spLocks noGrp="1"/>
          </p:cNvSpPr>
          <p:nvPr>
            <p:ph type="body"/>
          </p:nvPr>
        </p:nvSpPr>
        <p:spPr>
          <a:xfrm>
            <a:off x="685800" y="4416120"/>
            <a:ext cx="5486400" cy="4182840"/>
          </a:xfrm>
          <a:prstGeom prst="rect">
            <a:avLst/>
          </a:prstGeom>
          <a:noFill/>
          <a:ln w="0">
            <a:noFill/>
          </a:ln>
        </p:spPr>
        <p:txBody>
          <a:bodyPr lIns="92160" rIns="92160" tIns="46080" bIns="46080" anchor="t">
            <a:noAutofit/>
          </a:bodyPr>
          <a:p>
            <a:pPr marL="3049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AC5A79-1188-45E5-ADFA-64679B4945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9F24757-19BC-49FE-B26C-23B53068789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04840" y="696960"/>
            <a:ext cx="4648320" cy="3486240"/>
          </a:xfrm>
          <a:prstGeom prst="rect">
            <a:avLst/>
          </a:prstGeom>
          <a:ln w="0">
            <a:noFill/>
          </a:ln>
        </p:spPr>
      </p:sp>
      <p:sp>
        <p:nvSpPr>
          <p:cNvPr id="12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EF6D25E-6085-4F05-B4BA-77323D3ECDD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04840" y="696960"/>
            <a:ext cx="4648320" cy="3486240"/>
          </a:xfrm>
          <a:prstGeom prst="rect">
            <a:avLst/>
          </a:prstGeom>
          <a:ln w="0">
            <a:noFill/>
          </a:ln>
        </p:spPr>
      </p:sp>
      <p:sp>
        <p:nvSpPr>
          <p:cNvPr id="12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90E9A9-F0A8-492E-83EF-4C8CFAF9841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04840" y="696960"/>
            <a:ext cx="4648320" cy="3486240"/>
          </a:xfrm>
          <a:prstGeom prst="rect">
            <a:avLst/>
          </a:prstGeom>
          <a:ln w="0">
            <a:noFill/>
          </a:ln>
        </p:spPr>
      </p:sp>
      <p:sp>
        <p:nvSpPr>
          <p:cNvPr id="1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CD5C8FE-C499-4C59-A7B7-37117ED382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04840" y="696960"/>
            <a:ext cx="4648320" cy="3486240"/>
          </a:xfrm>
          <a:prstGeom prst="rect">
            <a:avLst/>
          </a:prstGeom>
          <a:ln w="0">
            <a:noFill/>
          </a:ln>
        </p:spPr>
      </p:sp>
      <p:sp>
        <p:nvSpPr>
          <p:cNvPr id="13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757904-C0C9-4589-9057-F89AA1C9FF1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04840" y="696960"/>
            <a:ext cx="4648320" cy="3486240"/>
          </a:xfrm>
          <a:prstGeom prst="rect">
            <a:avLst/>
          </a:prstGeom>
          <a:ln w="0">
            <a:noFill/>
          </a:ln>
        </p:spPr>
      </p:sp>
      <p:sp>
        <p:nvSpPr>
          <p:cNvPr id="13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A3684D-F647-490E-BF0C-A708846D0DB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04840" y="696960"/>
            <a:ext cx="4648320" cy="3486240"/>
          </a:xfrm>
          <a:prstGeom prst="rect">
            <a:avLst/>
          </a:prstGeom>
          <a:ln w="0">
            <a:noFill/>
          </a:ln>
        </p:spPr>
      </p:sp>
      <p:sp>
        <p:nvSpPr>
          <p:cNvPr id="13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01206FA-1316-4BDB-9511-D111195302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04840" y="696960"/>
            <a:ext cx="4648320" cy="3486240"/>
          </a:xfrm>
          <a:prstGeom prst="rect">
            <a:avLst/>
          </a:prstGeom>
          <a:ln w="0">
            <a:noFill/>
          </a:ln>
        </p:spPr>
      </p:sp>
      <p:sp>
        <p:nvSpPr>
          <p:cNvPr id="13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25C3A38-9E7C-4A41-9DFF-234F22A4353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04840" y="696960"/>
            <a:ext cx="4648320" cy="3486240"/>
          </a:xfrm>
          <a:prstGeom prst="rect">
            <a:avLst/>
          </a:prstGeom>
          <a:ln w="0">
            <a:noFill/>
          </a:ln>
        </p:spPr>
      </p:sp>
      <p:sp>
        <p:nvSpPr>
          <p:cNvPr id="1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6C7E136-3C3D-4708-8939-32315A6CAD5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04840" y="696960"/>
            <a:ext cx="4648320" cy="3486240"/>
          </a:xfrm>
          <a:prstGeom prst="rect">
            <a:avLst/>
          </a:prstGeom>
          <a:ln w="0">
            <a:noFill/>
          </a:ln>
        </p:spPr>
      </p:sp>
      <p:sp>
        <p:nvSpPr>
          <p:cNvPr id="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A4095C9-66BF-4D1D-B883-2297C46D45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04840" y="696960"/>
            <a:ext cx="4648320" cy="3486240"/>
          </a:xfrm>
          <a:prstGeom prst="rect">
            <a:avLst/>
          </a:prstGeom>
          <a:ln w="0">
            <a:noFill/>
          </a:ln>
        </p:spPr>
      </p:sp>
      <p:sp>
        <p:nvSpPr>
          <p:cNvPr id="94" name="PlaceHolder 2"/>
          <p:cNvSpPr>
            <a:spLocks noGrp="1"/>
          </p:cNvSpPr>
          <p:nvPr>
            <p:ph type="body"/>
          </p:nvPr>
        </p:nvSpPr>
        <p:spPr>
          <a:xfrm>
            <a:off x="685800" y="4416120"/>
            <a:ext cx="5486400" cy="4879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EF65016-D1DE-4499-9255-C02696BA41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04840" y="696960"/>
            <a:ext cx="4648320" cy="3486240"/>
          </a:xfrm>
          <a:prstGeom prst="rect">
            <a:avLst/>
          </a:prstGeom>
          <a:ln w="0">
            <a:noFill/>
          </a:ln>
        </p:spPr>
      </p:sp>
      <p:sp>
        <p:nvSpPr>
          <p:cNvPr id="97"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7673084-4FFF-4A5A-B38F-341A00A5140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1535AE6-ADF9-428A-AB2E-1537651D4DB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04840" y="696960"/>
            <a:ext cx="4648320" cy="3486240"/>
          </a:xfrm>
          <a:prstGeom prst="rect">
            <a:avLst/>
          </a:prstGeom>
          <a:ln w="0">
            <a:noFill/>
          </a:ln>
        </p:spPr>
      </p:sp>
      <p:sp>
        <p:nvSpPr>
          <p:cNvPr id="1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CCE78FB-361B-462E-9346-6AE2B8B0EAF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04840" y="696960"/>
            <a:ext cx="4648320" cy="3486240"/>
          </a:xfrm>
          <a:prstGeom prst="rect">
            <a:avLst/>
          </a:prstGeom>
          <a:ln w="0">
            <a:noFill/>
          </a:ln>
        </p:spPr>
      </p:sp>
      <p:sp>
        <p:nvSpPr>
          <p:cNvPr id="1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45E3B1-4263-4B4F-9878-92C9E7CB962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67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829720"/>
            <a:ext cx="2971800" cy="46512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B9B1D9-4A24-4B0E-BEDE-402D867BF47F}"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B6FAB-3E45-4B3F-AF59-FC59A6972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D8B8C-7E7E-46A2-A8EE-A2DD8BE2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E7C08C-7201-411F-BB57-853061E38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8FFD3-F4DE-48EC-B622-43DFF1E81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92808-B579-4714-92F6-56D6CED13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FA9CE-49BE-4170-8758-1569A3E18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AB1D-4498-4E6F-B6FC-08FA5B2DF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3B9F9-C26A-4BD2-BD12-A74B4DA3E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2F3C-3825-4141-A5FE-E8A95A46B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07EC6-257D-4FAE-84CB-C75E84DB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96224-458B-46CF-BFE9-1C4E6EF2D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44CB-B8DB-4510-9F5A-243E5050C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52FF5-5400-4BE1-9213-4F0CA7BC5F5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Giro Fraudulento de Chequ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entrega a efecto de caucionar el cumplimiento de una o más oblig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cheque es un instrumento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desnaturaliza: no tiene el carácter de che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xiste el disvalor de la ac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una clásusula de responsabilidad pe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Garantía</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sición contr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el artículo 13 DFL: </a:t>
            </a:r>
            <a:r>
              <a:rPr b="0" lang="es-ES" sz="2800" spc="-1" strike="noStrike">
                <a:solidFill>
                  <a:srgbClr val="000000"/>
                </a:solidFill>
                <a:latin typeface="Arial"/>
              </a:rPr>
              <a:t>cualesquiera otras circunstancias o cláusulas que se agregaren al cheque, se tendrán por no escrita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unción de Derecho la Responsabilidad Pe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ismo caso del anteri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y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a en crédito, no en pa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para un incumplimiento civil</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71">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71">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heque posdatado presentado antes de la fecha que señal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El artículo 10 inciso 2º DFL: </a:t>
            </a:r>
            <a:r>
              <a:rPr b="0" i="1" lang="es-ES" sz="2800" spc="-1" strike="noStrike">
                <a:solidFill>
                  <a:srgbClr val="000000"/>
                </a:solidFill>
                <a:latin typeface="Arial"/>
              </a:rPr>
              <a:t>El cheque es siempre pagadero a la vista. Cualquier mención contraria se tendrá por no escrita. </a:t>
            </a:r>
            <a:r>
              <a:rPr b="1" i="1" lang="es-ES" sz="2800" spc="-1" strike="noStrike">
                <a:solidFill>
                  <a:srgbClr val="000000"/>
                </a:solidFill>
                <a:latin typeface="Arial"/>
              </a:rPr>
              <a:t>El cheque presentado al cobro antes del día indicado como fecha de emisión, es pagadero al día de la presentación</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rtículo 22 DFL: . </a:t>
            </a:r>
            <a:r>
              <a:rPr b="0" i="1" lang="es-ES" sz="2800" spc="-1" strike="noStrike">
                <a:solidFill>
                  <a:srgbClr val="000000"/>
                </a:solidFill>
                <a:latin typeface="Arial"/>
              </a:rPr>
              <a:t>No servirá para eximirse de responsabilidad la circunstancia de haberse girado el cheque sin fecha o a una fecha posterior a la de su expedició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on ficciones civiles que no debieran tener relevancia pen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girador expresamente señala no tener fond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verdadero criminal es el beneficiari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o entenderlo: art. 22 busca evitar el fraude del girad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nte un acuerdo, sería instrumento de crédito y no che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Posdatado</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puede presentar al cobro sin importar la data, también empieza a correr el plazo de caducidad al gir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i se cobra atendiendo a la fecha de posdata, está caduca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cheque caduca en 60 o 90 días (art. 23 DF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a vez caducado, se puede entender desnaturalizado y convertido en un instrumento de créd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77">
                                            <p:txEl>
                                              <p:pRg st="1" end="1"/>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heque en Blanco</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o es cheq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13: debe contener la cantidad girada en letras y núm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ifícilmente habrá dol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habrá frau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una cláusula de responsabilidad penal a obligaciones indeterminad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en garantí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rmalmente será posdatad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9">
                                            <p:txEl>
                                              <p:pRg st="5" end="5"/>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xtinción de la Responsabilidad</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go dentro de tercero día luego de la notificación del pro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pago del cheque, los intereses corrientes y las costas judiciales: sobreseimiento defini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erdón del ofendido (casos de acción penal privad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cuerdo reparato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ena</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rtículo 467 C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aplica la del número tres aunque las cantidades sean menores a las ahí expresad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iso 9º art. 22: </a:t>
            </a:r>
            <a:r>
              <a:rPr b="0" i="1" lang="es-ES" sz="2400" spc="-1" strike="noStrike">
                <a:solidFill>
                  <a:srgbClr val="000000"/>
                </a:solidFill>
                <a:latin typeface="Arial"/>
              </a:rPr>
              <a:t>La Superintendencia de Bancos e Instituciones Financieras adoptará medidas de carácter general conducentes a impedir que quienes fueren sobreseídos en conformidad al inciso 8° o condenados por infracción a este artículo, </a:t>
            </a:r>
            <a:r>
              <a:rPr b="1" i="1" lang="es-ES" sz="2400" spc="-1" strike="noStrike">
                <a:solidFill>
                  <a:srgbClr val="000000"/>
                </a:solidFill>
                <a:latin typeface="Arial"/>
              </a:rPr>
              <a:t>puedan abrir cuenta corriente bancaria durante los plazos que, según los casos, determin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a excarcelació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rtículo 44 DFL: En los procesos criminales por los delitos contemplados en los artículos 22 y 43, procederá la excarcelación de acuerdo a las reglas generales. En todo caso se exigirá, además, caución y no se admitirá otra que no sea un depósito de dinero de un monto no inferior al importe del cheque, más los intereses y costas que fije prudencial y provisionalmente el Tribu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Nociones Generales</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22 del DFL 707:.- </a:t>
            </a:r>
            <a:r>
              <a:rPr b="0" i="1" lang="es-ES" sz="2400" spc="-1" strike="noStrike">
                <a:solidFill>
                  <a:srgbClr val="000000"/>
                </a:solidFill>
                <a:latin typeface="Arial"/>
              </a:rPr>
              <a:t>El librador deberá tener de antemano fondos o créditos disponibles suficientes en cuenta corriente en poder del Banco librado.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El librador que girare sin este requisito o retirare los fondos disponibles después de expedido el cheque, o girare sobre cuenta cerrada o no existente, o revocare el cheque por causales distintas de las señaladas en el artículo 26, y que no consignare fondos suficientes para atender al pago del cheque, de los intereses corrientes y de las costas judiciales, dentro del plazo de tres días contados desde la fecha en que se le notifique el protesto, será sancionado con las penas de presidio indicadas en el artículo 467 del Código Penal, debiendo aplicarse las del N° 3), aun cuando se trate de cantidades inferiores a las ahí indicada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fianza en los medios de pag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trimonio del Beneficiari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dentro de tercero día de notificado el prote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ago en cualquier momento del juic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ponderancia de la acción penal privad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ción de un perjuicio patrimoni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enas del artículo 467 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Bien Jurídico Proteg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disvalor de la acció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olvencia presen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ulneración de la confianza del beneficiario en el instrumento de pa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emento Normativo: </a:t>
            </a:r>
            <a:r>
              <a:rPr b="1" lang="es-CL" sz="2400" spc="-1" strike="noStrike">
                <a:solidFill>
                  <a:srgbClr val="000000"/>
                </a:solidFill>
                <a:latin typeface="Arial"/>
              </a:rPr>
              <a:t>El chequ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rtículo 10 DFL 707.- El cheque es una orden escrita y girada contra un Banco para que éste pague, a su presentación, el todo o parte de los fondos que el librador pueda disponer en cuenta corriente.</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es siempre pagadero a la vista. Cualquiera mención contraria se tendrá por no escrita. El cheque presentado al cobro antes del día indicado como fecha de emisión, es pagadero el día de la presentación.</a:t>
            </a:r>
            <a:endParaRPr b="0" lang="en-US" sz="2400" spc="-1" strike="noStrike">
              <a:solidFill>
                <a:srgbClr val="000000"/>
              </a:solidFill>
              <a:latin typeface="Arial"/>
            </a:endParaRPr>
          </a:p>
          <a:p>
            <a:pPr marL="660240" indent="-6602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cheque puede ser a la orden, al portador o nominativo.</a:t>
            </a:r>
            <a:endParaRPr b="0" lang="en-US" sz="2400" spc="-1" strike="noStrike">
              <a:solidFill>
                <a:srgbClr val="000000"/>
              </a:solidFill>
              <a:latin typeface="Arial"/>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lementos del Tipo</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997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Nuclear: Girar un cheq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ducta periférica o modo de comisión: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No tener de antemano fondo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irar sobre cuenta cerrada o inexisten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irar fondos disponibles después de haber expedido el chequ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vocar el cheque por causales distintas de las señaladas en el artículo 26:</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rma falsificada</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teración de suma o persona del beneficiario</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heque perdido, hurtado o robado.</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1" name="PlaceHolder 2"/>
          <p:cNvSpPr>
            <a:spLocks noGrp="1"/>
          </p:cNvSpPr>
          <p:nvPr>
            <p:ph/>
          </p:nvPr>
        </p:nvSpPr>
        <p:spPr>
          <a:xfrm>
            <a:off x="456840" y="1599840"/>
            <a:ext cx="821844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esentación al cobro ante el banco libr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tes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stión de Notificación de Protest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ribunal competen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tificación por el 44 CPC.</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lazo de tres día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sibilidad de Tachar de Falsa la firm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acha fraudulenta: penas del artículo 467 CP (art. 43 DF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notificación nula o anulabl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1">
                                            <p:txEl>
                                              <p:pRg st="7" end="7"/>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mento de Consumación</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8229600" cy="49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imera posición: Omisión de consignar fondo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lito complejo o de doble ac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blema de la prescripció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 año desde el protesto (art. 34 DFL)</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rga proces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gunda Posición: El protest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prescripción comienza a correr con é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ercera Posición: Complejo; desde el giro, retiro de fondos u orden de no pago.</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omento del perjuicio: concepto de patrimoni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testo da certeza del perjuicio, dada la multiplicidad de hipótesi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3">
                                            <p:txEl>
                                              <p:pRg st="7" end="7"/>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Tipo Subjetiv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 siempre doloso el giro doloso de cheq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4:59:00Z</dcterms:created>
  <dc:creator>jwinter</dc:creator>
  <dc:description/>
  <dc:language>en-US</dc:language>
  <cp:lastModifiedBy>Jaime Winter Etcheberry</cp:lastModifiedBy>
  <dcterms:modified xsi:type="dcterms:W3CDTF">2009-08-03T16:23:23Z</dcterms:modified>
  <cp:revision>11</cp:revision>
  <dc:subject/>
  <dc:title>Giro Fraudulento de Cheque</dc:title>
</cp:coreProperties>
</file>