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EDE-E5BF-4865-B7C9-E85671CB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268-A1B4-4AFF-BA2E-1F94EA0E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9A1-ADAC-4E6B-AC63-2FF9B4C6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3860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0390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0384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553860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0390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CA9-0D1F-4B04-B3DF-F6D3BDF0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4B44-8A59-4DE8-9A48-FF58A61C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3F66-ABB4-424B-80F9-697BA1DD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C058-1889-4C0D-ACE7-EFFD64B5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AFA8-9835-4D2B-AEC6-5346A619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17FD-A8EA-4CF6-A987-65AF8F70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99CD-9669-463B-844E-2D79404E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BB6E-4385-4D5D-8208-D3EA6025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36D-3EA8-4576-BD3D-DB32F4FC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FBEF-191D-4AFE-82FB-F45F1F6B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7BCF-418B-43F4-B4FF-EE86F16D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AB7C-A909-4368-8D2A-F94C28F5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800E-D406-4A70-82F5-B09C81ED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3860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0390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0384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553860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0390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511D-80E4-4D71-AAF6-11C144BB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117-2E20-4085-A231-B6C5CFD7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D81-BEA9-4628-A400-BF324664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2A2-5746-4D70-8B21-7B91DD5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AC1-8A19-4FFF-A886-D2095225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36B-390A-4E93-932A-2BC881B2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7A2-5BCD-4F83-8331-129FDAB8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76A-C1D4-49C7-8D12-0218FA5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79D-D875-409E-9DA0-0D057917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5425-52E3-4343-8A88-3E6578D3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2590920" cy="533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2. Escasez y Elección.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4. Costos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. La Actividad Económica: Flujo Circular del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Ejemplo:</a:t>
            </a: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Supongamos que el total de factores de producción es 100 y que hay dos productos: salud y educación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Puedo dedicarle 100 a salud y nada a educación, 100 a educación y nada a salud, cantidades inferiores a 100 a ambos productos donde la suma de las cantidades asignadas sea 100, o una cantidades inferiores a 100 a ambos productos donde la suma de de las cantidades asignadas sea una cifra inferior a 100.</a:t>
            </a: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Todas las combinaciones que estén dentro de la FPP son combinaciones viables, todas aquellas que estén fuera de la FPP serán invia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Se dice que la producción es eficiente cuando no se puede producir otra unidad de un producto sin dejar de producir una unidad de otro product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Respecto de la FPP, todos los puntos que estén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en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la FPP serían eficientes, mientras aquellos que estén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bajo la recta formada por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la FPP serían inefici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18200" y="837720"/>
            <a:ext cx="42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ficiencia productiv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8400" y="1905120"/>
            <a:ext cx="732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existen al producir un bien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ómo recupero mis costos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determina que un costo sea recuperable o no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son irrecuperables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son recuper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2666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sto irrecuperable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es aquel que ya se ha comprometido y que no puede rec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295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sto recu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21000" y="262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82880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aquellos en los que no se han incurrido o los que pueden ser revert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se les llama costos evi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Costos de vender el producto (Costos de reparto, de reemplazo del artículo en el inventario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s contrarios: Costos hundidos (Gastos en I&amp;D anteriores, arriendo dentro del plazo del arrendamiento (si no puedo subarrendar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82880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costo recuperable es el costo futuro, no histórico asociado con un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activos pueden tener partes recuperables e irrecuper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 los puedo vender, son recuperables (% vida út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pueden tener un uso alternatio (costo altern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 no posee valor de reventa, ni uso alternativo entonces es irrecuper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cartel de neón con el nombre de mi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4. Costo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57200" y="731880"/>
            <a:ext cx="82296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3366"/>
                </a:solidFill>
                <a:uFillTx/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 es el costo de aquello a lo que debe renunciarse para obtener una cosa.</a:t>
            </a:r>
            <a:br>
              <a:rPr sz="2200"/>
            </a:br>
            <a:br>
              <a:rPr sz="2200"/>
            </a:br>
            <a:r>
              <a:rPr b="0" lang="es-ES" sz="2200" spc="-1" strike="noStrike" u="sng">
                <a:solidFill>
                  <a:srgbClr val="003366"/>
                </a:solidFill>
                <a:uFillTx/>
                <a:latin typeface="Times New Roman"/>
              </a:rPr>
              <a:t>Preguntas</a:t>
            </a:r>
            <a:br>
              <a:rPr sz="2200"/>
            </a:b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Cuál es el costo total de estudiar derecho?</a:t>
            </a:r>
            <a:br>
              <a:rPr sz="2200"/>
            </a:b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Cuál es el costo de oportunidad de estudiar derecho?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. La Actividad Ec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a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jo Circular del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3880" y="1346040"/>
            <a:ext cx="609624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6. Revisar Herramientas Analiticas y ma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es y Gráf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es la econom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Estudia las variables y los medios de satisfac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s necesidades múltiples frente a recursos es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Es la disciplina que busca resolver las preguntas de qué?, cómo? Para quié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otra defini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conomí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iencia social que estudia el modo en que la sociedad gestiona sus recursos escas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i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Disciplina científica, en el senti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que los economistas elaboran teorías, recogen datos, los analizan e intentan verificar o refutar la efectividad de su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or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enci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ci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or contraposición a una ciencia exact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bjeto: Estudio del modo en que la sociedad gestiona sus recursos es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CROEC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52720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ama de la economía que estudia la conducta de entidades individuales (como los hogares y las empresas) y la forma en que interactúan en cada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guntas básicas: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ué, cuánto, cómo y a qu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2286000"/>
            <a:ext cx="833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imes New Roman"/>
              </a:rPr>
              <a:t>Problemas de la organización económica son Qué y Cuánto;  Cómo, y; Para quié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981720" y="3048120"/>
            <a:ext cx="700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Premisa: los recursos son escasos y las necesidades son infin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893960" y="3505680"/>
            <a:ext cx="560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Qué y Cuá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ienes de consumo o bienes de invers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uién producir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qué recurs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qué medios de produc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3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Para quié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uién consume los bienes y cómo se distribuye la rique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2. Escasez, elec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 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 Dese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onibilidad de recursos para satisfacer las necesidades 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t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urge de la interrelación entre las necesidades humanas y los recursos disponibles para satisfacerl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necesidades humanas por consumir bienes y servicios exceden a la cantidad que la economía puede producir con los recursos disponibles quedando siempre necesidades insatisfec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Volviendo a las tres preguntas, y sea cual sea el sistema económico imperante, a efectos de responderlas, las sociedades deben tomar decisiones respecto de los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factore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y los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producto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de la economía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Factores de producción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son: la tierra (recursos naturales), el trabajo (horas hombre) y el capital (bienes para producir otros bienes)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Producto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son los distintos bienes y servicios resultantes del proceso productiv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78240" y="-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Frontera de Posibilidades de Producción (FPP) 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La frontera de posibilidades de producción (FPP) muestra las cantidades máximas de producción que puede obtener una economía, dados sus conocimientos tecnológicos y la cantidad de factores exist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23:39:20Z</dcterms:created>
  <dc:creator>Joaquin Aguirre</dc:creator>
  <dc:description/>
  <dc:language>en-US</dc:language>
  <cp:lastModifiedBy>Joaquin Aguirre</cp:lastModifiedBy>
  <dcterms:modified xsi:type="dcterms:W3CDTF">2009-02-17T02:39:28Z</dcterms:modified>
  <cp:revision>47</cp:revision>
  <dc:subject/>
  <dc:title>MICROECONOMIA                         Joaquín Aguirre E.</dc:title>
</cp:coreProperties>
</file>