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E2E-6870-44B1-9F4C-66C1959F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14E-C0F9-42E9-8C66-EF636D40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A71-7C21-4927-B7E8-5D61D6D2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447-AD6D-464C-B300-9738A1DA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270B-FF5C-470D-A19D-56B72CEF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5E94-416E-448F-ACFA-4258F77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0B3D-4B6B-4A27-8A53-7DF7094B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6D8D-1130-4BE0-B80E-79E9ABC7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4B2-1D8A-4209-AF98-7FCF00B0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361C-E020-456C-81E9-7C545150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97A-C743-44F8-BE7E-3B58B96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DB2-EE22-4A06-898E-6A52A83D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17D3-31FF-41F2-AEB2-E73E0BB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FD8-A666-4F00-9A59-FB493FD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C45F-1169-4354-85B5-2E7B5FB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664-6216-4CB0-A25A-2CD2464F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C73F-7476-4FE9-B9E5-A14B47AB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636-6463-4BDF-A938-8E84A82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605-F124-4FC7-AE71-06A2B30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A5F-AC8F-4A81-9FE4-8880F2D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4FF-BAB4-4AEE-B8D2-2BBFABF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975-C897-45D5-81C1-43AED05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336-04CC-467E-A621-F0E8A86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E29-BB3B-4054-85DC-A935CA5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C49C-1C2D-4F74-B98B-6E286602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B79-0EAA-42E1-BF4B-7D1B0A5F4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259092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 y Elección.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ómica: Flujo Circular del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Ejemplo: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upongamos que el total de factores de producción es 100 y que hay dos productos: salud y educació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Puedo dedicarle 100 a salud y nada a educación, 100 a educación y nada a salud, cantidades inferiores a 100 a ambos productos donde la suma de las cantidades asignadas sea 100, o una cantidades inferiores a 100 a ambos productos donde la suma de de las cantidades asignadas sea una cifra inferior a 100.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Todas las combinaciones que estén dentro de la FPP son combinaciones viables, todas aquellas que estén fuera de la FPP serán inv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e dice que la producción es eficiente cuando no se puede producir otra unidad de un producto sin dejar de producir una unidad de otro product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Respecto de la FPP, todos los punt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la FPP serían eficientes, mientras aquell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bajo la recta formada por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PP serían inefic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18200" y="837720"/>
            <a:ext cx="42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ficiencia productiv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8400" y="1905120"/>
            <a:ext cx="732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existen al producir un bien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ómo recupero mis costo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determina que un costo sea recuperable o no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irrecuperable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recuper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666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irrecuperable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es aquel que ya se ha comprometido y que no puede rec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295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recu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21000" y="262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82880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aquellos en los que no se han incurrido o los que pueden ser revert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se les llama costos evi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ostos de vender el producto (Costos de reparto, de reemplazo del artículo en el inventario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s contrarios: Costos hundidos (Gastos en I&amp;D anteriores, arriendo dentro del plazo del arrendamiento (si no puedo subarrendar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288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sto recuperable es el costo futuro, no histórico asociado con un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activos pueden tener partes recuperables e irrecuper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los puedo vender, son recuperables (% vida út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pueden tener un uso alternatio (costo altern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posee valor de reventa, ni uso alternativo entonces es irrecuper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artel de neón con el nombre de mi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57200" y="73188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 es el costo de aquello a lo que debe renunciarse para obtener una cosa.</a:t>
            </a:r>
            <a:br>
              <a:rPr sz="2200"/>
            </a:br>
            <a:br>
              <a:rPr sz="2200"/>
            </a:b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Preguntas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total de estudiar derecho?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de oportunidad de estudiar derecho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Circular del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346040"/>
            <a:ext cx="60962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6. Revisar Herramientas Analiticas y ma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y 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es la ec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Estudia las variables y los medios de satisfa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s necesidades múltiples frente a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s la disciplina que busca resolver las preguntas de qué?, cómo? Para quié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otra defini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conomí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encia social que estudia el modo en que la sociedad gestiona sus recursos escas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i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isciplina científica, en el sent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que los economistas elaboran teorías, recogen datos, los analizan e intentan verificar o refutar la efectividad de su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contraposición a una ciencia exact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o: Estudio del modo en que la sociedad gestiona sus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CRO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52720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ama de la economía que estudia la conducta de entidades individuales (como los hogares y las empresas) y la forma en que interactúan en cada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guntas básicas: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é, cuánto, cómo y a qu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286000"/>
            <a:ext cx="83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imes New Roman"/>
              </a:rPr>
              <a:t>Problemas de la organización económica son Qué y Cuánto;  Cómo, y; Para quié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981720" y="3048120"/>
            <a:ext cx="700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Premisa: los recursos son escasos y las necesidades son infi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893960" y="3505680"/>
            <a:ext cx="560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Qué y Cuá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 de consumo o bienes de inver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producir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recur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medios de produc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Para 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consume los bienes y cómo se distribuye la rique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, ele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Dese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 de recursos para satisfacer las necesidades 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t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rge de la interrelación entre las necesidades humanas y los recursos disponibles para satisfacerl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necesidades humanas por consumir bienes y servicios exceden a la cantidad que la economía puede producir con los recursos disponibles quedando siempre necesidades insatisfec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Volviendo a las tres preguntas, y sea cual sea el sistema económico imperante, a efectos de responderlas, las sociedades deben tomar decisiones respecto de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y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de la economía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 de producció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: la tierra (recursos naturales), el trabajo (horas hombre) y el capital (bienes para producir otros bienes)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 los distintos bienes y servicios resultantes del proceso produc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8240" y="-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rontera de Posibilidades de Producción (FPP) 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rontera de posibilidades de producción (FPP) muestra las cantidades máximas de producción que puede obtener una economía, dados sus conocimientos tecnológicos y la cantidad de factores exist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3:39:20Z</dcterms:created>
  <dc:creator>Joaquin Aguirre</dc:creator>
  <dc:description/>
  <dc:language>en-US</dc:language>
  <cp:lastModifiedBy>Joaquin Aguirre</cp:lastModifiedBy>
  <dcterms:modified xsi:type="dcterms:W3CDTF">2009-02-17T02:39:28Z</dcterms:modified>
  <cp:revision>47</cp:revision>
  <dc:subject/>
  <dc:title>MICROECONOMIA                         Joaquín Aguirre E.</dc:title>
</cp:coreProperties>
</file>