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99D3-1048-4C77-9E0E-62806CE36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9F79-EC9D-41AB-A56F-B06BAF46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8572-9253-4D2B-89D6-D2CC8077B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F154-20C9-4D9F-9D15-D4F864C43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7C9F-78B0-47AE-B12F-F7D4012A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3B82-1E7C-45C7-B121-30E969C8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A098-B74F-492A-B74A-9850FA42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137A-7278-4C10-9D00-A3971695B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B9C8-9EEF-4943-A358-D051279E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32F9-A484-44A4-8DE2-F9229D01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E129-0DD0-48A0-9035-2517D4B3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798C-9DBE-469D-988C-6911990A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2ADF-3B11-48AD-863C-2E213B5E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25D0-5FF4-44E0-8931-3F496CFB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1D9E-1DAD-4A2B-9C1D-07526089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18D5-71AC-4EAB-BC27-2B78A130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243D-9ECE-4760-9942-893EEB18A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A5AF-281E-4AA7-9898-74540C6D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CB59-0678-4C30-9BB9-9DB06587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0EF7-333C-4661-90F2-FEA44446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34FA-6F8D-4618-8606-C37EAB5E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AAC3-21A0-48FC-925A-D5291FB3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30F5-A997-40F5-B392-80C62D9C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A870-E078-4281-9558-19B3E9DA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5115-661B-45ED-ABD1-65469AD7898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DF19-E817-464A-9704-07ACBFCF9FE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Medio Oriente: Israel - Palestina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38858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Presentación para la cátedra de Relaciones Internacionales del Profesor José Rodríguez Elizondo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ebastián Flores Día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arzo de 20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Uso exclusivo para la clase. Se prohíbe citar u ocupar sin permiso del auto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Israel 1947- 1949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573408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De acuerdo al plan inicial de la ONU, la zona denominada </a:t>
            </a: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alestina británica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(en el mapa de la izquierda) sería dividido tres partes: Israel (con morado); Estado Árabe -posiblemente palestino- (con verde); el resto sería asignado a otros países. Como podemos apreciar en el mapa de la derecha, ese amplió el territorio judío luego de la guerra del 48 (la zona rosada corresponde a las anexiones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6689880" cy="50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Israel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602136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l morado corresponde a Israel desde 1949 a 1967; la zona lila son los territorios ocupados desde 1967 a 1988; y los cuadrados verdes son los campamentos palestin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712800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Israel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573408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Luego de los acuerdo de Camp David de 1994, con lila corresponde a Israel; La zona roja son los territorios autónomos controlados por la Autoridad Nacional Palestina; La zona verde son 450 localidades en que la ANP ejerce el poder civil, e Israel la seguridad; La zona color damasco corresponde a la región en que se encuentran los asentamientos judíos de Cisjordania (colonos)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697860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Israel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602136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imes New Roman"/>
              </a:rPr>
              <a:t>La zona rosada corresponde a los territorios autónomos palestinos; los puntos verdes son los asentamientos judíos en la zona palestina. Con verde oscura están las ciudades de la ANP; y con Naranjo tenemos la división de Jerusalén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049880" cy="5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8T16:53:56Z</dcterms:created>
  <dc:creator>...</dc:creator>
  <dc:description/>
  <dc:language>en-US</dc:language>
  <cp:lastModifiedBy>...</cp:lastModifiedBy>
  <dcterms:modified xsi:type="dcterms:W3CDTF">2008-03-08T18:58:04Z</dcterms:modified>
  <cp:revision>3</cp:revision>
  <dc:subject/>
  <dc:title>Medio Oriente: Israel</dc:title>
</cp:coreProperties>
</file>