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FC1-0783-4089-BC5E-F517A2A5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790-3C40-4CA1-AA7E-C04B680C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CE1-CBF4-4132-9E0E-CACCB196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75C-A9EE-4DD2-9D52-725E7C0E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BA8E-30BE-4424-A2A1-ABB3F70D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5758-00B4-4DA6-B9BE-1832BAFA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D688-44CD-4AEF-A88F-D6F9978E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83BD-AE37-4268-B66C-C36AEF12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D0F5-5340-4F08-B6BF-7B4B886C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959D-5F48-4F47-AD74-E94EA570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746A-77A6-48E3-80D3-8273F714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787-D11F-4F5E-92DA-411D7852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70BB-9AAD-4CFE-AB41-D28A89AF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77DA-6BFF-444A-9F4D-8B072DED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AD66-987C-4DE4-8CAE-E78CBAEF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BBEA-AE7A-44D9-924D-AE4436C6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CCC3-AE21-41AF-BB50-4B2AE6ED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26E-EDDC-4D57-99B7-399DD178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1C5-C5EA-43C4-97D5-C990D720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317-B54F-44FC-A2B0-EAE4A8B8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52D-0289-4B68-80CB-C2F32278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101-F3D4-4762-AE50-B8DE7F76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BF8-B4F8-4DCA-9A31-3FC4BF86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86E-4D0A-4C4A-B424-B23862A7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0AB4-0E3C-434C-89FD-72966512C1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-1035000" y="1521000"/>
            <a:ext cx="10179000" cy="5337000"/>
            <a:chOff x="-1035000" y="1521000"/>
            <a:chExt cx="10179000" cy="5337000"/>
          </a:xfrm>
        </p:grpSpPr>
        <p:sp>
          <p:nvSpPr>
            <p:cNvPr id="45" name="Freeform 2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-1035000" y="1521000"/>
              <a:ext cx="6726240" cy="53370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32B1-C16F-42F7-8556-4EEB37700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ahoo.com/" TargetMode="External"/><Relationship Id="rId2" Type="http://schemas.openxmlformats.org/officeDocument/2006/relationships/hyperlink" Target="http://www.yahoo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Verdana"/>
              </a:rPr>
              <a:t>Acceso a la</a:t>
            </a:r>
            <a:r>
              <a:rPr b="0" lang="en-US" sz="5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ffcc00"/>
                </a:solidFill>
                <a:latin typeface="Verdana"/>
              </a:rPr>
              <a:t>Información Web</a:t>
            </a:r>
            <a:br>
              <a:rPr sz="66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18 al 22 de agosto, 2002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89" name="Object 3"/>
          <p:cNvGraphicFramePr/>
          <p:nvPr/>
        </p:nvGraphicFramePr>
        <p:xfrm>
          <a:off x="1981080" y="533520"/>
          <a:ext cx="5056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5056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DF2D-45CE-4395-A9BB-8D19930821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Motores Recomend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Googl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google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ee más de 2 billones de sitios en su base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plazó a AltaVi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 un buscador p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tiliza un sistema de ranking basado en número de enlaces a un si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9DD8-AF91-47CD-983B-5DE7962A7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Recomend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Google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google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ee más de 2 billones de sitios en su base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plazó a AltaVi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 un buscador p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tiliza un sistema de ranking basado en número de enlaces a un si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6393-B15C-4189-B992-9459E0C47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Recomend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33520" y="1219320"/>
            <a:ext cx="83055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eoma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ww.teoma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ueva alternativa que se perfila como competencia de Goo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Alltheweb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www.alltheweb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ategoriza las búsquedas por tipo de forma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SzPct val="5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Recursos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SzPct val="5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SzPct val="5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MP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BEE0-0142-4B74-8472-C7474A092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etabuscado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ultan información sobre un tema en varios buscadores o directorios temáticos al mismo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son dueños de bases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túan como intermediarios: envían la consulta, recopilan las respuestas de los diferentes buscadors y entregan un informe con los resultados de los distintos recurs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90FE-8B09-429F-B6A6-B7A53CF0B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etabuscado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Caracteri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horro de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ita buscar información en cada buscador o directorio temát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 una sola consulta el usuario recibe la información de todos los resul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tregan una visión general de los tipos de documentos que existen con los términos consult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7E8C-FBB8-47A1-9EFB-F316898FB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etabuscado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990720"/>
            <a:ext cx="71629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Cuándo usar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se busca sobre un tema poco conoc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se puede usar un enunciado de búsqueda sim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no se obtienen resultados satisfactorios usando un directorio temático o un motor de búsque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 recuperar tantos documentos como sea posible con un sólo enunci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02CC-3B2C-4866-B78E-4A3452180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Metabuscadores</a:t>
            </a:r>
            <a:br>
              <a:rPr sz="4000"/>
            </a:b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Recomendad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xquick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www.ixquick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Copernic </a:t>
            </a:r>
            <a:r>
              <a:rPr b="0" lang="en-US" sz="2000" spc="-1" strike="noStrike">
                <a:solidFill>
                  <a:srgbClr val="ff0033"/>
                </a:solidFill>
                <a:latin typeface="Verdana"/>
              </a:rPr>
              <a:t>www.copernic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Metacrawler </a:t>
            </a:r>
            <a:r>
              <a:rPr b="0" lang="en-US" sz="2000" spc="-1" strike="noStrike">
                <a:solidFill>
                  <a:srgbClr val="ff0033"/>
                </a:solidFill>
                <a:latin typeface="Verdana"/>
              </a:rPr>
              <a:t>www.metacrawler.c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A1E8-D447-40BA-86BB-9B2B13A85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Consejos para buscar mejo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ara exploración indefinida, búsqueda por t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a Directorios Temáticos (Yahoo, lii.or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ara búsqueda genérica sobre un t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a Metabuscador (Ixquick, Copern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ara búsqueda concreta de un tema específ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a Motor de Búsqueda (Google, Teoma, Allthewe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3100-5039-4791-A24C-00D757B83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Consejos para buscar mejo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2" marL="1108440" indent="-221400"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a comillas para unir palabras en una fras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a del So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pecifica las palabras que deben aparecer en los resultados anteponiendo el signo  “ + “ en cada palab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héroes + silen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pecifica las palabras que no deben aparecer en los resultados anteponiendo el signo “ - “ a la palab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uación - a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sa Truncación (comodín) “*” representa las letras desconocidas de una palab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ibrar* (ies - y - ia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2891-87CE-4B4F-824A-E6B50DBFC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457200" y="1066680"/>
            <a:ext cx="8326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ablecer qué se quiere obtener como resultado de búsque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finir en pocas palabras lo que se quiere buscar,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Quiero buscar información acerca de estadísticas de bibliotecas y construcción de indic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icar palabras c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iero buscar información acerca de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informe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bre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stadística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de </a:t>
            </a: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biblioteca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 construcción de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indic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38080" y="3049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Consejos para buscar mej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BB3B-FE1A-4939-98F9-A11005757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Directorios Temático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s directorios temáticos son una guía jerárquica de temas o áreas que abarca desde los má general a los más particul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grupa las web que pertenecen a un área, bajo categorías predefinidas y jerárquicas para facilitar las búsquedas a los usuari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AE14-0B52-4794-AF8A-239FCAE79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ropiados para búsquedas temáticas gener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aborados por especialist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jor punto de partida para comenzar una búsqueda general sobre un t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ácil de revis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gieren páginas de cal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Útiles cuando no se está seguro sobre qué recurso us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Directorios Temático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B49D-9287-49A2-A4AD-CFF48242F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Directorios Recomendad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Yahoo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http://www.yahoo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0033"/>
                </a:solidFill>
                <a:uFillTx/>
                <a:latin typeface="Verdana"/>
                <a:hlinkClick r:id="rId2"/>
              </a:rPr>
              <a:t>P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Verdana"/>
              </a:rPr>
              <a:t>osee más de 20.000 categorías temát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ionero en la búsqueda de inform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E61F-E70F-42E9-9C9B-47B9801CC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Directorios Recomend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ibrarian’s Index to the Intern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lii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ee más de 10.000 recursos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tios seleccionados y evaluados por bibliotecar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n número de categorías y subcategorí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ma parte del indice de Berkeley Sun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C881-04D2-4772-AEFE-B54244415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motores de búsqueda emplean programas  llamados </a:t>
            </a:r>
            <a:r>
              <a:rPr b="0" lang="es-ES" sz="2800" spc="-1" strike="noStrike">
                <a:solidFill>
                  <a:srgbClr val="ff0033"/>
                </a:solidFill>
                <a:latin typeface="Verdana"/>
              </a:rPr>
              <a:t>robots o arañ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saltan de una página a otra de la Web recogiendo páginas y almacenando toda la información en una gigantesca base de datos. Esta base de datos contiene, entre otros datos, el título de la página, una descripción, palabras clave y los enla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990720" y="38088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de Búsque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0E85-647F-45FD-9248-9C7BF2C80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de Búsque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scan en grandes bases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cuperan sitios provenientes de grupos de discusión, listas de interés, páginas web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frecen diferentes alternativas y estrategias de búsque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miten obtener resultados orden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cupera gran cantidad de resul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59C5-4B79-40BD-B610-1891DECE3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Compon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BOTS (programas que completan los índic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Buscan en servidores d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Grupos de discu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Listas de inter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t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dice o base de datos URL con información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ítulo del archivo HTML o primeros párraf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Palabras de 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Hiperenl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escriptores (ocacionalmen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066680" y="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de Búsque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31DB-98A9-4491-9108-6F0F03CE4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de Búsque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Algunos criterios de sele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bertura de las bases de datos (cantidad de recursos, tipo de recurs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Área del documento que consulta (títulos, encabezamient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ciones de búsqueda que ofrece (booleana, truncación, idiom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8:04Z</dcterms:created>
  <dc:creator>DIC</dc:creator>
  <dc:description/>
  <dc:language>en-US</dc:language>
  <cp:lastModifiedBy>Facultad de Derecho</cp:lastModifiedBy>
  <cp:lastPrinted>1999-06-22T12:48:37Z</cp:lastPrinted>
  <dcterms:modified xsi:type="dcterms:W3CDTF">2009-03-24T13:33:18Z</dcterms:modified>
  <cp:revision>63</cp:revision>
  <dc:subject/>
  <dc:title>Bases de Datos Comerciales</dc:title>
</cp:coreProperties>
</file>