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055-AC5D-45C1-AECF-A20DCCCE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2DF-AC10-4E93-95BD-6F1C0075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518-2DFB-4130-928F-72C4E538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8BB9-F51F-4838-B501-780DEB77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7CA4-9ACE-4E22-BA3F-5D934A8D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8222-8D5F-431B-96DF-F602CF79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2B85-845A-45B9-B60A-C7F4E9CA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0A2C-01D4-4983-88A8-1C50EF03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9F4E-75DE-4D85-B438-0C730F39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10A1-0343-4598-8679-D7A40D05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9B4D-75F6-4A69-B2FF-C3127E7A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BFC-D5CC-4FE6-A947-E63A09E5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E87E-ABAA-4A38-8B00-50A6E5F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A5D6-433A-4697-AC0D-C6109E42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5C29-A4E0-4A46-800D-EAB0EDC2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A9B1-79E1-44FD-A2DC-E222527A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C183-3C83-4A13-9F87-880080D9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C26E-7EE6-4116-8929-DF215021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FC8A-42E3-45C3-BD3D-F63896EA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EBD9B-9050-471F-90D2-9B73681F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1311-0B23-48AA-AD70-20D529A3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B2CC6-866F-4DCF-989D-1941B73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7CC-2386-4C87-9DA0-FC4B079F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8AAF1-D952-4F47-B56C-9C6D3F96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C586-EF1C-416B-992C-AE9D9D31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16FD7-FE1E-4B8C-B25E-5EC4D44F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E5F0-E4E5-4983-83CB-5E33F88F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2360-B9F0-401D-B1FD-4F2DC78A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CDC3-04D9-4B55-9D7E-EBCA9B3C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76F3-F33D-4EAA-8EAE-2F158E7B0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6465-0D9D-4CF9-9BAC-CDD9DA1F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FDF38-0D71-4EE2-8B6D-186109BD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A405-9C94-4CCF-9FB1-61C8260A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0EC-5249-47DF-81E7-AFEADFA7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93047-2D2E-4AD1-ADF8-F20AD7A2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AE56E-DB8C-4396-B5D8-D6502A4B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F4652-122D-4400-BDD8-D63224F3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2667-7EAD-4DB2-8B0D-22404388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C203-BEAE-4222-A245-7EDD28E3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ED209-8F49-436D-ABF9-B857D7A7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58B8-912F-4862-9034-FE47C889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C70F-83FF-4A61-AE18-3A67E819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C80C9-17F8-4799-8534-7B9ADF9B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03880-8102-44E0-B37F-F117F720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DEC-E643-409D-A48D-1A0C5255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E64E1-91FA-4A29-8736-79510919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DA056-E500-4A2F-9372-0A9CB6A6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A383-1250-45EC-A000-70C4F97C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9B777-82C0-411B-A21B-A3105F9C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39A64-F79C-4EC0-8DD8-1D3B51EF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54F6-45B1-4604-A746-D7D29787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F3984-0BD1-4A30-AAD1-CA0FE9DA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585C-97F6-4072-913A-454277B2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41E05-1B06-4909-99B4-C095ACBF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193A-4799-4316-A0EC-E3CA5876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6F4-AB23-405D-9FBE-C8C2A097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E5455-BE0F-4965-90DD-B9F52E88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8F12E-D3A1-4143-9C71-7513643C1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2DAFA-E957-4582-8EB9-67B838E0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53CDC-E854-42F7-A57C-791617C8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BE23-033E-49F0-BBFC-B6DAD06F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D5F02-6D53-450D-8C4D-332D5AB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11F19-F3CF-4EA4-9712-7EF5A81D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439EE-12DE-4744-A012-1F0880E3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15E1F-D2ED-4489-A321-7E1EB145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4BF5A-7C6D-4C19-8D1C-8341B64A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C05-45A3-4752-8DF1-97774BDB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85ED-CCA3-44E7-9ED7-DC8B1BF4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5D537-8C5E-46ED-A7C4-C558A675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6A45E-9130-4C0E-8E7C-EE4E48815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2C86A-7E6A-499E-B058-DF74CC98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08340-DFE3-40CC-993E-3DA9EB76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36B35-3D76-4888-A47F-D5BF4ED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C1A3E-A7A3-4ACE-9A87-670E23F9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97DC-445D-469F-B143-AF3A3576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AC992-4B79-47B8-9A18-B50EBD94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E9F32-0C61-4E98-8D95-A53A091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FF4-606D-4AFC-A6FD-D344980B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6738-CE20-4A06-81C2-B928444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40848-881A-49DD-9D13-6B0A897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1DE8A-40FB-4DE7-8045-D93433B7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6707-9902-4B29-9922-1D9BB3BC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EFF2-AAEE-4499-967F-D85B0A0B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9246-9464-42F9-8B7A-15B855DC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CAC63-985A-48E9-A427-B1C5350F125F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3B8640-A0CE-4EC4-8954-87208C1B4A7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96DED-CFDE-4A72-B955-DB8C1A53D79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4FDEB-992D-4BA0-A679-3425215BD1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E0796-B048-4129-B11C-E3D3B4A0DF1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E1EAD-D7C1-4DEC-BFED-EFFA4C0106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46460-BCAC-48AD-AEC1-193AFB2F8BE6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53157-870C-4079-AE01-60EED84E68B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064FF-8210-4C66-A02E-75E83522BFEA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B5743-A984-43CB-BA0C-E5C1FC23677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46451-D34E-428A-BF1D-8FA4184741FC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89ED4-184F-47BF-8272-64E63ADCF2F9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2952A-A21F-4298-A5AF-7EB4DE6EDB31}" type="datetime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1F65DF-9DFF-4F86-841B-06D32B5EF98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2"/>
          <a:stretch/>
        </p:blipFill>
        <p:spPr>
          <a:xfrm>
            <a:off x="682560" y="3333600"/>
            <a:ext cx="8083440" cy="170208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éptima Clase: Externalidad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4434840" y="5715000"/>
            <a:ext cx="28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antiago Montt Oyarzú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29 de septiembre 2009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380880" y="13939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puesto de Pigo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2"/>
          <a:stretch/>
        </p:blipFill>
        <p:spPr>
          <a:xfrm>
            <a:off x="762120" y="2217600"/>
            <a:ext cx="71816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uber (2007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surgen cuando las acciones de una parte hacen que otra parte esté mejor o peor, y no obstante la primera parte no carga el costo ni recibe el beneficio de los efectos de sus acciones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a clave es que no se reflejen en los precios que las partes enfrent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 externalidades pueden surgir de la producción de un bien o del consumo de un bie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n un mismo río, aguas arriba, hay una planta de acero que contamina, y más abajo un lodge de pesc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ulta crucial distinguir entre costos y beneficios privados vs. costos y beneficios socia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arar con lo que haría un único dueño en caso de tratarse de una firma integrada (que, en este contexto, es lo mismo que un “panificador social”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3"/>
          <a:stretch/>
        </p:blipFill>
        <p:spPr>
          <a:xfrm>
            <a:off x="457200" y="1774800"/>
            <a:ext cx="7797960" cy="4626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4"/>
          <p:cNvSpPr/>
          <p:nvPr/>
        </p:nvSpPr>
        <p:spPr>
          <a:xfrm>
            <a:off x="2069280" y="64008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uente: Gruber (2007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3111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3"/>
          <a:stretch/>
        </p:blipFill>
        <p:spPr>
          <a:xfrm>
            <a:off x="457200" y="1930320"/>
            <a:ext cx="777564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que pasan por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envenidos al mundo Coasiano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luciones públic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os preci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mpuestos a-la-Pigo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sidi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tricciones a la c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ignar derechos de propiedad y dejar que opere el mercad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 los derechos de propiedad están bien definidos, esto conduce a la internalización de la externalid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orema de Coase: En ausencia de costos de transacción, la externalidad no produce una falla de merca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ás aún, la asignación de los derechos de propiedad a una u otra parte no afecta el equilibrio eficien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lvl="1"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uatro problem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 la asign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signación de culpa y de dañ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 problema del Hold Out y del free ri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roblemas de  oportunismo y acción colectiva si hay varias individuos en alguna de las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703440" indent="-3193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istencia de costos de transac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9223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specialmente en presencia de un gran número de par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5:14:41Z</dcterms:created>
  <dc:creator>Santiago Montt</dc:creator>
  <dc:description/>
  <dc:language>en-US</dc:language>
  <cp:lastModifiedBy>Santiago Montt</cp:lastModifiedBy>
  <dcterms:modified xsi:type="dcterms:W3CDTF">2009-09-29T06:09:23Z</dcterms:modified>
  <cp:revision>40</cp:revision>
  <dc:subject/>
  <dc:title>Nuevas Formas de Intervención Administrativa</dc:title>
</cp:coreProperties>
</file>