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move the slide</a:t>
            </a:r>
            <a:endParaRPr b="1" lang="en-US" sz="4000" spc="-1" strike="noStrike">
              <a:solidFill>
                <a:srgbClr val="660000"/>
              </a:solidFill>
              <a:latin typeface="Garamond"/>
            </a:endParaRPr>
          </a:p>
        </p:txBody>
      </p:sp>
      <p:sp>
        <p:nvSpPr>
          <p:cNvPr id="4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0CCF-F1FD-41F1-96B6-60AE89F96EE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19D5-F635-46D8-B1C5-75F9C0BA4A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7961F-FF8E-4618-8F3B-42BE70D95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D7D25-7243-4B85-9DDC-F41BAC1BC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6AF350-0A8D-4D26-8D9B-042C7B9DF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003365-20DD-4044-AAB5-5E2A0C5B2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49C420-9563-4473-88BC-D589B344E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779D3-9BEC-4956-B433-D38C527E1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E5B26-3A28-4162-84C3-2A70E0D49C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9AFE9-2143-4EF2-84EF-B1171BFD03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AD9B7-0D7D-4982-8471-A814208DB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CAC3DD-7D7A-45EB-8977-C7EAEC0A9F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D35837-C878-46AF-9A93-C44D50950D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CF55A6-CD8F-4FB2-94C8-8277316B3F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88A3D-8858-4B40-82D5-511ACDA13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735B5-7117-4F66-AC5A-6BD2DAFAFC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160A90-7135-4985-905E-1E7C323022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F03B9C-CE85-4B9B-A95F-C2CBC80EF5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0D4F75-78BD-484B-B57E-4442BE627D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C5D285-A6CC-4A83-B6AA-CD3903D4C7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41D740-E206-4312-9584-5077336EA6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C6FCCD-47CD-45B8-95BC-513B54DB4F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E7CC9C-16B1-410A-ADCA-EF6F86832A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2F9904-8900-47CD-91F4-7934EDA961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0D70E2-DF0A-417C-A16A-2E9C57435B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7C05F-68D2-45B0-A8F0-393CEC10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9C4D58-C42E-42EE-975E-1A34650AB6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0AAD8-77F5-46C6-9BED-463A650FA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C1E1A-60BB-45FD-BE00-219773526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B6715-8BB9-44A1-9A8B-D1B474192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B125D-ECF9-420D-9930-7CEC028E0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E62A2-78A8-4AEB-96AF-9846A1222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A3CFD-BEE3-438F-A053-1D64C99F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C46A-015A-4991-ACED-847F6CC07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4720-FE06-48E9-A0BC-3C07AC8E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5630-2F34-4D74-912C-F36E1C851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37913-5D67-4107-BA57-78D31D4F6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563A0-6FDB-4C49-A42C-CBDD488CB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4E778-05B0-46CA-9ECF-D8509FE98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24565-9F54-4B7D-A70F-C7DA8F1BF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F4501-C762-4987-BE4B-9291F1154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7DC69-E240-4F6B-A618-0A76D1130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FD192-4766-4B0F-88EB-C6A9B02B4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C61CA-1B4C-4170-AE29-7FB8F43E3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07546-D5DA-4315-B807-56D1F38C4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86AF8-DEF8-4334-A625-7D1FBE4DF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5DFE1-EF56-4FFC-B136-9271340BD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4FDCA-9135-4C48-8272-47DAD7A82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7C088-A3EB-4B67-831F-0B5FDA5BE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E45DC-D491-477A-9F4B-AD9E01354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6D79F-C317-4EBB-9BAD-CEA2F08E2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DA11C-1EA2-4D6A-B0DE-0DD4F71FE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31ED1-1570-4736-B47B-092259A059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3DB58-A1BE-4090-B11E-ED4A7AD85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B8B2B-B65D-4560-BFC5-E3C80EA25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84DF1-7957-4713-9CD8-678A676C4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CF55-FF34-415E-888D-1C5973FBA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B1312-D214-407C-9BA5-61801318B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3F181-D2E1-435A-B449-F459A2B6B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3FC7B-BAD4-4947-BC7B-B0A46E74B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93353-7DD7-4DC2-BCA9-9A038550D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1D450-9A78-43A4-AB3C-40B76F5E5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63FB8-9B19-4A50-BD85-79CCA6C66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87666-DF76-427E-A7E3-C123E90BB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0500E-C2B1-4ABC-AAC7-B9F5045681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F3D0C-8FD8-4AD9-9087-8F7C88C30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8C6EF9-09D1-4152-87F5-F6FCBBFAD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EE22-7671-4C41-9A3A-B177EA14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315EB-7F6B-4A2B-A704-57E9BC9CB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7DCD6-C549-49C7-AECA-F03F4416F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89585-5B88-4548-9090-003CD4BC6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E3451-3A2C-4E45-8847-E8D576319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3A1B7-074C-4115-9D88-0EF811DF9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8ED52-20EB-4613-8E35-300C10D83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D79BF-F337-4C49-98D4-2C366D5FC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FBEF5-FC97-45C2-B3E1-AF57E30B4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2F747-97B6-40CB-8649-9288ADD80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38742D-489C-48F7-AD85-CCD4E867D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9138-E15D-4170-AE14-7E895CEA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D1537-2FA5-47ED-9C3A-EA6A952FB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918856-90D0-4D53-B9A7-5AFB153848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26BCA-43F4-4F2B-8ED4-CC9A7B2C4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F299B-1CA1-48D4-8DAF-F5AFE55B2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B8FA2-76E1-4D82-A8F7-E521507EE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A8AC3-077B-4123-9434-84014D4FF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7325D-F40F-4FC2-8D5A-AEAB7B03E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AA746-53E4-4736-AF00-04D819651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BC17D-3661-4142-80C3-8F89A4B4B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DA07D-3B13-4C12-923D-7B83576C6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7BC5-53A9-4AA9-8F95-8D34ABE5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92BB8-8B20-40ED-9517-94C5C3729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048BF-94D9-4E08-844B-F99170FCC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F69A9-77A0-4E2B-AF6C-C236D1337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5A841E-FF8A-45E4-A4DA-12E274BAE5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ACFC7-0CF0-4D6D-9213-46F85FD06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4111D-1608-41D7-B49B-7F8896D1D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1D78A6-9D3D-4F24-984D-FE5245797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67E17-F48F-45D4-B493-8B7A6C68B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A6DC4-803D-4941-9A6C-4A274C826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F1FFB-4729-423E-BF47-B637CF154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FC9F-A581-48B6-9734-F2F5991FD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8874D-E7EE-4FCC-BAE7-215FE2226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18D7C-392E-44EB-BFA2-586EBDA1B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10F29-0313-41AC-AEAC-E2B5F29200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1529FF-DAE8-4D98-A9FF-B930B95698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BBBCF-A01B-40C0-B861-8BAEB1A50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9A0431-41B0-4774-A032-F28647044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FF059-0E2B-4DEC-BF2F-45618AFC0E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28430-070D-43EF-B6FD-5487817CD5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B4B65-9027-451D-AE8F-4441B8865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CA47B-2691-4641-9860-C03DAA11B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8B3B-C8F8-4D78-9876-E41990A8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6C227-42FC-4F56-AD36-E32E332B4A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524F7-0B3C-4432-BA54-2EB328C27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985A74-4458-4CED-B19F-8E9C17998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85E9A-97A0-4973-B76D-9415EE533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D5F2CA-EAA0-4354-857A-170B1E4EC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C6B0A1-3029-4B2E-866A-80A80BD8D1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BD84F2-947C-46F3-B3E7-0433A8E2A0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391559-A63D-41CD-BAA6-E566AC2629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71C886-14A3-490F-A240-9006CD4336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DC5169-6496-4469-A940-A44DB6D982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B509-880F-4E2A-AD54-2859771BF56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0" y="0"/>
            <a:ext cx="91440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8" descr=""/>
          <p:cNvPicPr/>
          <p:nvPr/>
        </p:nvPicPr>
        <p:blipFill>
          <a:blip r:embed="rId2"/>
          <a:stretch/>
        </p:blipFill>
        <p:spPr>
          <a:xfrm>
            <a:off x="0" y="0"/>
            <a:ext cx="9144000" cy="83808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7292-4BE2-42A3-BB25-31C2DD1A7E4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
          <p:cNvPicPr/>
          <p:nvPr/>
        </p:nvPicPr>
        <p:blipFill>
          <a:blip r:embed="rId2"/>
          <a:stretch/>
        </p:blipFill>
        <p:spPr>
          <a:xfrm>
            <a:off x="0" y="0"/>
            <a:ext cx="9144000" cy="83808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73AC-2B51-40D3-86A4-F7697761F56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83808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C619-2FA8-4893-B9B6-3A25B10DA7D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
          <p:cNvPicPr/>
          <p:nvPr/>
        </p:nvPicPr>
        <p:blipFill>
          <a:blip r:embed="rId2"/>
          <a:stretch/>
        </p:blipFill>
        <p:spPr>
          <a:xfrm>
            <a:off x="0" y="0"/>
            <a:ext cx="9144000" cy="83808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8A52-EB12-4F40-819F-4F15FFAE3D8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0" y="0"/>
            <a:ext cx="9144000" cy="83808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1BD9-4107-4A08-8B7C-2E43BFDF3A4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
          <p:cNvPicPr/>
          <p:nvPr/>
        </p:nvPicPr>
        <p:blipFill>
          <a:blip r:embed="rId2"/>
          <a:stretch/>
        </p:blipFill>
        <p:spPr>
          <a:xfrm>
            <a:off x="0" y="0"/>
            <a:ext cx="9144000" cy="8380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69AC-56B1-4FF1-8E06-05A15C29062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8" descr=""/>
          <p:cNvPicPr/>
          <p:nvPr/>
        </p:nvPicPr>
        <p:blipFill>
          <a:blip r:embed="rId2"/>
          <a:stretch/>
        </p:blipFill>
        <p:spPr>
          <a:xfrm>
            <a:off x="0" y="0"/>
            <a:ext cx="9144000" cy="83808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88C8-A801-4082-85F4-91439779867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8" descr=""/>
          <p:cNvPicPr/>
          <p:nvPr/>
        </p:nvPicPr>
        <p:blipFill>
          <a:blip r:embed="rId2"/>
          <a:stretch/>
        </p:blipFill>
        <p:spPr>
          <a:xfrm>
            <a:off x="0" y="0"/>
            <a:ext cx="9144000" cy="83808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76BB-9225-4B2A-A704-5C80E02EEA6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8" descr=""/>
          <p:cNvPicPr/>
          <p:nvPr/>
        </p:nvPicPr>
        <p:blipFill>
          <a:blip r:embed="rId2"/>
          <a:stretch/>
        </p:blipFill>
        <p:spPr>
          <a:xfrm>
            <a:off x="0" y="0"/>
            <a:ext cx="9144000" cy="83808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4790-AB95-410A-B2A3-1CB2F19DDB8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Marcador de pie de pá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Rodrigo Vallejo</a:t>
            </a:r>
            <a:endParaRPr b="0" lang="en-US" sz="1200" spc="-1" strike="noStrike">
              <a:solidFill>
                <a:srgbClr val="000000"/>
              </a:solidFill>
              <a:latin typeface="Arial"/>
            </a:endParaRPr>
          </a:p>
        </p:txBody>
      </p:sp>
      <p:sp>
        <p:nvSpPr>
          <p:cNvPr id="4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MX" sz="4000" spc="-1" strike="noStrike">
                <a:solidFill>
                  <a:srgbClr val="660000"/>
                </a:solidFill>
                <a:latin typeface="Garamond"/>
              </a:rPr>
              <a:t>Case-study</a:t>
            </a:r>
            <a:r>
              <a:rPr b="1" lang="es-MX" sz="4000" spc="-1" strike="noStrike">
                <a:solidFill>
                  <a:srgbClr val="660000"/>
                </a:solidFill>
                <a:latin typeface="Garamond"/>
              </a:rPr>
              <a:t> en materia de regulación de infraestructura pública: </a:t>
            </a:r>
            <a:br>
              <a:rPr sz="4000"/>
            </a:br>
            <a:br>
              <a:rPr sz="4000"/>
            </a:br>
            <a:r>
              <a:rPr b="1" lang="es-MX" sz="3200" spc="-1" strike="noStrike">
                <a:solidFill>
                  <a:srgbClr val="660000"/>
                </a:solidFill>
                <a:latin typeface="Garamond"/>
              </a:rPr>
              <a:t>El caso del proyecto de reforma a la Ley de Concesiones de Obras Públicas </a:t>
            </a:r>
            <a:endParaRPr b="1" lang="en-US" sz="3200" spc="-1" strike="noStrike">
              <a:solidFill>
                <a:srgbClr val="660000"/>
              </a:solidFill>
              <a:latin typeface="Garamond"/>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800" spc="-1" strike="noStrike">
              <a:solidFill>
                <a:srgbClr val="33339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7" name="PlaceHolder 2"/>
          <p:cNvSpPr>
            <a:spLocks noGrp="1"/>
          </p:cNvSpPr>
          <p:nvPr>
            <p:ph/>
          </p:nvPr>
        </p:nvSpPr>
        <p:spPr>
          <a:xfrm>
            <a:off x="642960" y="1571400"/>
            <a:ext cx="7772400" cy="4538520"/>
          </a:xfrm>
          <a:prstGeom prst="rect">
            <a:avLst/>
          </a:prstGeom>
          <a:noFill/>
          <a:ln w="0">
            <a:noFill/>
          </a:ln>
        </p:spPr>
        <p:txBody>
          <a:bodyPr anchor="t">
            <a:normAutofit fontScale="95000"/>
          </a:bodyPr>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0" lang="es-ES" sz="1600" spc="-1" strike="noStrike">
                <a:solidFill>
                  <a:srgbClr val="333399"/>
                </a:solidFill>
                <a:latin typeface="Garamond"/>
              </a:rPr>
              <a:t>.</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Se acepta modificación concesiones si la obra resulta insuficiente para la prestación del servicio en los niveles definidos en el contrato de concesión y se estima conveniente su ampliación o mejoramiento. Puede ser por iniciativa unilateral del Estado (ius variandi) o por acuerdo mutuo (convenios complementarios). También, para compensar sobrecostos por “causas sobrevinientes no previstas” (supuesta teoría de la imprevisión).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ambas partes (Ministerio y concesionarios) priorización de los convenios complementarios –renegociaciones de los contratos- y para el concesionario frente a cualquier déficit de recurrir a las comisiones arbitrales para obtener compensaciones, lo que desvirtúa la competencia “por la cancha” que está en el origen de las licitaciones de concesiones de obras públicas.</a:t>
            </a:r>
            <a:endParaRPr b="0" lang="en-US" sz="1600" spc="-1" strike="noStrike">
              <a:solidFill>
                <a:srgbClr val="333399"/>
              </a:solidFill>
              <a:latin typeface="Garamond"/>
            </a:endParaRPr>
          </a:p>
          <a:p>
            <a:pPr lvl="1"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Facilita esto la generalidad de los términos de la LCOP (“obra insuficiente”, “niveles definidos”, “ampliación o mejoramiento”) y la falta de criterios para determinar las compensaciones por obras adicionales o causas imprevistas. Además del diseño del mecanismo de solución de controversias.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Todo lo anterior con produce incentivos perversos y las consecuentes pérdidas de bienestar antes referidas.</a:t>
            </a:r>
            <a:endParaRPr b="0" lang="en-US" sz="1600" spc="-1" strike="noStrike">
              <a:solidFill>
                <a:srgbClr val="333399"/>
              </a:solidFill>
              <a:latin typeface="Garamond"/>
            </a:endParaRPr>
          </a:p>
          <a:p>
            <a:pPr marL="325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9" name="PlaceHolder 2"/>
          <p:cNvSpPr>
            <a:spLocks noGrp="1"/>
          </p:cNvSpPr>
          <p:nvPr>
            <p:ph/>
          </p:nvPr>
        </p:nvSpPr>
        <p:spPr>
          <a:xfrm>
            <a:off x="642960" y="1571400"/>
            <a:ext cx="7772400" cy="4538520"/>
          </a:xfrm>
          <a:prstGeom prst="rect">
            <a:avLst/>
          </a:prstGeom>
          <a:noFill/>
          <a:ln w="0">
            <a:noFill/>
          </a:ln>
        </p:spPr>
        <p:txBody>
          <a:bodyPr anchor="t">
            <a:normAutofit fontScale="86000"/>
          </a:bodyPr>
          <a:p>
            <a:pPr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ones del proyecto</a:t>
            </a:r>
            <a:r>
              <a:rPr b="0" lang="es-ES" sz="1600" spc="-1" strike="noStrike">
                <a:solidFill>
                  <a:srgbClr val="333399"/>
                </a:solidFill>
                <a:latin typeface="Garamond"/>
              </a:rPr>
              <a:t> (artículos 19, 20 y 20 bis).</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io general: inversión del concesionario para dar cumplimiento a niveles de servicio no es susceptible de compensación adicional, por constituir obligación asumida por el concesionario. Se alegó que se estaba derogando teoría de la imprevisión que era de la esencia de estos contratos de largo plazo, se repuso vía indicación Senadores Kuschel y Romero. Triunfó idea de que teoría de la imprevisión jamás tuvo consagración legal y que era necesario regular con precisión la distribución de riesgos del contrato, a fin de brindar mayor certeza a las partes y descincentivar el </a:t>
            </a:r>
            <a:r>
              <a:rPr b="0" i="1" lang="es-CL" sz="1600" spc="-1" strike="noStrike">
                <a:solidFill>
                  <a:srgbClr val="333399"/>
                </a:solidFill>
                <a:latin typeface="Garamond"/>
              </a:rPr>
              <a:t>lowballing</a:t>
            </a:r>
            <a:r>
              <a:rPr b="0" lang="es-CL" sz="1600" spc="-1" strike="noStrike">
                <a:solidFill>
                  <a:srgbClr val="333399"/>
                </a:solidFill>
                <a:latin typeface="Garamond"/>
              </a:rPr>
              <a:t>.  </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e especificaron hipótesis en las que concesionario tiene derecho a compensación económica (hecho del príncipe e incrementos de nivel de servicio). Limitaciones a suscripción de CC en fase construcción (25% presupuesto oficial, excepción 20 bis). Determinación monto (valor presente neto proyecto adicional igual cero) y resguardos para incrementos por sobre 5% proyecto original o 100.000 UF (licitación de ejecución, informe Dirección MOP sobre modificación niveles servicio, valorización inversiones, equivalencia prestaciones).</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Adecuado equilibrio entre necesidad de dar flexibilidad para ajustes concesiones en caso de requerirse y hecho que realmente refleje nuevos niveles de servicio.</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Definición de montos de indemnización ayuda a seguridad jurídica y reducción de conductas oportunistas. Facilita actuación Comisión Arbitral (CA). </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Informes internos facilitan fiscalización y exigen a Autoridad fundamentar decisiones. Antecedente valioso para CA si interviene.</a:t>
            </a:r>
            <a:endParaRPr b="0" lang="en-US" sz="1600" spc="-1" strike="noStrike">
              <a:solidFill>
                <a:srgbClr val="333399"/>
              </a:solidFill>
              <a:latin typeface="Garamond"/>
            </a:endParaRPr>
          </a:p>
          <a:p>
            <a:pPr marL="2948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1" name="PlaceHolder 2"/>
          <p:cNvSpPr>
            <a:spLocks noGrp="1"/>
          </p:cNvSpPr>
          <p:nvPr>
            <p:ph/>
          </p:nvPr>
        </p:nvSpPr>
        <p:spPr>
          <a:xfrm>
            <a:off x="642960" y="1571400"/>
            <a:ext cx="7772400" cy="4538520"/>
          </a:xfrm>
          <a:prstGeom prst="rect">
            <a:avLst/>
          </a:prstGeom>
          <a:noFill/>
          <a:ln w="0">
            <a:noFill/>
          </a:ln>
        </p:spPr>
        <p:txBody>
          <a:bodyPr anchor="t">
            <a:normAutofit fontScale="88000"/>
          </a:bodyPr>
          <a:p>
            <a:pPr marL="301680" indent="-3016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1" lang="es-ES" sz="1600" spc="-1" strike="noStrike">
                <a:solidFill>
                  <a:srgbClr val="333399"/>
                </a:solidFill>
                <a:latin typeface="Garamond"/>
              </a:rPr>
              <a:t> </a:t>
            </a:r>
            <a:r>
              <a:rPr b="0" lang="es-ES" sz="1600" spc="-1" strike="noStrike">
                <a:solidFill>
                  <a:srgbClr val="333399"/>
                </a:solidFill>
                <a:latin typeface="Garamond"/>
              </a:rPr>
              <a:t>(Comisiones conciliadoras y arbitrales).</a:t>
            </a:r>
            <a:endParaRPr b="0" lang="en-US" sz="16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Nombramiento</a:t>
            </a:r>
            <a:r>
              <a:rPr b="0" lang="es-ES" sz="1400" spc="-1" strike="noStrike">
                <a:solidFill>
                  <a:srgbClr val="333399"/>
                </a:solidFill>
                <a:latin typeface="Garamond"/>
              </a:rPr>
              <a:t>. En la práctica sólo se nombra de manera imparcial al integrante designado de común acuerdo (presidente). De ahí que le corresponda (junto al secretario) una labor determinante en la resolución de controversias. Incentivo para recurrir en la medida que tengo un representante. Importa que la Comisión no pueda actuar por unanimidad para generar sólidos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Remuneración</a:t>
            </a:r>
            <a:r>
              <a:rPr b="0" lang="es-MX" sz="1400" spc="-1" strike="noStrike">
                <a:solidFill>
                  <a:srgbClr val="333399"/>
                </a:solidFill>
                <a:latin typeface="Garamond"/>
              </a:rPr>
              <a:t>. </a:t>
            </a:r>
            <a:r>
              <a:rPr b="0" lang="es-ES" sz="1400" spc="-1" strike="noStrike">
                <a:solidFill>
                  <a:srgbClr val="333399"/>
                </a:solidFill>
                <a:latin typeface="Garamond"/>
              </a:rPr>
              <a:t>Normalmente es concesionaria quien paga las remuneraciones al promover la intervención de la Comisión. Además, al ser honorarios por horas incentiva alargue procedimiento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Etapa arbitral. Árbitros arbitradores</a:t>
            </a:r>
            <a:r>
              <a:rPr b="0" lang="es-MX" sz="1400" spc="-1" strike="noStrike">
                <a:solidFill>
                  <a:srgbClr val="333399"/>
                </a:solidFill>
                <a:latin typeface="Garamond"/>
              </a:rPr>
              <a:t>. Facultades </a:t>
            </a:r>
            <a:r>
              <a:rPr b="0" lang="es-ES" sz="1400" spc="-1" strike="noStrike">
                <a:solidFill>
                  <a:srgbClr val="333399"/>
                </a:solidFill>
                <a:latin typeface="Garamond"/>
              </a:rPr>
              <a:t>para conocer y resolver no sólo apartándose de la ley, sino que incluso del tenor literal de los contratos y bases de licitación. Se ha modificado tenor de bases en violación al fundamento competitivo que subyace a su establecimiento y al principio igualdad licitantes. Incentivos a otorgar siempre parte de lo pedido a demandante y por tanto a la judicialización de las diferencias más allá de los casos en que se tiene certeza de tener la razón. Hace más difícil control judicial por Cortes superior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Falta transparencia fallos</a:t>
            </a:r>
            <a:r>
              <a:rPr b="0" lang="es-MX" sz="1400" spc="-1" strike="noStrike">
                <a:solidFill>
                  <a:srgbClr val="333399"/>
                </a:solidFill>
                <a:latin typeface="Garamond"/>
              </a:rPr>
              <a:t>. Dificulta fiscalización y generación de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Suspensión de efectos</a:t>
            </a:r>
            <a:r>
              <a:rPr b="0" lang="es-ES" sz="1400" spc="-1" strike="noStrike">
                <a:solidFill>
                  <a:srgbClr val="333399"/>
                </a:solidFill>
                <a:latin typeface="Garamond"/>
              </a:rPr>
              <a:t>. La suspensión de los efectos de las resoluciones se puede producir por períodos demasiado extensos, impidiendo el normal desarrollo del contrato de concesión. Abuso de la institución en el pasado.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Prescripción</a:t>
            </a:r>
            <a:r>
              <a:rPr b="0" lang="es-ES" sz="1400" spc="-1" strike="noStrike">
                <a:solidFill>
                  <a:srgbClr val="333399"/>
                </a:solidFill>
                <a:latin typeface="Garamond"/>
              </a:rPr>
              <a:t>. </a:t>
            </a:r>
            <a:r>
              <a:rPr b="0" lang="es-MX" sz="1400" spc="-1" strike="noStrike">
                <a:solidFill>
                  <a:srgbClr val="333399"/>
                </a:solidFill>
                <a:latin typeface="Garamond"/>
              </a:rPr>
              <a:t>No existen</a:t>
            </a:r>
            <a:r>
              <a:rPr b="0" lang="es-ES" sz="1400" spc="-1" strike="noStrike">
                <a:solidFill>
                  <a:srgbClr val="333399"/>
                </a:solidFill>
                <a:latin typeface="Garamond"/>
              </a:rPr>
              <a:t> normas especiales que establezcan plazos de prescripción para el ejercicio de las acciones. Dependiendo de naturaleza del reclamo, se aplica en cada caso normas que existen en derecho común respecto de la prescripción.</a:t>
            </a:r>
            <a:endParaRPr b="0" lang="en-US" sz="1400" spc="-1" strike="noStrike">
              <a:solidFill>
                <a:srgbClr val="333399"/>
              </a:solidFill>
              <a:latin typeface="Garamond"/>
            </a:endParaRPr>
          </a:p>
          <a:p>
            <a:pPr marL="3016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3" name="PlaceHolder 2"/>
          <p:cNvSpPr>
            <a:spLocks noGrp="1"/>
          </p:cNvSpPr>
          <p:nvPr>
            <p:ph/>
          </p:nvPr>
        </p:nvSpPr>
        <p:spPr>
          <a:xfrm>
            <a:off x="642960" y="1571400"/>
            <a:ext cx="7772400" cy="4538520"/>
          </a:xfrm>
          <a:prstGeom prst="rect">
            <a:avLst/>
          </a:prstGeom>
          <a:noFill/>
          <a:ln w="0">
            <a:noFill/>
          </a:ln>
        </p:spPr>
        <p:txBody>
          <a:bodyPr anchor="t">
            <a:normAutofit fontScale="84000"/>
          </a:bodyPr>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333399"/>
                </a:solidFill>
                <a:uFillTx/>
                <a:latin typeface="Garamond"/>
              </a:rPr>
              <a:t>Modificaciones</a:t>
            </a:r>
            <a:r>
              <a:rPr b="0" lang="es-ES" sz="1500" spc="-1" strike="noStrike">
                <a:solidFill>
                  <a:srgbClr val="333399"/>
                </a:solidFill>
                <a:latin typeface="Garamond"/>
              </a:rPr>
              <a:t>(arts. 36, 36 bis y 36 ter).</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se crea </a:t>
            </a:r>
            <a:r>
              <a:rPr b="0" lang="es-ES" sz="1500" spc="-1" strike="noStrike" u="sng">
                <a:solidFill>
                  <a:srgbClr val="333399"/>
                </a:solidFill>
                <a:uFillTx/>
                <a:latin typeface="Garamond"/>
              </a:rPr>
              <a:t>Panel Técnico</a:t>
            </a:r>
            <a:r>
              <a:rPr b="0" lang="es-ES" sz="1500" spc="-1" strike="noStrike">
                <a:solidFill>
                  <a:srgbClr val="333399"/>
                </a:solidFill>
                <a:latin typeface="Garamond"/>
              </a:rPr>
              <a:t> que emite recomendaciones sobre controversias de carácter técnico o económico no vinculantes para las partes o el tribunal, pero es considerada.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bis: </a:t>
            </a:r>
            <a:r>
              <a:rPr b="0" lang="es-ES" sz="1500" spc="-1" strike="noStrike" u="sng">
                <a:solidFill>
                  <a:srgbClr val="333399"/>
                </a:solidFill>
                <a:uFillTx/>
                <a:latin typeface="Garamond"/>
              </a:rPr>
              <a:t>Naturaleza</a:t>
            </a:r>
            <a:r>
              <a:rPr b="1" lang="es-ES" sz="1500" spc="-1" strike="noStrike" u="sng">
                <a:solidFill>
                  <a:srgbClr val="333399"/>
                </a:solidFill>
                <a:uFillTx/>
                <a:latin typeface="Garamond"/>
              </a:rPr>
              <a:t>*</a:t>
            </a:r>
            <a:r>
              <a:rPr b="0" lang="es-ES" sz="1500" spc="-1" strike="noStrike">
                <a:solidFill>
                  <a:srgbClr val="333399"/>
                </a:solidFill>
                <a:latin typeface="Garamond"/>
              </a:rPr>
              <a:t>. Se deroga Comisión Conciliadora y mantiene opción directa por CA (con etapa de conciliación) / Corte de Apelaciones. Composición: 3 integrantes, al menos dos abogados y un economista, ingeniero o constructor, nombrados de común acuerdo a partir de lista de profesionales con requisitos objetivo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Remuneración</a:t>
            </a:r>
            <a:r>
              <a:rPr b="0" lang="es-MX" sz="1500" spc="-1" strike="noStrike">
                <a:solidFill>
                  <a:srgbClr val="333399"/>
                </a:solidFill>
                <a:latin typeface="Garamond"/>
              </a:rPr>
              <a:t>. Por mitades entre concesionario y MOP.</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Naturaleza del arbitraje</a:t>
            </a:r>
            <a:r>
              <a:rPr b="1" lang="es-ES" sz="1500" spc="-1" strike="noStrike" u="sng">
                <a:solidFill>
                  <a:srgbClr val="333399"/>
                </a:solidFill>
                <a:uFillTx/>
                <a:latin typeface="Garamond"/>
              </a:rPr>
              <a:t>*</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Arbitraje mixto, con fallo en derecho y apreciación de la prueba de acuerdo a la sana crítica, con obligación de fundar la sentencia con expresa mecnión de consideraciones técnicas y económica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Transparencia</a:t>
            </a:r>
            <a:r>
              <a:rPr b="0" lang="es-MX" sz="1500" spc="-1" strike="noStrike">
                <a:solidFill>
                  <a:srgbClr val="333399"/>
                </a:solidFill>
                <a:latin typeface="Garamond"/>
              </a:rPr>
              <a:t>. De todo procedimiento, después del fallo.</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Prescripción</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Dos años en general, 1 año contra resoluciones del MOP y 120 días contra multas.</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333399"/>
                </a:solidFill>
                <a:latin typeface="Garamond"/>
              </a:rPr>
              <a:t>Artículo 36 ter: </a:t>
            </a:r>
            <a:r>
              <a:rPr b="0" lang="es-MX" sz="1500" spc="-1" strike="noStrike" u="sng">
                <a:solidFill>
                  <a:srgbClr val="333399"/>
                </a:solidFill>
                <a:uFillTx/>
                <a:latin typeface="Garamond"/>
              </a:rPr>
              <a:t>Medidas de suspensión</a:t>
            </a:r>
            <a:r>
              <a:rPr b="1" lang="es-ES" sz="1500" spc="-1" strike="noStrike" u="sng">
                <a:solidFill>
                  <a:srgbClr val="333399"/>
                </a:solidFill>
                <a:uFillTx/>
                <a:latin typeface="Garamond"/>
              </a:rPr>
              <a:t>*</a:t>
            </a:r>
            <a:r>
              <a:rPr b="0" lang="es-MX" sz="1500" spc="-1" strike="noStrike">
                <a:solidFill>
                  <a:srgbClr val="333399"/>
                </a:solidFill>
                <a:latin typeface="Garamond"/>
              </a:rPr>
              <a:t>. Se limita</a:t>
            </a:r>
            <a:r>
              <a:rPr b="0" lang="es-CL" sz="1500" spc="-1" strike="noStrike">
                <a:solidFill>
                  <a:srgbClr val="333399"/>
                </a:solidFill>
                <a:latin typeface="Garamond"/>
              </a:rPr>
              <a:t> la posibilidad de la Comisión para decretar medidas que en definitiva deriven en la suspensión temporal de las obras.</a:t>
            </a:r>
            <a:endParaRPr b="0" lang="en-US" sz="15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Se restringen casos en que procede la suspensión de efectos de resoluciones del MOP: requisitos graves y calificados, fummus boni iuris y previa audiencia del MOP.</a:t>
            </a:r>
            <a:endParaRPr b="0" lang="en-US" sz="14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La Comisión no puede adoptar medidas que importen suspensión de las obras o paralización del servicio, por un plazo superior a 60 días, a menos que existiese acuerdo entre las partes en mantener dicha paralización.</a:t>
            </a:r>
            <a:endParaRPr b="0" lang="en-US" sz="1400" spc="-1" strike="noStrike">
              <a:solidFill>
                <a:srgbClr val="333399"/>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La reacción de los “afectados”</a:t>
            </a:r>
            <a:endParaRPr b="1" lang="en-US" sz="3300" spc="-1" strike="noStrike">
              <a:solidFill>
                <a:srgbClr val="660000"/>
              </a:solidFill>
              <a:latin typeface="Garamond"/>
            </a:endParaRPr>
          </a:p>
        </p:txBody>
      </p:sp>
      <p:sp>
        <p:nvSpPr>
          <p:cNvPr id="45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4 octubre del 2007: “Copsa: concesiones son insuficient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presidente de Copsa, Herman Chadwick, destacó que antes de que arribara Bitrán al MOP los proyectos de concesiones maduraban más rápido y ‘se licitaban igual, sin problemas’. Chadwick recordó que sólo se han concesionado seis de las diez cárceles anunciadas por el Presidente Lago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4 noviembre del 2007: “Luis Nario presidente de la CCHC y cambios a la ley de concesiones: no siento que haya posibilidad de un acuerdo pront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No siento que haya posibilidad de un acuerdo pronto, no con el ministro… Definitivamente no podemos concordar que se abandone el sistema de árbitro arbitrador, toda vez que en las concesiones exitosas en el resto del mundo, ése es el sistema que impera [¿exitosas para quién?]. El otro es la teoría de la imprevisión, porque sostenemos que en proyectos complejos como las concesiones, es muy difícil que uno pueda ponerse en todos los casos de lo que pueda ocurri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2 octubre del 2007 “Senadores y Diputados advierten paralización de concesiones MOP”.</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Carlos Kuschel habló de una ‘tremenda paralización. Es muy grave, no hay proyectos nuevos, y los que hay están atrasados’ El senador Sergio Romero añadió que es ‘preocupante. Las concesiones están virtualmente en el aire’ y pidió ‘mucho pragmatismo’ para que los cambios legales ‘no maten’ el sistema”.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La Tercera, 7 octubre del 2007: “Bitrán, Múltiples actores se oponen a los cambios en el MOP y buscan desacreditarme”</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Hay varias personas a las que no les gusta el cambio en la ley de concesiones. Eso es evidente. La ley establece un sistema para resolver conflictos que genera mayor predictibilidad no sólo para el Fisco, sino también para las concesionarias. Hay múltiples actores que están en contra de ese cambio y que buscarán cualquier argumento para desacreditarme. Esto tiene que ver también con el tema del Canal del Chacao. Estoy convencido de que el puente no era ni social ni económicamente rentable, y que no se justificaba hacerlo. </a:t>
            </a:r>
            <a:r>
              <a:rPr b="1" lang="es-ES" sz="1200" spc="-1" strike="noStrike">
                <a:solidFill>
                  <a:srgbClr val="333399"/>
                </a:solidFill>
                <a:latin typeface="Garamond"/>
              </a:rPr>
              <a:t>Tengo que anteponer el interés general por sobre el interés de la industria</a:t>
            </a:r>
            <a:r>
              <a:rPr b="0" lang="es-ES" sz="1200" spc="-1" strike="noStrike">
                <a:solidFill>
                  <a:srgbClr val="333399"/>
                </a:solidFill>
                <a:latin typeface="Garamond"/>
              </a:rPr>
              <a:t>, que es legítimo”.</a:t>
            </a:r>
            <a:endParaRPr b="0" lang="en-US" sz="1200" spc="-1" strike="noStrike">
              <a:solidFill>
                <a:srgbClr val="333399"/>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Y el debate comienza a subir de tono…</a:t>
            </a:r>
            <a:endParaRPr b="1" lang="en-US" sz="3300" spc="-1" strike="noStrike">
              <a:solidFill>
                <a:srgbClr val="660000"/>
              </a:solidFill>
              <a:latin typeface="Garamond"/>
            </a:endParaRPr>
          </a:p>
        </p:txBody>
      </p:sp>
      <p:sp>
        <p:nvSpPr>
          <p:cNvPr id="457"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9 octubre del 2007: “Bitrán denuncia intento de bloquear cambio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Qué objetivos persiguen los que critican al MOP por su supuesta falta de ejecución de proyectos si los hechos son distintos?, ¿Qué hay detrás de esto? Es necesario desenmascarar estas imputaciones. Aquí hay un objetivo encubierto, se trata de evitar que el MOP perfeccione la Ley de Concesiones. Bitrán planteó que ‘se ha llegado tan lejos como para plantear que hay que garantizar la rentabilidad, permitiendo que las empresas sean compensadas por riesgos comerciales del negocio. ¿Qué se desea? ¿Privatizar las utilidades y estatizar las pérdidas? (…) no estamos de acuerdo con un capitalismo rentista a costa del Estado y de los recursos de todos los chileno. No aceptemos que se legisle para perpetuar abusos como los del caso cárcele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17 noviembre del 2007: “Bitrán critica lobby en el Congreso por cambios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este lobby es muy fuerte para impedir que la normativa sea perfeccionada, también ha tenido efectos en las propuestas de los parlamentarios. ´Creo que también se refleja en algunas de las indicaciones, probablemente’ acotó, descartando precisar sectores políticos”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18 octubre del 2007 “Senadores refutan a ministro Eduardo Bitrán y descartan presiones de privado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senador Sergio Romero sostuvo que los parlamentarios no son objeto de lobby y que no aceptan descalificaciones. ‘A veces, las palabras de algunos dirigentes públicos aparece una suerte de confrontación y eso es un erro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1 diciembre del 2007: “MOP: Bitrán defiende reforma al Ministeri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planes del MOP, que hoy lo enfrentan con un grupo minoritario de funcionarios del Ministerio que ayer bloquearon el ingreso al edificio de la cartera en Morandé 59, lo que generó fuertes roces entre el secretario de Estado y los manifestantes. Bitrán indicó que ‘supongo que un MOP vertical, centralizado, más político, le conviene a una cúpula gremial, pero no tiene nada que ver con los intereses del país”.</a:t>
            </a:r>
            <a:endParaRPr b="0" lang="en-US" sz="1200" spc="-1" strike="noStrike">
              <a:solidFill>
                <a:srgbClr val="33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Resultados…</a:t>
            </a:r>
            <a:endParaRPr b="1" lang="en-US" sz="3300" spc="-1" strike="noStrike">
              <a:solidFill>
                <a:srgbClr val="660000"/>
              </a:solidFill>
              <a:latin typeface="Garamond"/>
            </a:endParaRPr>
          </a:p>
        </p:txBody>
      </p:sp>
      <p:sp>
        <p:nvSpPr>
          <p:cNvPr id="459" name="PlaceHolder 2"/>
          <p:cNvSpPr>
            <a:spLocks noGrp="1"/>
          </p:cNvSpPr>
          <p:nvPr>
            <p:ph/>
          </p:nvPr>
        </p:nvSpPr>
        <p:spPr>
          <a:xfrm>
            <a:off x="642960" y="1571400"/>
            <a:ext cx="7772400" cy="453852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n enero del 2008 Bitrán es reemplazado por Sergio Bitar en 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El Mercurio, 10 de enero del 2008: “Nuevo titular de Obras Públicas detalla su gestión. Bitar: ‘Hay necesidad de acelerar obras del MOP’. El nuevo ministro impulsará las concesiones y proyectos emblemáticos para el Bicentenari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l proyecto de ley pierde el apoyo político que tenía. Se le quita la suma urgencia cambiándola por urgencia simple y se reactiva el negocio de las concesiones y el análisis del proyecto del canal de Chaca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La Segunda, 5 de mayo del 2009: “Galetovic rebate críticas de concesionarios a falta de nuevos proyectos, ‘fue un gran error sacar al ministro Bitrán d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ólo la genuina convicción y tenaz acción del grupo de asesores de Bitrán, además del público apoyo de prestigiosos académicos, permitió convencer de la importancia del mismo y lograr que éste avanzara (más lento de lo presupuestado) y fuere finalmente aprobado la semana pasada en comisión mixta.</a:t>
            </a:r>
            <a:endParaRPr b="0" lang="en-US" sz="1600" spc="-1" strike="noStrike">
              <a:solidFill>
                <a:srgbClr val="333399"/>
              </a:solidFill>
              <a:latin typeface="Garamond"/>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clusiones: ¿un final feliz?</a:t>
            </a:r>
            <a:endParaRPr b="1" lang="en-US" sz="3300" spc="-1" strike="noStrike">
              <a:solidFill>
                <a:srgbClr val="660000"/>
              </a:solidFill>
              <a:latin typeface="Garamond"/>
            </a:endParaRPr>
          </a:p>
        </p:txBody>
      </p:sp>
      <p:sp>
        <p:nvSpPr>
          <p:cNvPr id="461"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Pareciera que sí. El proyecto introduce ajustes institucionales y mayor certidumbre en la distribución de riesgos, limitando posibilidades y condiciones de renegociación además de </a:t>
            </a:r>
            <a:r>
              <a:rPr b="0" i="1" lang="es-ES" sz="2400" spc="-1" strike="noStrike">
                <a:solidFill>
                  <a:srgbClr val="333399"/>
                </a:solidFill>
                <a:latin typeface="Garamond"/>
              </a:rPr>
              <a:t>elefantes blancos</a:t>
            </a:r>
            <a:r>
              <a:rPr b="0" lang="es-ES" sz="2400" spc="-1" strike="noStrike">
                <a:solidFill>
                  <a:srgbClr val="333399"/>
                </a:solidFill>
                <a:latin typeface="Garamond"/>
              </a:rPr>
              <a:t>. Todo lo cual, viene a corregir importantes fallas que presentaba nuestra regulación de concesiones de infraestructura con las consecuentes pérdidas de bienestar social de cara a las concesiones de segunda generación. Ahora hay que ver cómo resulta (“hecha la ley, hecha la trampa”)….</a:t>
            </a:r>
            <a:endParaRPr b="0" lang="en-US" sz="2400" spc="-1" strike="noStrike">
              <a:solidFill>
                <a:srgbClr val="333399"/>
              </a:solidFill>
              <a:latin typeface="Garamond"/>
            </a:endParaRPr>
          </a:p>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Ello se complementa con un proyecto de Superintendencia de Concesiones de OOPP actualmente en tramitación y una reforma orgánica del MOP que estaría pronta presentarse.</a:t>
            </a:r>
            <a:endParaRPr b="0" lang="en-US" sz="2400" spc="-1" strike="noStrike">
              <a:solidFill>
                <a:srgbClr val="333399"/>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660000"/>
                </a:solidFill>
                <a:latin typeface="Garamond"/>
              </a:rPr>
              <a:t>Índice de materias a tratar</a:t>
            </a:r>
            <a:endParaRPr b="1" lang="en-US" sz="3600" spc="-1" strike="noStrike">
              <a:solidFill>
                <a:srgbClr val="660000"/>
              </a:solidFill>
              <a:latin typeface="Garamond"/>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xto del proyecto de reforma.</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nido (algunos ejes del proyecto):</a:t>
            </a:r>
            <a:endParaRPr b="0" lang="en-US" sz="24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Niveles de servicio</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Consejo de concesiones </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Regulación de hipótesis de modificaciones al contrato y régimen de compensaciones</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Mecanismos de solución de controversias</a:t>
            </a:r>
            <a:endParaRPr b="0" lang="en-US" sz="18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La reacción de los “afectados” (CCHC, COPSA, funcionarios MOP) y sus consecuencias.</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Análisis del proyecto recientemente aprobado por el Congreso. ¿Final feliz? ¿para quién?  </a:t>
            </a:r>
            <a:endParaRPr b="0" lang="en-US" sz="2400" spc="-1" strike="noStrike">
              <a:solidFill>
                <a:srgbClr val="333399"/>
              </a:solidFill>
              <a:latin typeface="Garamond"/>
            </a:endParaRPr>
          </a:p>
          <a:p>
            <a:pPr lvl="1" marL="9676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de la LCOP</a:t>
            </a:r>
            <a:endParaRPr b="1" lang="en-US" sz="3600" spc="-1" strike="noStrike">
              <a:solidFill>
                <a:srgbClr val="660000"/>
              </a:solidFill>
              <a:latin typeface="Garamond"/>
            </a:endParaRPr>
          </a:p>
        </p:txBody>
      </p:sp>
      <p:sp>
        <p:nvSpPr>
          <p:cNvPr id="433" name="PlaceHolder 2"/>
          <p:cNvSpPr>
            <a:spLocks noGrp="1"/>
          </p:cNvSpPr>
          <p:nvPr>
            <p:ph/>
          </p:nvPr>
        </p:nvSpPr>
        <p:spPr>
          <a:xfrm>
            <a:off x="642960" y="1500120"/>
            <a:ext cx="7772400" cy="4538880"/>
          </a:xfrm>
          <a:prstGeom prst="rect">
            <a:avLst/>
          </a:prstGeom>
          <a:noFill/>
          <a:ln w="0">
            <a:noFill/>
          </a:ln>
        </p:spPr>
        <p:txBody>
          <a:bodyPr anchor="t">
            <a:normAutofit fontScale="88000"/>
          </a:bodyPr>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Tradicionalmente las obras de infraestructura pública eran realizadas por el Estado, ya sea directamente (unidades de construcción en diversos Ministerios) o contratando su realización a privados vía licitación (contrato de obra pública) y por tanto eran financiadas por los contribuyentes y no por sus usuarios (beneficiados).</a:t>
            </a:r>
            <a:endParaRPr b="0" lang="en-US" sz="1800" spc="-1" strike="noStrike">
              <a:solidFill>
                <a:srgbClr val="333399"/>
              </a:solidFill>
              <a:latin typeface="Garamond"/>
            </a:endParaRPr>
          </a:p>
          <a:p>
            <a:pPr marL="301680" indent="-301680" algn="just">
              <a:lnSpc>
                <a:spcPct val="8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t>
            </a:r>
            <a:r>
              <a:rPr b="0" lang="es-CL" sz="1200" spc="-1" strike="noStrike">
                <a:solidFill>
                  <a:srgbClr val="333399"/>
                </a:solidFill>
                <a:latin typeface="Garamond"/>
              </a:rPr>
              <a:t>(Acevedo y Errázuriz, 1994).</a:t>
            </a:r>
            <a:endParaRPr b="0" lang="en-US" sz="12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rincipios de los 90 se hizo evidente el déficit y por tanto la necesidad de aumentar las inversiones en infraestructura pública. Según estimaciones del MOP dichas necesidades ascendían a U$ 11.000.000.000 en circunstancias que su presupuesto anual era de U$ 800.000.000. Como el gobierno carecía de recursos financieros, de organización y humanos para satisfacer dichas necesidades, desarrolló un mecanismo (</a:t>
            </a:r>
            <a:r>
              <a:rPr b="0" i="1" lang="es-CL" sz="1800" spc="-1" strike="noStrike">
                <a:solidFill>
                  <a:srgbClr val="333399"/>
                </a:solidFill>
                <a:latin typeface="Garamond"/>
              </a:rPr>
              <a:t>policy</a:t>
            </a:r>
            <a:r>
              <a:rPr b="0" lang="es-CL" sz="1800" spc="-1" strike="noStrike">
                <a:solidFill>
                  <a:srgbClr val="333399"/>
                </a:solidFill>
                <a:latin typeface="Garamond"/>
              </a:rPr>
              <a:t>) diverso: </a:t>
            </a:r>
            <a:r>
              <a:rPr b="1" lang="es-CL" sz="1800" spc="-1" strike="noStrike">
                <a:solidFill>
                  <a:srgbClr val="333399"/>
                </a:solidFill>
                <a:latin typeface="Garamond"/>
              </a:rPr>
              <a:t>Las Concesiones de Obras Públicas</a:t>
            </a:r>
            <a:r>
              <a:rPr b="0" lang="es-CL" sz="1800" spc="-1" strike="noStrike">
                <a:solidFill>
                  <a:srgbClr val="333399"/>
                </a:solidFill>
                <a:latin typeface="Garamond"/>
              </a:rPr>
              <a:t>.</a:t>
            </a:r>
            <a:endParaRPr b="0" lang="en-US" sz="18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ictó DFL N°164/1991: Ley de Concesiones de Obras Públicas, permite al Estado otorgar en concesión cualquier obra pública. Se formalizan mediante contratos BOT previo proceso de licitación competitiva.</a:t>
            </a:r>
            <a:endParaRPr b="0" lang="en-US" sz="1800" spc="-1" strike="noStrike">
              <a:solidFill>
                <a:srgbClr val="333399"/>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660000"/>
                </a:solidFill>
                <a:latin typeface="Garamond"/>
              </a:rPr>
              <a:t>Beneficios desde la perspectiva del bienestar</a:t>
            </a:r>
            <a:endParaRPr b="1" lang="en-US" sz="3600" spc="-1" strike="noStrike">
              <a:solidFill>
                <a:srgbClr val="660000"/>
              </a:solidFill>
              <a:latin typeface="Garamond"/>
            </a:endParaRPr>
          </a:p>
        </p:txBody>
      </p:sp>
      <p:sp>
        <p:nvSpPr>
          <p:cNvPr id="435" name="PlaceHolder 2"/>
          <p:cNvSpPr>
            <a:spLocks noGrp="1"/>
          </p:cNvSpPr>
          <p:nvPr>
            <p:ph/>
          </p:nvPr>
        </p:nvSpPr>
        <p:spPr>
          <a:xfrm>
            <a:off x="685800" y="1999800"/>
            <a:ext cx="7772400" cy="40957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El milagro de las concesiones!, beneficios para todos los interesados: Gobierno cumple con su deber de proveer infraestructura con estándares de calidad para el desarrollo económico y social, sin necesidad de financiarla. Concesionario construye y opera la obra a su propio costo, recibiendo como contraprestación un precio o tarifa económicamente óptima fruto del proceso competitivo de adjudicación (Demsetz) que le permite obtener una rentabilidad normal (de mercado) por su inversión. Usuarios cuentan con la infraestructura adecuada para el desarrollo de sus planes de vida a un precio justo.</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Desde un punto de vista distributivo, parece aconsejable además que sean los que se benefician de un determinado proyecto de infraestructura pública los que paguen por él.</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Optimiza selección pública de proyectos de infraestructura: al introducir criterios de mercado (pues ingresos de concesionaria están asociados a la demanda) y no exclusivamente vía planificación centralizada. Previene posibles decisiones caprichosas o populistas con escaza rentabilidad social (“elefantes blancos”). Ej: Línea férrea Concepción-Bahía Blanca, ¿Puente del Canal de Chacao?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al aplicación (1993-2009): carreteras, aeropuertos y puertos.</a:t>
            </a:r>
            <a:endParaRPr b="0" lang="en-US" sz="1600" spc="-1" strike="noStrike">
              <a:solidFill>
                <a:srgbClr val="333399"/>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60000"/>
                </a:solidFill>
                <a:latin typeface="Garamond"/>
              </a:rPr>
              <a:t>Los desafíos (y deficiencias) regulatorias</a:t>
            </a:r>
            <a:endParaRPr b="1" lang="en-US" sz="3200" spc="-1" strike="noStrike">
              <a:solidFill>
                <a:srgbClr val="660000"/>
              </a:solidFill>
              <a:latin typeface="Garamond"/>
            </a:endParaRPr>
          </a:p>
        </p:txBody>
      </p:sp>
      <p:sp>
        <p:nvSpPr>
          <p:cNvPr id="437" name="PlaceHolder 2"/>
          <p:cNvSpPr>
            <a:spLocks noGrp="1"/>
          </p:cNvSpPr>
          <p:nvPr>
            <p:ph/>
          </p:nvPr>
        </p:nvSpPr>
        <p:spPr>
          <a:xfrm>
            <a:off x="685800" y="1412640"/>
            <a:ext cx="7772400" cy="5445000"/>
          </a:xfrm>
          <a:prstGeom prst="rect">
            <a:avLst/>
          </a:prstGeom>
          <a:noFill/>
          <a:ln w="0">
            <a:noFill/>
          </a:ln>
        </p:spPr>
        <p:txBody>
          <a:bodyPr anchor="t">
            <a:normAutofit fontScale="90000"/>
          </a:bodyPr>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i se desea obtener las ventajas potenciales del sistema, es preciso diseñar cuidadosamente los mecanismos de licitación, las BALI y Contratos de Concesión, además de desarrollar un adecuado marco regulatorio.</a:t>
            </a:r>
            <a:endParaRPr b="0" lang="en-US" sz="1600" spc="-1" strike="noStrike">
              <a:solidFill>
                <a:srgbClr val="333399"/>
              </a:solidFill>
              <a:latin typeface="Garamond"/>
            </a:endParaRPr>
          </a:p>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Algunos desafíos (y deficiencias) regulatorias advertidas desde temprano por la doctrina económica EFG (1996, 1997, 1998, 2000, etc.), G-L e H(1999):</a:t>
            </a:r>
            <a:endParaRPr b="0" lang="en-US" sz="16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Limitación de garantías explícitas a la rentabilidad del proyecto (ingresos garantizados)</a:t>
            </a:r>
            <a:r>
              <a:rPr b="0" lang="es-CL" sz="1200" spc="-1" strike="noStrike">
                <a:solidFill>
                  <a:srgbClr val="333399"/>
                </a:solidFill>
                <a:latin typeface="Garamond"/>
              </a:rPr>
              <a:t>. La construcción y operación de proyectos de infraestructura lleva implícitos enormes riesgos comerciales (de demanda, de construcción y operación) y de política económica (ajustes monetarios, construcción de infraestructura competitiva), lo que ha llevado a que las empresas a presionar a los gobiernos para que incluyan garantías en materia de ingresos en los contratos.  MOP (con vocación de constructor) ha generalmente cedido a dichas presiones.</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No son deseables pues: (i) incentiva comportamiento ineficiente de las concesionarias; (ii) implica asumir deudas que serán solventadas por futuras administraciones (ya no es gratis para el Fisco!, pagan los contribuyentes y no los usuarios); y (iii) promueve la construcción de </a:t>
            </a:r>
            <a:r>
              <a:rPr b="0" i="1" lang="es-CL" sz="1200" spc="-1" strike="noStrike">
                <a:solidFill>
                  <a:srgbClr val="333399"/>
                </a:solidFill>
                <a:latin typeface="Garamond"/>
              </a:rPr>
              <a:t>elefantes blancos </a:t>
            </a:r>
            <a:r>
              <a:rPr b="0" lang="es-CL" sz="1200" spc="-1" strike="noStrike">
                <a:solidFill>
                  <a:srgbClr val="333399"/>
                </a:solidFill>
                <a:latin typeface="Garamond"/>
              </a:rPr>
              <a:t>al reducir el riesgo de que el proyecto resulte deficitario para el concesionario. </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Para corregir riesgos de demanda deben ocuparse adecuados mecanismos de licitación (Ej, MVPI, sólo Ruta 68. Polémica licitación de Costanera Norte) y desarrollar adecuados diseños institucionales y mecanismos que limiten riesgos de captura. Para fomentar el desarrollo de infraestructura que generen externalidades positivas, es preferible utilizar subsidios que se asignan vía ley de presupuesto y no en forma unilateral (o bilateral) como sucede con el instrumento de garantías en los contratos.</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Restricción a garantías implícitas (renegociación)</a:t>
            </a:r>
            <a:r>
              <a:rPr b="0" lang="es-CL" sz="1200" spc="-1" strike="noStrike">
                <a:solidFill>
                  <a:srgbClr val="333399"/>
                </a:solidFill>
                <a:latin typeface="Garamond"/>
              </a:rPr>
              <a:t>: Los contratos implican relaciones de largo plazo que conforman un verdadero monopolio bilateral entre el concesionario y el regulador. Es importante restringir las renegociación o modificación judicial de sus términos frente a imprevistos que ocurran durante su vigencia (mayores obras, mayores costos, etc), pues: (i) riesgo cierto de implicar transferencia de rentas monopólicas a las empresas, pues las compensaciones se hacen a puertas cerradas (transparencia) y no están sometidas al rigor de la competencia; (ii) promueven diseño de proyectos poco rigurosos del MOP; (iii) incentiva conductas oportunistas de los oferentes (</a:t>
            </a:r>
            <a:r>
              <a:rPr b="0" i="1" lang="es-CL" sz="1200" spc="-1" strike="noStrike">
                <a:solidFill>
                  <a:srgbClr val="333399"/>
                </a:solidFill>
                <a:latin typeface="Garamond"/>
              </a:rPr>
              <a:t>lowballing</a:t>
            </a:r>
            <a:r>
              <a:rPr b="0" lang="es-CL" sz="1200" spc="-1" strike="noStrike">
                <a:solidFill>
                  <a:srgbClr val="333399"/>
                </a:solidFill>
                <a:latin typeface="Garamond"/>
              </a:rPr>
              <a:t>); (iii) y selección adversa de adjudicatarios (mejores </a:t>
            </a:r>
            <a:r>
              <a:rPr b="0" i="1" lang="es-CL" sz="1200" spc="-1" strike="noStrike">
                <a:solidFill>
                  <a:srgbClr val="333399"/>
                </a:solidFill>
                <a:latin typeface="Garamond"/>
              </a:rPr>
              <a:t>lobistas</a:t>
            </a:r>
            <a:r>
              <a:rPr b="0" lang="es-CL" sz="1200" spc="-1" strike="noStrike">
                <a:solidFill>
                  <a:srgbClr val="333399"/>
                </a:solidFill>
                <a:latin typeface="Garamond"/>
              </a:rPr>
              <a:t> y no empresas más eficientes); y en definitiva (iv) mayores costos para arcas fiscales o para los usuarios (Ej, Ruta 78, renegociación  por obras adiciconales determinó aumento de peajes en 18%). Datos EFGH (2009).</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Incentivos a la conservación</a:t>
            </a:r>
            <a:r>
              <a:rPr b="0" lang="es-CL" sz="1200" spc="-1" strike="noStrike">
                <a:solidFill>
                  <a:srgbClr val="333399"/>
                </a:solidFill>
                <a:latin typeface="Garamond"/>
              </a:rPr>
              <a:t>: Cuando el proyecto de infraestructura no tiene buenos sustitutos, éste tiene incentivos evidentes para dejar que se deterioren los activos y la calidad del servicio. También hacia el final del período de concesión. </a:t>
            </a:r>
            <a:endParaRPr b="0" lang="en-US" sz="1200" spc="-1" strike="noStrike">
              <a:solidFill>
                <a:srgbClr val="333399"/>
              </a:solidFill>
              <a:latin typeface="Garamond"/>
            </a:endParaRPr>
          </a:p>
          <a:p>
            <a:pPr lvl="1" marL="9072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marL="30852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5680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político del proyecto de reforma </a:t>
            </a:r>
            <a:endParaRPr b="1" lang="en-US" sz="3600" spc="-1" strike="noStrike">
              <a:solidFill>
                <a:srgbClr val="660000"/>
              </a:solidFill>
              <a:latin typeface="Garamond"/>
            </a:endParaRPr>
          </a:p>
        </p:txBody>
      </p:sp>
      <p:sp>
        <p:nvSpPr>
          <p:cNvPr id="439" name="PlaceHolder 2"/>
          <p:cNvSpPr>
            <a:spLocks noGrp="1"/>
          </p:cNvSpPr>
          <p:nvPr>
            <p:ph/>
          </p:nvPr>
        </p:nvSpPr>
        <p:spPr>
          <a:xfrm>
            <a:off x="826920" y="1856880"/>
            <a:ext cx="7772400" cy="4380120"/>
          </a:xfrm>
          <a:prstGeom prst="rect">
            <a:avLst/>
          </a:prstGeom>
          <a:noFill/>
          <a:ln w="0">
            <a:noFill/>
          </a:ln>
        </p:spPr>
        <p:txBody>
          <a:bodyPr anchor="t">
            <a:normAutofit fontScale="86000"/>
          </a:bodyPr>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esar del diagnóstico, se mantenían las prácticas sin que existieran incentivos para corregir el sistema.</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rzo del 2006: Asume gobierno de la presidenta Bachelet con discurso de “caras  nuevas en la política” (reemplazo de ministros de perfil político por técnico). </a:t>
            </a:r>
            <a:r>
              <a:rPr b="1" lang="es-CL" sz="1800" spc="-1" strike="noStrike">
                <a:solidFill>
                  <a:srgbClr val="333399"/>
                </a:solidFill>
                <a:latin typeface="Garamond"/>
              </a:rPr>
              <a:t>Asume Eduardo Bitrán en el MOP</a:t>
            </a:r>
            <a:r>
              <a:rPr b="0" lang="es-CL" sz="1800" spc="-1" strike="noStrike">
                <a:solidFill>
                  <a:srgbClr val="333399"/>
                </a:solidFill>
                <a:latin typeface="Garamond"/>
              </a:rPr>
              <a:t>.</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ño 2006: Adopta </a:t>
            </a:r>
            <a:r>
              <a:rPr b="1" lang="es-CL" sz="1800" spc="-1" strike="noStrike">
                <a:solidFill>
                  <a:srgbClr val="333399"/>
                </a:solidFill>
                <a:latin typeface="Garamond"/>
              </a:rPr>
              <a:t>decisión de no desarrollar proyecto de puente sobre el canal de chacao</a:t>
            </a:r>
            <a:r>
              <a:rPr b="0" lang="es-CL" sz="1800" spc="-1" strike="noStrike">
                <a:solidFill>
                  <a:srgbClr val="333399"/>
                </a:solidFill>
                <a:latin typeface="Garamond"/>
              </a:rPr>
              <a:t> (catalogado como “obra del bicentenario” por los gobiernos de la concertación y promesa explícita del Presidente Lagos). Argumento: </a:t>
            </a:r>
            <a:r>
              <a:rPr b="0" i="1" lang="es-CL" sz="1800" spc="-1" strike="noStrike">
                <a:solidFill>
                  <a:srgbClr val="333399"/>
                </a:solidFill>
                <a:latin typeface="Garamond"/>
              </a:rPr>
              <a:t>elefante blanco</a:t>
            </a:r>
            <a:r>
              <a:rPr b="0" lang="es-CL" sz="1800" spc="-1" strike="noStrike">
                <a:solidFill>
                  <a:srgbClr val="333399"/>
                </a:solidFill>
                <a:latin typeface="Garamond"/>
              </a:rPr>
              <a:t>, hay formas mejores de rentabilizar socialmente dichos recursos para la región. Asume importantes costos políticos por ell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yo 2007: </a:t>
            </a:r>
            <a:r>
              <a:rPr b="1" lang="es-CL" sz="1800" spc="-1" strike="noStrike">
                <a:solidFill>
                  <a:srgbClr val="333399"/>
                </a:solidFill>
                <a:latin typeface="Garamond"/>
              </a:rPr>
              <a:t>Explota caso cárceles</a:t>
            </a:r>
            <a:r>
              <a:rPr b="0" lang="es-CL" sz="1800" spc="-1" strike="noStrike">
                <a:solidFill>
                  <a:srgbClr val="333399"/>
                </a:solidFill>
                <a:latin typeface="Garamond"/>
              </a:rPr>
              <a:t>. Comisión arbitral condena al Fisco a pagar compensaciones económicas a grupo BAS 1 (Besalco, Sodexho y Torno) por UF 3.083.360, en circunstancias que las obras habían sido adjudicadas por UF 2.785.104 (U$100.000.000 por 3 cárceles). Terminamos pagando U$220.000.000 que supuestamente nos habrían permitido construir 6! Fondos eran equivalentes a los del subsidio al Transantiago y al valor del metro de un dpto. de luj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26 de junio del 2007: Se presenta proyecto de reforma a la Ley de Concesiones (Boletin 5172-09).</a:t>
            </a:r>
            <a:endParaRPr b="0" lang="en-US" sz="1800" spc="-1" strike="noStrike">
              <a:solidFill>
                <a:srgbClr val="333399"/>
              </a:solidFill>
              <a:latin typeface="Garamond"/>
            </a:endParaRPr>
          </a:p>
          <a:p>
            <a:pPr marL="294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a:p>
            <a:pPr marL="294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lvl="1" marL="6390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1"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Planteamiento</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Hasta la fecha las licitaciones se efectúan en base a especificaciones técnicas muy detalladas, lo que genera varios inconveniente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 </a:t>
            </a:r>
            <a:r>
              <a:rPr b="0" lang="es-ES" sz="1600" spc="-1" strike="noStrike">
                <a:solidFill>
                  <a:srgbClr val="333399"/>
                </a:solidFill>
                <a:latin typeface="Garamond"/>
              </a:rPr>
              <a:t> la sola ejecución de las especificaciones técnicas no dan cuenta suficiente de las necesidades ciudadanas, ni del efectivo cumplimiento de los fines públicos que fundamentan la inversión;</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 </a:t>
            </a:r>
            <a:r>
              <a:rPr b="0" lang="es-ES" sz="1600" spc="-1" strike="noStrike">
                <a:solidFill>
                  <a:srgbClr val="333399"/>
                </a:solidFill>
                <a:latin typeface="Garamond"/>
              </a:rPr>
              <a:t>se reduce la capacidad del concesionario de introducir innovaciones tecnológica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i)</a:t>
            </a:r>
            <a:r>
              <a:rPr b="0" lang="es-ES" sz="1600" spc="-1" strike="noStrike">
                <a:solidFill>
                  <a:srgbClr val="333399"/>
                </a:solidFill>
                <a:latin typeface="Garamond"/>
              </a:rPr>
              <a:t> se genera gran complejidad en la elaboración de las bases y por lo tanto las posibilidades de errores o imprecisión por parte del MOP. Ello aumenta riesgo de conflicto derivado de imprecisión así como posibilidad de invocación de imprevisión o cambio de circunstancias e incrementa además los convenios complementarios por obras adicionales no contempladas, con las consecuentes pérdidas de bienestar derivadas de las renegociaciones en ausencia de mecanismos competitivos.</a:t>
            </a:r>
            <a:endParaRPr b="0" lang="en-US" sz="1600" spc="-1" strike="noStrike">
              <a:solidFill>
                <a:srgbClr val="333399"/>
              </a:solidFill>
              <a:latin typeface="Garamond"/>
            </a:endParaRPr>
          </a:p>
          <a:p>
            <a:pPr marL="343080" indent="-34308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a:t>
            </a:r>
            <a:endParaRPr b="0" lang="en-US" sz="1600" spc="-1" strike="noStrike">
              <a:solidFill>
                <a:srgbClr val="333399"/>
              </a:solidFill>
              <a:latin typeface="Garamond"/>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Consagrar como principio rector en artículo 1, la obligación del concesionario de mantener a su entero riesgo y durante toda la duración de la concesión, los niveles de servicios y estándares técnicos determinados en las bases de licitación y en el respectivo contrato (Ej. Nro. de ampolletas v/s nivel de luminosidad). </a:t>
            </a:r>
            <a:endParaRPr b="0" lang="en-US" sz="1600" spc="-1" strike="noStrike">
              <a:solidFill>
                <a:srgbClr val="333399"/>
              </a:solidFill>
              <a:latin typeface="Garamond"/>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3" name="PlaceHolder 2"/>
          <p:cNvSpPr>
            <a:spLocks noGrp="1"/>
          </p:cNvSpPr>
          <p:nvPr>
            <p:ph/>
          </p:nvPr>
        </p:nvSpPr>
        <p:spPr>
          <a:xfrm>
            <a:off x="685800" y="1557000"/>
            <a:ext cx="7772400" cy="45385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Críticas</a:t>
            </a:r>
            <a:r>
              <a:rPr b="1" lang="es-MX" sz="1600" spc="-1" strike="noStrike">
                <a:solidFill>
                  <a:srgbClr val="333399"/>
                </a:solidFill>
                <a:latin typeface="Garamond"/>
              </a:rPr>
              <a:t>:</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Referencia a niveles de servicio sería demasiado amplia, permitiría a la autoridad establecer exigencias abusivas. Necesidad de asociarla a estándares técnicos.</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Traspasa excesivos riesgos al concesionario que desincentivarían desarrollo de OOPP por medio concesiones.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Beneficios</a:t>
            </a:r>
            <a:r>
              <a:rPr b="0" lang="es-MX" sz="1600" spc="-1" strike="noStrike">
                <a:solidFill>
                  <a:srgbClr val="333399"/>
                </a:solidFill>
                <a:latin typeface="Garamond"/>
              </a:rPr>
              <a:t> (artículo 1 inciso segundo):</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Busca corregir también fallas del Estado en elaboración de BALI, exige al MOP concentrarse en determinar niveles de servicio que sean consistentes con necesidades de los usuarios.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modelos de regulación por empresa eficiente y price cap → Promueve libertad empresarial e innovaciones teconológicas. Traslada determinación de especificaciones para cumplir con estándares a quien está en mejor posición de hacerlo. Con ello se disminuyen hipótesis de renegociación o judicialización por obras adicionales o costos no contemplados. Incentiva a que se transparente económicamente la evaluación de los privados del valor del mantenimiento de esos niveles de servicio durante toda la concesión (proyección del valor se materializará en valor de las ofertas). El mercado en definitiva es el que fijará ese valor.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programa de concesiones 2.0 (cárceles, hospitales, edificios públicos) donde el servicio (mantención y gestión) es un componente tan o más importantes que la inversión inicial en infraestructura.</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Proyectada superintendencia de OOPP fiscalizará su debido cumplimiento.</a:t>
            </a:r>
            <a:endParaRPr b="0" lang="en-US" sz="1600" spc="-1" strike="noStrike">
              <a:solidFill>
                <a:srgbClr val="333399"/>
              </a:solidFill>
              <a:latin typeface="Garamond"/>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sejo de Concesiones</a:t>
            </a:r>
            <a:endParaRPr b="1" lang="en-US" sz="3300" spc="-1" strike="noStrike">
              <a:solidFill>
                <a:srgbClr val="660000"/>
              </a:solidFill>
              <a:latin typeface="Garamond"/>
            </a:endParaRPr>
          </a:p>
        </p:txBody>
      </p:sp>
      <p:sp>
        <p:nvSpPr>
          <p:cNvPr id="44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Planteamient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Atendida la denominada “vocación de constructor” del MOP, no necesariamente es el organismo más indicado para decidir qué proyectos deben llevarse adelante para el desarrollo del país ni en qué condiciones (</a:t>
            </a:r>
            <a:r>
              <a:rPr b="0" i="1" lang="es-ES" sz="1600" spc="-1" strike="noStrike">
                <a:solidFill>
                  <a:srgbClr val="333399"/>
                </a:solidFill>
                <a:latin typeface="Garamond"/>
              </a:rPr>
              <a:t>Elefantes blancos </a:t>
            </a:r>
            <a:r>
              <a:rPr b="0" lang="es-ES" sz="1600" spc="-1" strike="noStrike">
                <a:solidFill>
                  <a:srgbClr val="333399"/>
                </a:solidFill>
                <a:latin typeface="Garamond"/>
              </a:rPr>
              <a:t>y recordar enfrentamientos MOP con Hacienda por garantías).</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29844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 </a:t>
            </a:r>
            <a:r>
              <a:rPr b="0" lang="es-ES" sz="1600" spc="-1" strike="noStrike">
                <a:solidFill>
                  <a:srgbClr val="333399"/>
                </a:solidFill>
                <a:latin typeface="Garamond"/>
              </a:rPr>
              <a:t>(artículo 1 bis)</a:t>
            </a:r>
            <a:r>
              <a:rPr b="1" lang="es-ES" sz="1600" spc="-1" strike="noStrike">
                <a:solidFill>
                  <a:srgbClr val="333399"/>
                </a:solidFill>
                <a:latin typeface="Garamond"/>
              </a:rPr>
              <a:t>:</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a:t>
            </a:r>
            <a:r>
              <a:rPr b="0" lang="es-ES" sz="1600" spc="-1" strike="noStrike">
                <a:solidFill>
                  <a:srgbClr val="333399"/>
                </a:solidFill>
                <a:latin typeface="Garamond"/>
              </a:rPr>
              <a:t> Creación del Consejo Consultivo de Concesiones encargado de orientar al MOP en el desarrollo de la política de concesiones, en particular en lo relativo al tipo de infraestructura que se desarrollará (a fin de que se realicen de manera consistente con las necesidades del país y las sectoriales) y las modalidades del régimen concesional.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a:t>
            </a:r>
            <a:r>
              <a:rPr b="0" lang="es-ES" sz="1600" spc="-1" strike="noStrike">
                <a:solidFill>
                  <a:srgbClr val="333399"/>
                </a:solidFill>
                <a:latin typeface="Garamond"/>
              </a:rPr>
              <a:t> Integración originalmente interministerial (MOP, Hacienda, Economía, Fomento y Reconstrucción y de Planificación) además, tres especialistas en evaluación social e ingeniería de proyectos. Terminó sólo MOP y 5 especialistas en evaluación de proyectos sin perjuicio de oír a otros Ministros y Jefes de Servici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i) </a:t>
            </a:r>
            <a:r>
              <a:rPr b="0" lang="es-ES" sz="1600" spc="-1" strike="noStrike">
                <a:solidFill>
                  <a:srgbClr val="333399"/>
                </a:solidFill>
                <a:latin typeface="Garamond"/>
              </a:rPr>
              <a:t>Carácter consultivo (informa al MOP y éste adopta las decisiones en última instancia).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v)</a:t>
            </a:r>
            <a:r>
              <a:rPr b="0" lang="es-ES" sz="1600" spc="-1" strike="noStrike">
                <a:solidFill>
                  <a:srgbClr val="333399"/>
                </a:solidFill>
                <a:latin typeface="Garamond"/>
              </a:rPr>
              <a:t> Asume tuición sobre noción de “interés público” en materia de concesiones, debiendo informar en una serie de asuntos definidos en LCOP: (i) definición de los proyectos de iniciativa pública; (ii) declarar de interés público los proyectos de iniciativa privada; (iii) disponer o autorizar la modificación de las características de las obras para incrementar los nieves de servicio; y (iv) declarado un incumplimiento grave, resolver si se llama a una nueva licitación por el periodo que reste o si continúa como obra pública fiscal.</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44:44Z</dcterms:created>
  <dc:creator>Luis  Cordero Vega</dc:creator>
  <dc:description/>
  <dc:language>en-US</dc:language>
  <cp:lastModifiedBy>rvallejo</cp:lastModifiedBy>
  <cp:lastPrinted>2007-06-01T16:53:10Z</cp:lastPrinted>
  <dcterms:modified xsi:type="dcterms:W3CDTF">2009-11-17T13:17:53Z</dcterms:modified>
  <cp:revision>96</cp:revision>
  <dc:subject/>
  <dc:title>CONTENIDOS TÍPICOS DE LA ACTIVIDAD ADMINISTRATIVA.</dc:title>
</cp:coreProperties>
</file>